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696-8B3D-45A5-BE11-B50F9E7C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9C8-EB9A-46AA-B414-EA46D6E3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795-B4E6-4E17-BE8B-C7CF9202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CB8-4774-4940-8775-F7C5182E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70A-23FA-4EA8-8483-79E6F138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EBB-71B1-4D98-8CA5-40787757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2D7-D890-409E-9D2B-BFD528AC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333-1B7C-4458-841A-620ADCD0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EF5-F160-4B1F-80BD-4C80BDFB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9A9-7A33-4125-80E2-BE19F93B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B38-F018-4F65-9675-D854B785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38B-D436-4403-BEE9-C136C6E3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B918-1B8E-4308-9A76-1373500354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A191-7D7D-4625-A957-41194F8FC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13" descr=""/>
          <p:cNvPicPr/>
          <p:nvPr/>
        </p:nvPicPr>
        <p:blipFill>
          <a:blip r:embed="rId1"/>
          <a:stretch/>
        </p:blipFill>
        <p:spPr>
          <a:xfrm>
            <a:off x="1517760" y="590400"/>
            <a:ext cx="5876640" cy="235440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14" descr=""/>
          <p:cNvPicPr/>
          <p:nvPr/>
        </p:nvPicPr>
        <p:blipFill>
          <a:blip r:embed="rId2"/>
          <a:stretch/>
        </p:blipFill>
        <p:spPr>
          <a:xfrm>
            <a:off x="682560" y="3108240"/>
            <a:ext cx="7497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do not even recognize Him out of His kindness and mercifulnes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جو اسے نہیں پہچانتا احسان و رحمت کے طور پ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Rectangle 4" descr=""/>
          <p:cNvPicPr/>
          <p:nvPr/>
        </p:nvPicPr>
        <p:blipFill>
          <a:blip r:embed="rId1"/>
          <a:stretch/>
        </p:blipFill>
        <p:spPr>
          <a:xfrm>
            <a:off x="549360" y="384120"/>
            <a:ext cx="829620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please do) give me, for I pray You, the whole welfare of this 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تو مجھے بھی میرے سوال پر دنیا کی تمام بھلائیا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tangle 5" descr=""/>
          <p:cNvPicPr/>
          <p:nvPr/>
        </p:nvPicPr>
        <p:blipFill>
          <a:blip r:embed="rId1"/>
          <a:stretch/>
        </p:blipFill>
        <p:spPr>
          <a:xfrm>
            <a:off x="-55440" y="536400"/>
            <a:ext cx="9332640" cy="12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the whole welfare of the Next World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اور  آخرت  کی تمام بھلائیاں عطا فرما د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4" descr=""/>
          <p:cNvPicPr/>
          <p:nvPr/>
        </p:nvPicPr>
        <p:blipFill>
          <a:blip r:embed="rId1"/>
          <a:stretch/>
        </p:blipFill>
        <p:spPr>
          <a:xfrm>
            <a:off x="1530360" y="463680"/>
            <a:ext cx="53942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d save me, for I pray You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3200" spc="-1" strike="noStrike">
                <a:solidFill>
                  <a:srgbClr val="000000"/>
                </a:solidFill>
                <a:latin typeface="Calibri"/>
                <a:cs typeface="Arial"/>
              </a:rPr>
              <a:t>ا</a:t>
            </a: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ور میری طلبگاری پر دنیا کی تمام تکلیفیں</a:t>
            </a:r>
            <a:r>
              <a:rPr b="0" lang="ur-PK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Rectangle 4" descr=""/>
          <p:cNvPicPr/>
          <p:nvPr/>
        </p:nvPicPr>
        <p:blipFill>
          <a:blip r:embed="rId1"/>
          <a:stretch/>
        </p:blipFill>
        <p:spPr>
          <a:xfrm>
            <a:off x="927000" y="249120"/>
            <a:ext cx="72961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whole evil of this world and the Next Worl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اور  آخرت کی تمام مشکلیں دور کر کے مجھے محفوظ فرما د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tangle 4" descr=""/>
          <p:cNvPicPr/>
          <p:nvPr/>
        </p:nvPicPr>
        <p:blipFill>
          <a:blip r:embed="rId1"/>
          <a:stretch/>
        </p:blipFill>
        <p:spPr>
          <a:xfrm>
            <a:off x="774720" y="480960"/>
            <a:ext cx="7272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Verily, all that which You give is unblemishe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کیونکہ تو جتنا عطا کرے تیرے ہاں کمی نہیں پڑت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ectangle 4" descr=""/>
          <p:cNvPicPr/>
          <p:nvPr/>
        </p:nvPicPr>
        <p:blipFill>
          <a:blip r:embed="rId1"/>
          <a:stretch/>
        </p:blipFill>
        <p:spPr>
          <a:xfrm>
            <a:off x="1017720" y="384120"/>
            <a:ext cx="74930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Please do) increase Your favors upon me, O the All-generou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اے کریم تو مجھ پر اپنے فضل میں اضافہ فرما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tangle 4" descr=""/>
          <p:cNvPicPr/>
          <p:nvPr/>
        </p:nvPicPr>
        <p:blipFill>
          <a:blip r:embed="rId1"/>
          <a:stretch/>
        </p:blipFill>
        <p:spPr>
          <a:xfrm>
            <a:off x="628560" y="615960"/>
            <a:ext cx="79059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the Lord of Majesty and Honor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Calibri"/>
                <a:cs typeface="Arial"/>
              </a:rPr>
              <a:t>اے صاحب جلالت و بزرگ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Rectangle 4" descr=""/>
          <p:cNvPicPr/>
          <p:nvPr/>
        </p:nvPicPr>
        <p:blipFill>
          <a:blip r:embed="rId1"/>
          <a:stretch/>
        </p:blipFill>
        <p:spPr>
          <a:xfrm>
            <a:off x="1908000" y="768240"/>
            <a:ext cx="571212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the Lord of bliss and magnanimity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اے نعمتوں اور بخشش کے مال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4" descr=""/>
          <p:cNvPicPr/>
          <p:nvPr/>
        </p:nvPicPr>
        <p:blipFill>
          <a:blip r:embed="rId1"/>
          <a:stretch/>
        </p:blipFill>
        <p:spPr>
          <a:xfrm>
            <a:off x="1603440" y="938160"/>
            <a:ext cx="5668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the Lord of favor and munificence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اے صاحب احسان و عطامیر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tangle 4" descr=""/>
          <p:cNvPicPr/>
          <p:nvPr/>
        </p:nvPicPr>
        <p:blipFill>
          <a:blip r:embed="rId1"/>
          <a:stretch/>
        </p:blipFill>
        <p:spPr>
          <a:xfrm>
            <a:off x="1828800" y="841320"/>
            <a:ext cx="49561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salawat2.jpg"/>
          <p:cNvPicPr/>
          <p:nvPr/>
        </p:nvPicPr>
        <p:blipFill>
          <a:blip r:embed="rId1"/>
          <a:stretch/>
        </p:blipFill>
        <p:spPr>
          <a:xfrm>
            <a:off x="1347840" y="1292400"/>
            <a:ext cx="6862680" cy="8862840"/>
          </a:xfrm>
          <a:prstGeom prst="rect">
            <a:avLst/>
          </a:prstGeom>
          <a:ln w="0">
            <a:noFill/>
          </a:ln>
        </p:spPr>
      </p:pic>
      <p:sp>
        <p:nvSpPr>
          <p:cNvPr id="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ease do) rescue my white-hair beard from Hellfi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سفید بالوں کو آگ پر حرام فرما دے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4" descr=""/>
          <p:cNvPicPr/>
          <p:nvPr/>
        </p:nvPicPr>
        <p:blipFill>
          <a:blip r:embed="rId1"/>
          <a:stretch/>
        </p:blipFill>
        <p:spPr>
          <a:xfrm>
            <a:off x="1689120" y="615960"/>
            <a:ext cx="600408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following du`a is recommended after the daily obligatory prayers in the month of Rajab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du`a, according to Shaykh `Abbas Qummi in MafateeHul Jinaan has been taught by Imam Ja`far as-Sadiq (a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yyid Ibn Tawus has narrated that Muhammad ibn Dhakwan—known as ‘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al-Sajja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’ due to his remarkable, long prostration during which he used to weep so heavily that he lost his sight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ked Imam Ja`far al-Sadiq (a.s), saying, “May Allah accept me as ransom for you! We are now in Rajab; I therefore please you to teach me a supplication due to which Almighty Allah may help me.” Hence, the Imam (a.s) asked him to write down the following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محمد بن ذکو ان،آپ اس لئے سجاد کے نام سے معروف ہیں کہ انہوں نے اتنے سجدے کیے اور خوف خدا میں اس قدر روئے کہ نابینا ہوگئے تھے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lvi Nastaleeq"/>
                <a:ea typeface="Alvi Nastaleeq"/>
              </a:rPr>
              <a:t> سید بن طاؤس نے محمد بن ذکوان سے روایت کی ہے کہ انہوں نے کہا: میں نے امام جعفر صادق (ع)کی خدمت میں عرض کیا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کہ میں آپ پر قربان ہو جاؤں یہ ماہ رجب ہے، مجھے کوئی دعا تعلیم کیجیئے کہ حق تعالیٰ اس کے ذریعے مجھے فائدہ عطا فرمائے ۔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آپ نے فرمایا کہ لکھوبسم اللہ الرحمن الرحیم اور رجب کے مہینے میں ہر روزصبح وشام کی نماز کے بعد یہ دعا پڑھا کرو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He Whom alone I hope for all good things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اے وہ جس سے ہر بھلائی کی امید رکھتا ہو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9" descr=""/>
          <p:cNvPicPr/>
          <p:nvPr/>
        </p:nvPicPr>
        <p:blipFill>
          <a:blip r:embed="rId1"/>
          <a:stretch/>
        </p:blipFill>
        <p:spPr>
          <a:xfrm>
            <a:off x="1536840" y="1139760"/>
            <a:ext cx="599760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Whose wrath I do not expect when I do wrong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اور ہر برائی کے وقت اس کے غضب سے امان چاہتا ہو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ectangle 5" descr=""/>
          <p:cNvPicPr/>
          <p:nvPr/>
        </p:nvPicPr>
        <p:blipFill>
          <a:blip r:embed="rId1"/>
          <a:stretch/>
        </p:blipFill>
        <p:spPr>
          <a:xfrm>
            <a:off x="1305000" y="920880"/>
            <a:ext cx="66992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He Who recompenses the little deed with very much reward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اے وہ جو تھوڑے عمل پر زیادہ اجر دیتا ہ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tangle 4" descr=""/>
          <p:cNvPicPr/>
          <p:nvPr/>
        </p:nvPicPr>
        <p:blipFill>
          <a:blip r:embed="rId1"/>
          <a:stretch/>
        </p:blipFill>
        <p:spPr>
          <a:xfrm>
            <a:off x="1000080" y="768240"/>
            <a:ext cx="692460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 He Who answers him who begs Him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اے وہ جو ہر سوال کرنے والے کو دیتا ہ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4" descr=""/>
          <p:cNvPicPr/>
          <p:nvPr/>
        </p:nvPicPr>
        <p:blipFill>
          <a:blip r:embed="rId1"/>
          <a:stretch/>
        </p:blipFill>
        <p:spPr>
          <a:xfrm>
            <a:off x="1841400" y="384120"/>
            <a:ext cx="591840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He Who gives those who do not ask H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اے وہ جو اسے بھی دیتا ہے جو سوال نہیں کرت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4" descr=""/>
          <p:cNvPicPr/>
          <p:nvPr/>
        </p:nvPicPr>
        <p:blipFill>
          <a:blip r:embed="rId1"/>
          <a:stretch/>
        </p:blipFill>
        <p:spPr>
          <a:xfrm>
            <a:off x="1457280" y="463680"/>
            <a:ext cx="672948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2:59:05Z</dcterms:created>
  <dc:creator>Ya Zahra</dc:creator>
  <dc:description/>
  <dc:language>en-US</dc:language>
  <cp:lastModifiedBy>Ya Zahra</cp:lastModifiedBy>
  <dcterms:modified xsi:type="dcterms:W3CDTF">2011-05-27T15:28:19Z</dcterms:modified>
  <cp:revision>33</cp:revision>
  <dc:subject/>
  <dc:title>Slide 1</dc:title>
</cp:coreProperties>
</file>