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8E45-6B86-46EA-A545-184783FEB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8B4D-45FF-4CA3-8C3A-D1FC2DCA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2B30-3402-44AF-84F4-A3D16DBEB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BEBA-635D-4A9D-AEF1-729861061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E8AF-2DD8-4F47-947B-391E31D9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A8AE-73F0-4CEF-BEEA-2DB97F47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1D6C-8982-4A68-A04F-72B6899A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2095-564F-441B-A96B-1DDB27B7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DCC8-3222-4581-AFFF-C16A46D4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41CB-CDE0-47C0-8134-8B91C5DE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E28D-C952-4F12-B036-B6E28879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CEAB-2FCB-4F22-98AB-5CD87966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26E4-31FB-46EE-B90A-21073C5DE1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: Sadiq Abbas , www.dua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9D1B-9F53-49EB-B757-1BFBA8C279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uas of Raja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ory be to the God—the All-majesti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ur-PK" sz="4400" spc="-1" strike="noStrike">
                <a:solidFill>
                  <a:srgbClr val="000000"/>
                </a:solidFill>
                <a:latin typeface="Alvi Nastaleeq"/>
                <a:cs typeface="Alvi Nastaleeq"/>
              </a:rPr>
              <a:t>پاک ہے جو معبود بڑی شان والا ہے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lvi Nastaleeq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Footer Placeholder 3"/>
          <p:cNvSpPr/>
          <p:nvPr/>
        </p:nvSpPr>
        <p:spPr>
          <a:xfrm>
            <a:off x="2362320" y="6248520"/>
            <a:ext cx="4800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4807"/>
                </a:solidFill>
                <a:latin typeface="Calibri"/>
              </a:rPr>
              <a:t>By: Sadiq Abbas , www.dua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Rectangle 4" descr=""/>
          <p:cNvPicPr/>
          <p:nvPr/>
        </p:nvPicPr>
        <p:blipFill>
          <a:blip r:embed="rId1"/>
          <a:stretch/>
        </p:blipFill>
        <p:spPr>
          <a:xfrm>
            <a:off x="2286000" y="938160"/>
            <a:ext cx="48531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lory be to Him other than Whom none should be glorifie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r-PK" sz="4800" spc="-1" strike="noStrike">
                <a:solidFill>
                  <a:srgbClr val="000000"/>
                </a:solidFill>
                <a:latin typeface="Alvi Nastaleeq"/>
                <a:cs typeface="Alvi Nastaleeq"/>
              </a:rPr>
              <a:t>پاک ہے وہ کہ جس کے سوا کوئی لائق تسبیح نہیں</a:t>
            </a:r>
            <a:br>
              <a:rPr sz="44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4807"/>
                </a:solidFill>
                <a:latin typeface="Calibri"/>
              </a:rPr>
              <a:t>By: Sadiq Abbas , www.dua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Rectangle 4" descr=""/>
          <p:cNvPicPr/>
          <p:nvPr/>
        </p:nvPicPr>
        <p:blipFill>
          <a:blip r:embed="rId1"/>
          <a:stretch/>
        </p:blipFill>
        <p:spPr>
          <a:xfrm>
            <a:off x="324000" y="328680"/>
            <a:ext cx="859464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Glory be to the All-honorable,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the All-dignified.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r-PK" sz="4800" spc="-1" strike="noStrike">
                <a:solidFill>
                  <a:srgbClr val="000000"/>
                </a:solidFill>
                <a:latin typeface="Alvi Nastaleeq"/>
                <a:cs typeface="Alvi Nastaleeq"/>
              </a:rPr>
              <a:t>پاک ہے وہ جو بڑا عزت والا اور بزرگی والا ہے 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Alvi Nastaleeq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4807"/>
                </a:solidFill>
                <a:latin typeface="Calibri"/>
              </a:rPr>
              <a:t>By: Sadiq Abbas , www.dua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Rectangle 4" descr=""/>
          <p:cNvPicPr/>
          <p:nvPr/>
        </p:nvPicPr>
        <p:blipFill>
          <a:blip r:embed="rId1"/>
          <a:stretch/>
        </p:blipFill>
        <p:spPr>
          <a:xfrm>
            <a:off x="1603440" y="401760"/>
            <a:ext cx="538308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ory be to Him Who has dressed Himself with grandeur that fits none but Hi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r-PK" sz="4000" spc="-1" strike="noStrike">
                <a:solidFill>
                  <a:srgbClr val="000000"/>
                </a:solidFill>
                <a:latin typeface="Alvi Nastaleeq"/>
                <a:cs typeface="Alvi Nastaleeq"/>
              </a:rPr>
              <a:t>پاک ہے وہ جولباس</a:t>
            </a:r>
            <a:r>
              <a:rPr b="0" lang="en-US" sz="4000" spc="-1" strike="noStrike">
                <a:solidFill>
                  <a:srgbClr val="000000"/>
                </a:solidFill>
                <a:latin typeface="Alvi Nastaleeq"/>
                <a:ea typeface="Alvi Nastaleeq"/>
              </a:rPr>
              <a:t> </a:t>
            </a:r>
            <a:r>
              <a:rPr b="0" lang="ur-PK" sz="4000" spc="-1" strike="noStrike">
                <a:solidFill>
                  <a:srgbClr val="000000"/>
                </a:solidFill>
                <a:latin typeface="Alvi Nastaleeq"/>
                <a:cs typeface="Alvi Nastaleeq"/>
              </a:rPr>
              <a:t>عزت میں ملبوس ہے اور وہی اس کا اہل ہے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4807"/>
                </a:solidFill>
                <a:latin typeface="Calibri"/>
              </a:rPr>
              <a:t>By: Sadiq Abbas , www.dua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4" descr=""/>
          <p:cNvPicPr/>
          <p:nvPr/>
        </p:nvPicPr>
        <p:blipFill>
          <a:blip r:embed="rId1"/>
          <a:stretch/>
        </p:blipFill>
        <p:spPr>
          <a:xfrm>
            <a:off x="628560" y="480960"/>
            <a:ext cx="843624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7T12:36:33Z</dcterms:created>
  <dc:creator>Ya Zahra</dc:creator>
  <dc:description/>
  <dc:language>en-US</dc:language>
  <cp:lastModifiedBy>Ya Zahra</cp:lastModifiedBy>
  <dcterms:modified xsi:type="dcterms:W3CDTF">2011-05-30T16:05:00Z</dcterms:modified>
  <cp:revision>7</cp:revision>
  <dc:subject/>
  <dc:title>Duas of Rajab</dc:title>
</cp:coreProperties>
</file>