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1FD-703A-4A6F-AF04-42A8B1AC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26A-1D70-48BC-B286-96CD4534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18DB-E00F-4680-ABAE-8E8BE6F3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3D2-4896-47C9-B388-3B0E8C2F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607-2411-4333-AB31-EFE9AAF1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1EE2-2308-4E1A-B801-FC657EA8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8C5-68FA-4EF8-A403-F5B868D5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838E-00E4-4A57-9742-85E1C5AE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B173-E228-4752-A62D-7A35513E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A1E-2F35-4872-802C-68332304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4DB0-9124-4877-B0C2-FE7070E3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E80-409F-4F44-BDBA-ADA61D22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C282-BD51-4FFB-A657-800F640A55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Sadiq Abbas(Fazil-e-qum) , www.dua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8093-0C57-42C6-8741-8F5E57E2D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8959680" y="0"/>
            <a:ext cx="184320" cy="36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Rectangle 7" descr=""/>
          <p:cNvPicPr/>
          <p:nvPr/>
        </p:nvPicPr>
        <p:blipFill>
          <a:blip r:embed="rId1"/>
          <a:stretch/>
        </p:blipFill>
        <p:spPr>
          <a:xfrm>
            <a:off x="755640" y="817560"/>
            <a:ext cx="7424640" cy="11034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9"/>
          <p:cNvSpPr/>
          <p:nvPr/>
        </p:nvSpPr>
        <p:spPr>
          <a:xfrm>
            <a:off x="1600200" y="26668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' One Who has command over the fulfillment of the desires of those who be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-164880" y="4495680"/>
            <a:ext cx="958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4400" spc="-1" strike="noStrike">
                <a:solidFill>
                  <a:srgbClr val="ff0000"/>
                </a:solidFill>
                <a:latin typeface="Alvi Nastaleeq"/>
                <a:cs typeface="Alvi Nastaleeq"/>
              </a:rPr>
              <a:t>اے وہ جوسائلین کی حاجتوں کامالک ہے</a:t>
            </a:r>
            <a:r>
              <a:rPr b="0" lang="ur-PK" sz="4400" spc="-1" strike="noStrike">
                <a:solidFill>
                  <a:srgbClr val="ff0000"/>
                </a:solidFill>
                <a:latin typeface="Alvi Nastaleeq"/>
                <a:ea typeface="Alvi Nastalee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Sadiq Abbas(Fazil-e-qum) , www.dua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Rectangle 1" descr=""/>
          <p:cNvPicPr/>
          <p:nvPr/>
        </p:nvPicPr>
        <p:blipFill>
          <a:blip r:embed="rId1"/>
          <a:stretch/>
        </p:blipFill>
        <p:spPr>
          <a:xfrm>
            <a:off x="2328840" y="841320"/>
            <a:ext cx="4930920" cy="920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1200600" y="4495680"/>
            <a:ext cx="66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3600" spc="-1" strike="noStrike">
                <a:solidFill>
                  <a:srgbClr val="ff0000"/>
                </a:solidFill>
                <a:latin typeface="Alvi Nastaleeq"/>
                <a:cs typeface="Alvi Nastaleeq"/>
              </a:rPr>
              <a:t>بے شک تو ہر چیز پر قدرت رکھتا ہ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Sadiq Abbas(Fazil-e-qum) , www.dua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828800" y="28954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ily You has potence over all thing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1" descr=""/>
          <p:cNvPicPr/>
          <p:nvPr/>
        </p:nvPicPr>
        <p:blipFill>
          <a:blip r:embed="rId1"/>
          <a:stretch/>
        </p:blipFill>
        <p:spPr>
          <a:xfrm>
            <a:off x="2200320" y="554040"/>
            <a:ext cx="4981680" cy="909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-81360" y="4114800"/>
            <a:ext cx="100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4000" spc="-1" strike="noStrike">
                <a:solidFill>
                  <a:srgbClr val="ff0000"/>
                </a:solidFill>
                <a:latin typeface="Alvi Nastaleeq"/>
                <a:cs typeface="Alvi Nastaleeq"/>
              </a:rPr>
              <a:t>اور خاموش لوگوں کے دلوں کی باتیں جانتا ہے</a:t>
            </a:r>
            <a:r>
              <a:rPr b="0" lang="ur-PK" sz="4000" spc="-1" strike="noStrike">
                <a:solidFill>
                  <a:srgbClr val="ff0000"/>
                </a:solidFill>
                <a:latin typeface="Alvi Nastaleeq"/>
                <a:ea typeface="Alvi Nastaleeq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Sadiq Abbas(Fazil-e-qum) , www.dua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676520" y="220968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knows what is in the hearts of those who remain qui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1560600" y="1011240"/>
            <a:ext cx="6035760" cy="909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-505440" y="4114800"/>
            <a:ext cx="106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3600" spc="-1" strike="noStrike">
                <a:solidFill>
                  <a:srgbClr val="ff0000"/>
                </a:solidFill>
                <a:latin typeface="Alvi Nastaleeq"/>
                <a:cs typeface="Alvi Nastaleeq"/>
              </a:rPr>
              <a:t>ہر وہ سوال جو تجھ سے کیا جائے تیرا کان اسے سنتا ہے</a:t>
            </a:r>
            <a:r>
              <a:rPr b="0" lang="ur-PK" sz="3600" spc="-1" strike="noStrike">
                <a:solidFill>
                  <a:srgbClr val="ff0000"/>
                </a:solidFill>
                <a:latin typeface="Alvi Nastaleeq"/>
                <a:ea typeface="Alvi Nastaleeq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Sadiq Abbas(Fazil-e-qum) , www.dua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986480" y="259092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question is heard by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8959680" y="0"/>
            <a:ext cx="184320" cy="36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Rectangle 2" descr=""/>
          <p:cNvPicPr/>
          <p:nvPr/>
        </p:nvPicPr>
        <p:blipFill>
          <a:blip r:embed="rId1"/>
          <a:stretch/>
        </p:blipFill>
        <p:spPr>
          <a:xfrm>
            <a:off x="2292480" y="665280"/>
            <a:ext cx="3773520" cy="11030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635480" y="4343400"/>
            <a:ext cx="53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4000" spc="-1" strike="noStrike">
                <a:solidFill>
                  <a:srgbClr val="ff0000"/>
                </a:solidFill>
                <a:latin typeface="Alvi Nastaleeq"/>
                <a:ea typeface="Alvi Nastaleeq"/>
              </a:rPr>
              <a:t> </a:t>
            </a:r>
            <a:r>
              <a:rPr b="0" lang="ur-PK" sz="4000" spc="-1" strike="noStrike">
                <a:solidFill>
                  <a:srgbClr val="ff0000"/>
                </a:solidFill>
                <a:latin typeface="Alvi Nastaleeq"/>
                <a:cs typeface="Alvi Nastaleeq"/>
              </a:rPr>
              <a:t>اور اس کا جواب تیار ہے</a:t>
            </a:r>
            <a:r>
              <a:rPr b="0" lang="ur-PK" sz="4000" spc="-1" strike="noStrike">
                <a:solidFill>
                  <a:srgbClr val="ff0000"/>
                </a:solidFill>
                <a:latin typeface="Alvi Nastaleeq"/>
                <a:ea typeface="Alvi Nastaleeq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Sadiq Abbas(Fazil-e-qum) , www.dua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057400" y="2743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 for it answer is provi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2" descr=""/>
          <p:cNvPicPr/>
          <p:nvPr/>
        </p:nvPicPr>
        <p:blipFill>
          <a:blip r:embed="rId1"/>
          <a:stretch/>
        </p:blipFill>
        <p:spPr>
          <a:xfrm>
            <a:off x="1663560" y="639720"/>
            <a:ext cx="5535720" cy="11224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772200" y="4038480"/>
            <a:ext cx="79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3600" spc="-1" strike="noStrike">
                <a:solidFill>
                  <a:srgbClr val="ff0000"/>
                </a:solidFill>
                <a:latin typeface="Alvi Nastaleeq"/>
                <a:cs typeface="Alvi Nastaleeq"/>
              </a:rPr>
              <a:t>اے معبود تیرے سب وعدے یقینا سچے ہیں</a:t>
            </a:r>
            <a:r>
              <a:rPr b="0" lang="ur-PK" sz="3600" spc="-1" strike="noStrike">
                <a:solidFill>
                  <a:srgbClr val="ff0000"/>
                </a:solidFill>
                <a:latin typeface="Alvi Nastaleeq"/>
                <a:ea typeface="Alvi Nastaleeq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Sadiq Abbas(Fazil-e-qum) , www.dua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994040" y="2743200"/>
            <a:ext cx="52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' Allah Your promises are so tru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Rectangle 1" descr=""/>
          <p:cNvPicPr/>
          <p:nvPr/>
        </p:nvPicPr>
        <p:blipFill>
          <a:blip r:embed="rId1"/>
          <a:stretch/>
        </p:blipFill>
        <p:spPr>
          <a:xfrm>
            <a:off x="1938240" y="554040"/>
            <a:ext cx="5016600" cy="9097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1746720" y="4343400"/>
            <a:ext cx="55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3600" spc="-1" strike="noStrike">
                <a:solidFill>
                  <a:srgbClr val="ff0000"/>
                </a:solidFill>
                <a:latin typeface="Alvi Nastaleeq"/>
                <a:cs typeface="Alvi Nastaleeq"/>
              </a:rPr>
              <a:t>تیری نعمتیں بہت عمدہ ہی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Sadiq Abbas(Fazil-e-qum) , www.dua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133720" y="28195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r blessings so abund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ctangle 1" descr=""/>
          <p:cNvPicPr/>
          <p:nvPr/>
        </p:nvPicPr>
        <p:blipFill>
          <a:blip r:embed="rId1"/>
          <a:stretch/>
        </p:blipFill>
        <p:spPr>
          <a:xfrm>
            <a:off x="2054160" y="633240"/>
            <a:ext cx="4822920" cy="9036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1767240" y="4191120"/>
            <a:ext cx="69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4400" spc="-1" strike="noStrike">
                <a:solidFill>
                  <a:srgbClr val="ff0000"/>
                </a:solidFill>
                <a:latin typeface="Alvi Nastaleeq"/>
                <a:cs typeface="Alvi Nastaleeq"/>
              </a:rPr>
              <a:t>اور تیری رحمت بڑی وسیع ہے</a:t>
            </a:r>
            <a:r>
              <a:rPr b="0" lang="ur-PK" sz="4400" spc="-1" strike="noStrike">
                <a:solidFill>
                  <a:srgbClr val="ff0000"/>
                </a:solidFill>
                <a:latin typeface="Alvi Nastaleeq"/>
                <a:ea typeface="Alvi Nastalee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Sadiq Abbas(Fazil-e-qum) , www.dua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464560" y="281952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your Mercy so encompass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ectangle 1" descr=""/>
          <p:cNvPicPr/>
          <p:nvPr/>
        </p:nvPicPr>
        <p:blipFill>
          <a:blip r:embed="rId1"/>
          <a:stretch/>
        </p:blipFill>
        <p:spPr>
          <a:xfrm>
            <a:off x="1494000" y="781200"/>
            <a:ext cx="5992560" cy="22730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762120" y="457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3600" spc="-1" strike="noStrike">
                <a:solidFill>
                  <a:srgbClr val="ff0000"/>
                </a:solidFill>
                <a:latin typeface="Alvi Nastaleeq"/>
                <a:cs typeface="Alvi Nastaleeq"/>
              </a:rPr>
              <a:t>پس میں تجھ سے سوال کرتا ہوں کہ محمدوآل(ع) محمد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3600" spc="-1" strike="noStrike">
                <a:solidFill>
                  <a:srgbClr val="ff0000"/>
                </a:solidFill>
                <a:latin typeface="Alvi Nastaleeq"/>
                <a:cs typeface="Alvi Nastaleeq"/>
              </a:rPr>
              <a:t>پر رحمت نازل فرما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Sadiq Abbas(Fazil-e-qum) , www.dua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219320" y="281952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I beg You to send Your blessings on Mohammad and the Progeny of Moham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Rectangle 1" descr=""/>
          <p:cNvPicPr/>
          <p:nvPr/>
        </p:nvPicPr>
        <p:blipFill>
          <a:blip r:embed="rId1"/>
          <a:stretch/>
        </p:blipFill>
        <p:spPr>
          <a:xfrm>
            <a:off x="1474920" y="560520"/>
            <a:ext cx="6284880" cy="841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-911880" y="4343400"/>
            <a:ext cx="1098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3600" spc="-1" strike="noStrike">
                <a:solidFill>
                  <a:srgbClr val="ff0000"/>
                </a:solidFill>
                <a:latin typeface="Alvi Nastaleeq"/>
                <a:cs typeface="Alvi Nastaleeq"/>
              </a:rPr>
              <a:t>اور یہ کہ میری دنیا اور اور آخرت کی حاجتیں پوری فرم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Sadiq Abbas(Fazil-e-qum) , www.dua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066680" y="23623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fulfill all my desires of this world and the world to com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3:39:40Z</dcterms:created>
  <dc:creator>Ya Zahra</dc:creator>
  <dc:description/>
  <dc:language>en-US</dc:language>
  <cp:lastModifiedBy>Ya Zahra</cp:lastModifiedBy>
  <dcterms:modified xsi:type="dcterms:W3CDTF">2011-05-31T05:02:39Z</dcterms:modified>
  <cp:revision>7</cp:revision>
  <dc:subject/>
  <dc:title>Slide 1</dc:title>
</cp:coreProperties>
</file>