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5F24-992F-4D2F-A4C5-6A914DC7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8C46-8B0B-45E8-836A-CB1F31AD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54B2-2EAE-47AE-BC3E-589687D8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A0B9-0682-4970-8C88-E84C5686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DC8B-F81B-46A0-811F-68302993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5F9A-6ABA-4CE7-BB0F-57AC5305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B575-D345-44B2-8E11-BE0784DE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8E56-14CD-4591-9191-1A7E9B21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A5BF-9784-46D7-ADC0-F10DCC42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2BB0-5E37-4C9A-9731-2CBEBEFB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EAD0-1F6A-4D0D-B0A1-FE9E2197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EA16-26F8-40FA-AD17-D8D99865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7DBE-5BA1-4237-899D-9DB86FAC1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äËãÆ ãÐãQ âÈáÃå®áB áYåÊáB CáÆ ÔÂãB âÐåËãÆ ØãÏÂãB CáÖ âVåoã{ åká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 know better than me what status I have reached in this mont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¯áÇå_áB ã¼åÃáhåÂB áÌãÆ ãÍãjáká¯ãÂ Ô|åc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You alone can calculate it, from all of cre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ÉåÒâQáäoá»âÇåÂB áÀâXá¿ãMÞáÆ ãÐãQ áÀáÃáNás CáÇãQ áÀâÃáNåsáC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ÉåÒâdãÂCáä|ÂB á½âjCáRã® áÑ áÉåÒâÃásåoâÇåÂB áÀâMEá×ãRåÊ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o I ask You by what, the angels close to You, Your sent Prophets, and Your virtuous servants, have ask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at You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XáÇåcáoãQ áUáäËá`åÂB ØãËáÃãgåkâW áÑ ãnCáäËÂB áÌãÆ ØãXáRáºán áäÀâ·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me from the fire, and make me enter Heaven, by Your mer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Æáoá¿ áÑ á½ãÒå·á¯ãQ áäØáÃá® áÄáä£á·áX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avour me by Your forgiveness and gra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MEá®âj áSå×ã`áXåtáW áÑ ØãQâäoá»áW áÄáäRá»áXá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ccept my seeking nearness to You, and answer my pr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µåÒáhåÂB áÅåÒáÖ ãÌåÆáÛCãQ áäØáÃá® áäÌâÇá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rant me security on the day of fea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UáÆCá×ã»åÂB ãÅåÒá×ãÂ âÐáWåjákå®áB èÁåÒáÎ ãäÄâ¿ åÌã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rom every horror You have prepared for the Day of Judg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Öãoá¿åÂB áÀãÏå_áÒãQ âlåÒâ®áB áÑ ØãÏÂã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My God, I seek refuge with Your gracious self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«á¯åÂB áÀãÂáÚá`ãQ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r mighty pow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×ãÂCá×áÂ áÑ áÉCá£áÆán âoåÏáw âÅCáäÖáB áØã£á»åËáäÖ åÉ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rom (such a state) that the days and nights of Rama_án reach comple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Q ØãÊâmãgBáKâW çSåÊál åÑáB çUá¯ãRáW ØãÃáRãº áÀáÂ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re still remains a sin on me, that You will account me fo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CáÎåoã·å³áW åÈáÂ ØãäËãÆ CáÏáä|áXå»áW åÉáB âkåÖãoâW çUáNå×ã§ág åÑ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r a mistake that You have not forgiven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Õãkãä×ás Õãkãä×ás Õãkãä×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My Master, my Master, my Mas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YåÊáB áäÙãB áÐÂãB áÙ CáÖ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ask You, there is no god but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YåÊáB áäÙãB áÐÂãB áÙ ålã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surely there is no god but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æ¢ãn ØãäËá® åjájåpCá¶ ãoåÏáäxÂB BámÎ Øã¶ ØãäËá® áYå×ã¢án áYåËâ¿ åÉã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f You are pleased with me in this month, then increase that pl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äËá® á¡ånCá¶ áÉÝB áÌãÇá¶ ØãäËá® áYå×ã¢án åÌâ¿áW åÈáÂ åÉ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if You are not pleased with me then from now, be pleased with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ÇãcBáäoÂB áÈácån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Most Merciful of al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ÁáqåËâÇåÂB áÀãQCáXã¿ Øã¶ áYåÃâº áÀáäÊãB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You have said in Your revealed book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káÇá{ CáÖ âkác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One, O Needl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káÂåÒâÖ åÈáÂ áÑ åkãÃáÖ åÈáÂ åÌá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He who does not give birth and was not bor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çkácáB BæÒâ·â¿ âÐáäÂ åÌâ¿áäÖ åÈáÂ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re is none equal to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ãÐå×áÃá® ájâÑBákãÂ ãkåÖãkádåÂB áÌãä×áÃâ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softener of iron for Dawúd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×áÃá® áPåÒâäÖáB åÌá® ãÅCá«ã¯åÂB ãPáoâ¿åÂB áÑ ãäoâä£ÂB á¸ãwCá¿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remover of harm and distress from Ayyúb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ãÐå×áÃá® áPåÒâ»å¯áÖ ãäÈáÎ á^ãäoá·âÆ åÕ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reliever of the grief of Ya`qúb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ãÐå×áÃá® á¸âsåÒâÖ ãäÈá² áuãä·áËâÆ åÕ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comforter of the sorrow of Yúsuf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¯áÇå_áB åÈãÏå×áÃá® áØãäÃá|âW åÉáB âÐâÃåÎáB áYåÊáB CáÇá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way it befits You to bless them al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âÃåÎáB áYåÊáB CáÆ ØãQ åÄá¯å¶B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deal with me in a manner which befits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ÉDåoâ»åÂB ãÐå×ã¶ áÁãqåÊâB ÕãmáäÂB áÉCá£áÆán âoåÏá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month of Rama_án, in which the Qur’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as s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âÃåÎáB CáÊáB CáÆ åØãQ åÄá¯å·áW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not in a manner which befits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ãÐå×áÃá® ájâÑBákãÂ ãkåÖãkádåÂB áÌãä×áÃâ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softener of iron for Dawúd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×áÃá® áPåÒâäÖáB åÌá® ãÅCá«ã¯åÂB ãPáoâ¿åÂB áÑ ãäoâä£ÂB á¸ãwCá¿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remover of harm and distress from Ayyúb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ãÐå×áÃá® áPåÒâ»å¯áÖ ãäÈáÎ á^ãäoá·âÆ åÕ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reliever of the grief of Ya`qúb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ãÐå×áÃá® á¸âsåÒâÖ ãäÈá² áuãä·áËâÆ åÕ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comforter of the sorrow of Yúsuf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¯áÇå_áB åÈãÏå×áÃá® áØãäÃá|âW åÉáB âÐâÃåÎáB áYåÊáB CáÇá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way it befits You to bless them al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âÃåÎáB áYåÊáB CáÆ ØãQ åÄá¯å¶B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deal with me in a manner which befits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âÃåÎáB CáÊáB CáÆ åØãQ åÄá¯å·áW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not in a manner which befits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ãÐå×áÃá® ájâÑBákãÂ ãkåÖãkádåÂB áÌãä×áÃâ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softener of iron for Dawúd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ÉCáºåoâ·åÂB áÑ ÓkâÏåÂB áÌãäÆ èVCáËãä×áQ áÑ ãrCáäËÃãäÂ Óækâ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 guidance for humankind,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clear signs of guidance and distinctio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18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×áÃá® áPåÒâäÖáB åÌá® ãÅCá«ã¯åÂB ãPáoâ¿åÂB áÑ ãäoâä£ÂB á¸ãwCá¿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remover of harm and distress from Ayyúb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ãÐå×áÃá® áPåÒâ»å¯áÖ ãäÈáÎ á^ãäoá·âÆ åÕ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reliever of the grief of Ya`qúb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ãÐå×áÃá® á¸âsåÒâÖ ãäÈá² áuãä·áËâÆ åÕ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comforter of the sorrow of Yúsuf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¯áÇå_áB åÈãÏå×áÃá® áØãäÃá|âW åÉáB âÐâÃåÎáB áYåÊáB CáÇá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way it befits You to bless them al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âÃåÎáB áYåÊáB CáÆ ØãQ åÄá¯å¶B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deal with me in a manner which befits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âÃåÎáB CáÊáB CáÆ åØãQ åÄá¯å·áW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not in a manner which befits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ÉDåoâ»åÂB áÌãÆ ãÐå×ã¶ áYåÂáqåÊáB CáÇãQ áÉCá£áÆán ãoåÏáw áUáÆåoâc áYåÇáä«á¯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o You have magnified the sanctity, of the month of Rama_án, by revealing the Qur’án in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oåÏáw ã¸åÂáB åÌãäÆ Bæoå×ág CáÏáXåÃá¯á_ áÑ ãnåká»åÂB ãUáÃå×áÃãQ âÐáXå|á|ág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 have made it special, by placing the night of Qadr in it, making it better than a thousand mon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Yá£á»åÊB ãkáº áÉCá£áÆán ãoåÏáw âÅCáäÖáB ãÍãmÎ áÑ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and now, the days of Rama_án are nearing comple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YáÆáäoá|áW åkáº ãÐå×ãÂCá×áÂ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 nights are leaving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7T16:57:06Z</dcterms:modified>
  <cp:revision>53</cp:revision>
  <dc:subject/>
  <dc:title>Du`a for Last 10 Nights of Ramadan</dc:title>
</cp:coreProperties>
</file>