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91ED-53AC-49E7-8613-757802CBF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C489-58B4-4207-A240-6C9DDDB5A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CDEC-CE1B-4426-8961-1DCBDB82B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E413-8FD8-4BC8-816E-022DBA6E6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3729-6F98-4F35-9171-B0C499FDE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EA54-DD34-4C50-A8D8-07A7C7637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BFB0-CBA9-4761-8449-7AE1695EB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431C-0604-4A2D-900E-7CC66B1BA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BC71-0D3B-4310-8C9D-44F7AF8BE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2E86-BFA9-4941-9EB4-97F4E902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F554-CA8E-42E6-819C-1688A27E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C0B2-AA5F-4C7F-A675-E30587F2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l-Arial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99"/>
                </a:solidFill>
                <a:latin typeface="Al-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l-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3F742-6F58-479B-B9B1-2F88053F8E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30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Èå×ãcáäoÂB ãÌÇåcáäoÂB ãÐäÃÂB ãÈåtã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n the name of Alláh the Beneficent, the Merci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30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AÝÛB áÑ âAEáÖãoåRã¿åÂB áÑ Cá×åÃâ¯åÂB âÁCá\åÆÛ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e highest examples, the grandeur, the boun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30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áØãäÃá|âW åÉáB áÀâÃáNås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 beseech You to bless Mu&lt;ammad and the family of Mu&lt;amma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30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ADáká¯âätÂB Øã¶ ãUáÃå×áäÂB ãÍãmÎ Øã¶ ØãÇåsB áÄá¯å`áW åÉá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place my name, in this night, among the fortunat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30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å×ãä×ãäÃã® Øã¶ ØãÊCátåcãB áÑ ãADákáÏâäxÂB á°áÆ ØãcåÑân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æTánåÒâ·å³áÆ ØãXáMCásã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my soul among the martyrs, let my good deeds be (written) in the </a:t>
            </a: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`illiyyín</a:t>
            </a: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 (book of the virtuous), and my evil deeds be forgiv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30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ØãRåÃáº ãÐãQ âoãwCáRâW CæËå×ã»áÖ ØãÂ áSáÏáW åÉá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(And I beseech You to) grant me a certainty which gives joy to my hear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30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áÇãQ ØãËá×ã¢åoâW áÑ ØãäËá® áäÀáäxÂB âSãÎåmâÖ CæÊCáÇåÖã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ØãÂ áYåÇátá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a faith which drives doubt away from m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make me pleased with what You have granted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30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æUáËátác ãTáoãgÛB Øã¶ áäÑ æUáËátác Cá×åÊâäkÂB Øã¶ CáËãW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(And I beseech You to) </a:t>
            </a: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Give us good in this world, and good in the Hereafte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30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¼åÖãoádåÂB ãnCáäËÂB áPBámá® CáËãº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save us from the punishment of the burning fire.</a:t>
            </a: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 (2:20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30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å×áÂãB áUáRå²áäoÂB áÑ á½áoå¿âw áÑ á½áoå¿ãl CáÏå×ã¶ ØãËåºâpån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(And I beseech You to) grant me in it (Night of Qadr) Your remembrance, and Your gratitude, and desire for (pleasing) You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30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âÐáÂ áYå»áä¶áÑ CáÇãÂ á¼å×ã¶åÒáäXÂB áÑ áUáQCáÊÛ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urning (to You for repentance), and succes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for all that You have granted Mu&lt;ammad and his famil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30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ãäÄá{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&lt;ammad and the family of Mu&lt;amm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30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ÅáÚáätÂB âÈãÏå×áÃá® áÑ ãÐå×áÃá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peace be on him and on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30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ãäÄá{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&lt;ammad and the family of Mu&lt;amm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30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ÐáÂ áÀåÖãoáw áÙ ãÐäÃãÂ âkåÇádå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ll Praise is for Alláh, there is no partner for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30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ÐãÂáÚá_ ãäqã® áÑ ãÐãÏå_áÑ ãÅáoá¿ãÂ Øã³áRåËáÖ CáÇá¾ ãÐäÃãÂ âkåÇádå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ÐâÃåÎáB áÒâÎ CáÇá¾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ll Praise is for Alláh, as is deserved by His glorious countenance, and His mighty power, and as He is worthy of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30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råkâ»åÂB ánåÒâÊ CáÖ ânåÒâÊ CáÖ âråÑâäkâº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Holy, O Light, O Holy L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30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UáÇåcáäoÂB áÄã®Cá¶ CáÖ âÌÇåcán CáÖ ãeå×ãRåtáäXÂB ÔÏáXåËâÆ CáÖ âbåÒâäRâs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Glorious, O the ultimate goal of all glorification, O Beneficent, O the Doer of mer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30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¸å×ã§áÂ CáÖ âÐäÃÂáB CáÖ âoå×ãRá¾ CáÖ âÈå×ãÃá® CáÖ âÐäÃÂáB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O All­Knowing, O Great, O Alláh, O Graci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30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oå×ã|áQ CáÖ â°å×ãÇás CáÖ âÐäÃÂáB CáÖ âÄå×ãÃá_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Magnificent, O Alláh, O All­Hearing, O All­See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30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ÔËåtâdåÂB âAEáÇåsÛB áÀáÂ âÐäÃÂáB CáÖ âÐäÃÂáB CáÖ âÐäÃÂáB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O Alláh, O Alláh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You have the most beautiful name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17:49:06Z</dcterms:created>
  <dc:creator>Akil Karim</dc:creator>
  <dc:description/>
  <dc:language>en-US</dc:language>
  <cp:lastModifiedBy>Akil Karim</cp:lastModifiedBy>
  <dcterms:modified xsi:type="dcterms:W3CDTF">2000-12-18T16:43:41Z</dcterms:modified>
  <cp:revision>80</cp:revision>
  <dc:subject/>
  <dc:title>Du`a for 30th Night of Ramadan</dc:title>
</cp:coreProperties>
</file>