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5B6-E794-41CF-90CC-1962A128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87C-88C6-4B85-8854-DA94CCE7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632-5F4E-4A95-8E56-365E7715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D5D-712D-4E23-B73D-6A518B40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CD8-A0FF-415C-81B6-12E8AEF8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E63-F2DF-4E5B-B2D5-FC95FDFA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DFB-063E-4B84-B31E-E559E548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6E8-7690-4395-BE17-A7E873F3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C7E-A85A-4D68-807C-8232E07E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C03-3F7A-4024-8379-FAD9584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D89-8B5E-4C5F-913C-DBE296FF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7E1-E335-4A03-B08C-C314479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DC4E-43DE-4F73-A465-6911E36DE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B åÌãäÆ Bæoå×ág CáÏáÃã®Cá_ áÑ ãnåká»åÂB ãUáÃå×áÂ áäPán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Lord of Night of Qadr (night of power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 has made it better than a thousand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CádãRåÂB áÑ ãÁCáRã`åÂB áÑ ãnCáÏáäËÂB áÑ ãÄå×áäÂB áäPá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Lord of the night and the d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f the mountains and the se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EáÇáätÂB áÑ ã¡ånÛB áÑ ãnBáÒåÊÛB áÑ ãÈáÃâä«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f darkness and light, and the earth and the s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ÉCáäËáÆ CáÖ âÉCáäËác CáÖ ânãäÒá|âÆ CáÖ âLãnCáQ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Originator, the Design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Affectionate, the Grac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°åÖãkáQ CáÖ âÐäÃÂáB CáÖ âÅåÒâä×áº CáÖ âÐäÃÂáB CáÖ âÌÇåcán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Beneficent, O Alláh, O the Everlasting, O Alláh, O the Mak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 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35:26Z</dcterms:modified>
  <cp:revision>59</cp:revision>
  <dc:subject/>
  <dc:title>Du`a for 23rd Night of Ramadan</dc:title>
</cp:coreProperties>
</file>