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E01-6E82-4039-AC55-761CD812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BF5-9BAA-4527-AFC4-2C2DE3F1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A47-37D0-4198-92EA-659CC15C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E25-F0F0-4627-BFF5-46882E4D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9B8E-D4A8-47F9-9428-927C7A55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361-736A-4338-9579-C9129DB3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A392-76C2-478B-B9FE-B18F5C9B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E20-751E-4ED5-8ABB-BBB0827C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9FE-599C-4384-B234-B18643B5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B18-2A2B-4F51-AE70-17090FBB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C934-C841-4D55-98F9-D469E9CD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75A-DB7E-45BD-A845-000A7B37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5469-AA18-4316-A47E-71C932AFC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Ìå×áXáÖB ãnCáÏáäËÂB áÑ áÄå×áäÂB áÄã®Cá_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made the night and the day two sig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oã|åRâÆ ãnCáÏáäËÂB áUáÖB áÄá¯á_ áÑ ãÄå×áäÂB áUáÖB CádáÆ åÌ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removed the sign of the n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de the sign of the day br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Úå×ã|å·áW èOå×áw ãäÄâ¾ áÄãä|á·âÆ CáÖ CæÊBáÒå¢ãn áÑ âÐåËãÆ æÚå£á¶ BåÒâ³áXåRáXã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at you may seek grace from Him, and (His) pl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separates everything distinc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jBáÒá_ CáÖ âÐäÃÂáB CáÖ âPCáäÎáÑ CáÖ âkã_C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Magnificent, O the Giver, O Alláh, O the Gener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8T16:13:37Z</dcterms:modified>
  <cp:revision>67</cp:revision>
  <dc:subject/>
  <dc:title>Du`a for 26th Night of Ramadan</dc:title>
</cp:coreProperties>
</file>