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562D-F87A-4246-AD16-D7BBFEED1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2D96-4359-406E-87DC-1D1397D3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963A-9C3D-4967-A6FF-D12DB17A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825E-05C0-4296-86DF-55F8DC5BA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2ED9-8E95-4224-80E6-DFF51E69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371C-4F17-409D-894B-8F6A44F7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48F1-F949-4ED5-8FCB-F70680CE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70E3-25F1-4C80-BC30-20D760F3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CADB-A8D9-45B1-B20C-3F9EE7E1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BA93-133C-48F7-97D1-94F8EC6F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863E-8FB1-44A1-81A3-68BB1EFC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1D5C-412D-4F3B-A92A-30416F31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C230-EEEB-47D2-BF44-E4C1EC769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áØãäÃá|âW åÉáB áÀâÃáNås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 beseech You to bless Mu&lt;ammad and the family of Mu&lt;amma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ADáká¯âätÂB Øã¶ ãUáÃå×áäÂB ãÍãmÎ Øã¶ ØãÇåsB áÄá¯å`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place my name, in this night, among the fortunat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ä×ãäÃã® Øã¶ ØãÊCátåcãB áÑ ãADákáÏâäxÂB á°áÆ ØãcåÑân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TánåÒâ·å³áÆ ØãXáMCás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y soul among the martyrs, let my good deeds be (written) in the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`illiyyín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book of the virtuous), and my evil deeds be forgi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RåÃáº ãÐãQ âoãwCáRâW CæËå×ã»áÖ ØãÂ áSáÏ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a certainty which gives joy to my hear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ÇãQ ØãËá×ã¢åoâW áÑ ØãäËá® áäÀáäxÂB âSãÎåmâÖ CæÊCáÇåÖ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Â áYåÇátá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a faith which drives doubt away from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ake me pleased with what You have granted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UáËátác ãTáoãgÛB Øã¶ áäÑ æUáËátác Cá×åÊâäkÂB Øã¶ CáËãW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Give us good in this world, and good in the Hereaft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¼åÖãoádåÂB ãnCáäËÂB áPBámá® CáËã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save us from the punishment of the burning fire.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2:2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å×áÂãB áUáRå²áäoÂB áÑ á½áoå¿âw áÑ á½áoå¿ãl CáÏå×ã¶ ØãËåºâpån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in it (Night of Qadr) Your remembrance, and Your gratitude, and desire for (pleasing)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âÐáÂ áYå»áä¶áÑ CáÇãÂ á¼å×ã¶åÒáäXÂB áÑ áUáQCáÊ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urning (to You for repentance), and succes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or all that You have granted Mu&lt;ammad and his famil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ÅáÚáätÂB âÈãÏå×áÃá® áÑ ãÐå×áÃá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on him and on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AEáÇáätÂB Øã¶ ãnåÒâäËÂB áÉãpCág áÑ ãADáÒáÏåÂB Øã¶ ãÄå×áäÂB áÉãpCág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(One) who keeps safe the night in the atmosphere, and keeps safe the light in the sk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ãÊålãCãQ áäÙãB ã¡ånÛB ÔÃá® á°á»áW åÉáB ãAEáÇáätÂB á°ãÊCáÆ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prevents the sky to fall on the 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except by His permissio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ÙåÑâqáW åÉáB CáÇâÏátãQCác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holds them back lest they move a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ÈãMDáj CáÖ ânåÒâ·á² CáÖ âÈå×ã«á® CáÖ âÈå×ãÃá®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­Knowing, O Might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Forgiver, O Eternal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nåÒâRâ»åÂB Øã¶ åÌáÆ â]ã®CáQ CáÖ âZãnBáÑ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Inherito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(One) who will raise those in the gr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ÔËåtâdåÂB âAEáÇåsÛB áÀáÂ âÐäÃÂáB CáÖ âÐäÃÂáB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Alláh, O Allá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have the most beautiful nam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AÝÛB áÑ âAEáÖãoåRã¿åÂB áÑ Cá×åÃâ¯åÂB âÁCá\åÆ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highest examples, the grandeur, the boun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Akil Karim</dc:creator>
  <dc:description/>
  <dc:language>en-US</dc:language>
  <cp:lastModifiedBy>Akil Karim</cp:lastModifiedBy>
  <dcterms:modified xsi:type="dcterms:W3CDTF">2000-12-18T16:29:57Z</dcterms:modified>
  <cp:revision>74</cp:revision>
  <dc:subject/>
  <dc:title>Du`a for 28th Night of Ramadan</dc:title>
</cp:coreProperties>
</file>