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339-B4E4-49DE-8BB4-97E5C4EE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0C2-E296-41FF-8248-62527689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387-5298-4583-A42B-2CB93161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79F-2A2F-441F-9024-897ABC2F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3B1-B868-4490-95A4-CE35A81B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32A-1644-4834-9B1F-F292CDAF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899-E118-425D-8C82-E45E7C8B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9C0-8B4C-4C46-BE60-AE01E74C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24D-1E40-416D-9A6E-A454D549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89D-F44C-47E5-A0AD-236EAEF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DE1-0245-4748-9C89-2BCF667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7F2-28C9-4D28-B8EF-34B943C0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CD0A-BE59-4804-A44E-3C5181AAD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Ëã¾Cás âÐáXåÃá¯á`áÂ áYåNãw åÒáÂ áÑ ãäÄãä«ÂB áäjE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extended the shadow and had You wished You would have made it sta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âÐáXå£áRáº áäÈâ[ æÚå×ãÂáj ãÐå×áÃá® áuåÇáäxÂB áYåÃá¯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oå×ãtáäÖ Cæ£åR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made the sun its guide, then You withdrew it to Yourself, an easy withdraw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ÝÛB áÑ ãAEáÖãoåRã¿åÂB áÑ ãÁåÒáä§ÂB áÑ ãjåÒâ`åÂB Bál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possessor of generosity and pow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deur and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cáäoÂB âÌÇåcáäoÂB ãTájCáÏáäxÂB áÑ ãSå×á³åÂB âÈãÂCá® áYåÊáB áäÙB áÐÂãB 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 Knower of the unseen and the manifes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ÌãÇå×áÏâÆ CáÖ âÌãÆåKâÆ CáÖ âÅáÚás CáÖ âråÑâäkâº CáÖ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 O Holy, O Pe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Trusted, O the Protect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¼ãÂCág CáÖ âÐäÃÂáB CáÖ âoãäRá¿áXâÆ CáÖ ânCáäRá_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nãäÒá|âÆ CáÖ âLãnCáQ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ighty, O Most Powerful, O Subl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Creator, O Originator, O the Fashion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22:15Z</dcterms:modified>
  <cp:revision>71</cp:revision>
  <dc:subject/>
  <dc:title>Du`a for 27th Night of Ramadan</dc:title>
</cp:coreProperties>
</file>