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08B-D48B-4D9A-A68A-39B661E0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4E1-FDF2-46E2-B312-B639726A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C7D-4592-4561-B590-8F9E75DE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FAD-7014-4E7D-8797-AC28C9AB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910-3FC7-4101-981B-96AA110B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9E2-022D-4B76-98EF-0DD3C39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2ED-D65D-42C0-AF72-3CA0EAC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FB9-9E35-41E5-BC7F-FBF2FF1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74A-6D3B-4786-A2D3-70CF59B5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49E-8301-4E9B-9FFC-7029333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77C-07F2-4FC7-88B2-9DC160FF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47E-89A0-4C60-A4C4-BE22229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5402-88E8-4488-963B-CBABB3716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ÇãÃå«âÆ âÌådáÊ BálãCá¶ ãÄå×áäÂB áÌãÆ ãnCáÏáäËÂB áiãÂCá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draws forth the day from the night, and lo! we are in dar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Öãkå»áXãQ CáÎãäoá»áXåtâÇãÂ ãuåÇáäxÂB áÕãoå`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auses the sun to travel its appointed place, through Your decree, O the Mighty, the All­Kno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ká»åÂB ãÉåÒâ_åoâ¯åÂCá¿ ájCá® ÔäXc áÁãpCáËáÆ ãoáÇá»åÂB ánáäká»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decreed stages for the moon, till it returns bent like a palm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Rå²án ãäÄâ¿ ÔÏáXåËâÆ áÑ ènåÒâÊ ãäÄâ¿ ánåÒâÊ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Light of all lights, and the ultimate goal of all desi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Çåcán CáÖ âÐäÃÂáB CáÖ èUáÇå¯ãÊ ãäÄâ¿ áäØãÂ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Guardian of all blessing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Benefi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åoá¶ CáÖ âkãcBáÑ CáÖ âkácáB CáÖ âråÑâäkâ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Holy, O One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the) Unique, O (the) Sing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2:56Z</dcterms:modified>
  <cp:revision>57</cp:revision>
  <dc:subject/>
  <dc:title>Du`a for 22nd Night of Ramadan</dc:title>
</cp:coreProperties>
</file>