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B245-CAF9-4BA8-B4C9-75CF60A5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502D-1597-4823-BB35-F0C86129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4B54-752D-40F3-BD3D-E61403CC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0B6-5170-4CB3-9F78-DB23EC14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6E19-1286-41A4-8EAF-AB053EBE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A507-BC16-4487-963D-685C9DE3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CFFA-8C17-40ED-858D-A39B054C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5A8D-62E0-4E68-9886-D4CFF333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D26-1205-4DD9-8905-C2D8211F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EEF1-E904-4C77-900D-450C5E37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BC68-06C8-4DAA-85B9-CEC1858A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7448-5568-4786-B0C2-941170A6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7337-8937-4097-890A-AC314872D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ká¯âätÂB Øã¶ ãUáÃå×áäÂB ãÍãmÎ Øã¶ ØãÇåsB áÄá¯å`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my name, in this night, among the fortun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äÃã® Øã¶ ØãÊCátåcãB áÑ ãADákáÏâäxÂB á°áÆ ØãcåÑâ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nåÒâ·å³áÆ ØãXáMCás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y soul among the martyrs, let my good deeds be (written) in the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`illiyyí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book of the virtuous), and my evil deeds be for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RåÃáº ãÐãQ âoãwCáRâW CæËå×ã»áÖ ØãÂ áSáÏ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a certainty which gives joy to my hear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ØãËá×ã¢åoâW áÑ ØãäËá® áäÀáäxÂB âSãÎåmâÖ CæÊCáÇåÖ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áYåÇát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faith which drives doubt away from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pleased with what You have granted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átác ãTáoãgÛB Øã¶ áäÑ æUáËátác Cá×åÊâäkÂB Øã¶ CáËã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us good in this world, and good in the Hereaf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¼åÖãoádåÂB ãnCáäËÂB áPBámá® CáËã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us from the punishment of the burning fire.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UáRå²áäoÂB áÑ á½áoå¿âw áÑ á½áoå¿ãl CáÏ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in it (Night of Qadr) Your remembrance, and Your gratitude, and desire for (pleasing)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âÐáÂ áYå»áä¶áÑ CáÇãÂ á¼å×ã¶åÒáäXÂB áÑ áUáQCáÊ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urning (to You for repentance), and succ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all that You have granted Mu&lt;ammad and his fami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áÚáätÂB âÈãÏå×áÃá® áÑ ãÐå×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on him and o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Äå×áäÂB Øã¶ ãnCáÏáäËÂB áaãÂåÒâÆ áÑ ãnCáÏáäËÂB Øã¶ ãÄå×áäÂB áaãÂåÒâ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causes the night to pass into the day, and the day to pass into the n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äØádåÂB áÌãÆ ãYãä×áÇåÂB á^ãoåhâÆ áÑ ãYãä×áÇåÂB áÌãÆ ãäØádåÂB á^ãoåhâÆ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brings forth the living from the dead, and brings forth the dead from the liv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PCátãc ãoå×á³ãQ âAEáxáÖ åÌáÆ á¹ãpBán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Provider of sustenance for whoever He pleases, without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Èå×ãcán CáÖ âÐäÃÂáB CáÖ âÌÇåcán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Beneficent, O Alláh, O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ËåtâdåÂB âAEáÇåsÛB áÀáÂ âÐäÃÂáB CáÖ âÐäÃÂáB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Alláh, O Alláh, You have the most beautiful nam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ÝÛB áÑ âAEáÖãoåRã¿åÂB áÑ Cá×åÃâ¯åÂB âÁCá\åÆ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highest examples, the grandeur, the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beseech You to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7T17:32:44Z</dcterms:modified>
  <cp:revision>53</cp:revision>
  <dc:subject/>
  <dc:title>Du`a for 21st Night of Ramadan</dc:title>
</cp:coreProperties>
</file>