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200-D5DC-4A2A-95B3-8EBFD029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91F-E837-4F7D-AC9E-336E1814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028-020A-4EE6-9E8F-8FAD881A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C15-D7AE-4830-8CE0-A18D11B9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C68-02FD-44E3-8753-B793D623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592-B8D5-49FE-BC1A-7008B6BC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1B3-9426-4AE6-8BED-2EF4641C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4EC-5721-4F94-9435-8B8350DD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8AB-7081-4EF9-A4F3-9E9AB08B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C5D-F55C-44C2-B01A-0B1D66A9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735-03E4-48C0-AA2A-F1FDF20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C87-FB56-4628-A9C0-7BE50238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8826-2B15-47B8-B3FE-D7B7BC4FA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å×áäÂB ÔÃá® ãnCáÏáäËÂB ánãäÒá¿âÆ áÑ ãnCáÏáäËÂB ÔÃá® ãÄå×áäÂB ánãäÒá¿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oils the night into the d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coils the day into the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BájCáätÂB ákãä×ás áÑ ãPCáQånáÛB áäPán CáÖ âÈå×ã¿ác CáÖ âÈå×ãÃ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­Knowing, O W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Lord of lords, and the Chief of chie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kåÖãnáÒåÂB ãÄåRác åÌãÆ áäØáÂãB áPáoåºáB CáÖ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is nearer to me than my jugular v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32:52Z</dcterms:modified>
  <cp:revision>76</cp:revision>
  <dc:subject/>
  <dc:title>Du`a for 29th Night of Ramadan</dc:title>
</cp:coreProperties>
</file>