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B9CC-E141-49A4-B75C-4373A4DA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3811-0167-4ADD-8746-552D0B7E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45B-F85F-4E21-99D1-CCE4B004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C10E-0530-4663-9640-1A7A7F58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DB5-F92B-437D-A962-593113BE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EA2-B7E6-4B69-9BF3-F28B774C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546-385C-492A-886D-F664C17A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3EF1-19B6-4C84-A99E-E252822B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CA0-313B-4FEB-AA65-64463EBB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40D-B708-449C-BE43-2D427D38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13D-5A54-4989-A33F-D2CB5B11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330-98EF-41EF-BA21-69223C2A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5CC7-94F1-4D66-9DF8-FD9FE4ED6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wCá¯áÆ ãnCáÏáäËÂB áÑ CæsCáRãÂ ãÄå×áäÂB áÄã®Cá_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made, the night a cover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day for seeking livelihoo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BæjCáWåÑáB ãÁCáRã`åÂB áÑ BæjCáÏãÆ ã¡åná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earth a resting pla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mountains as pe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°å×ãÇás CáÖ âÐäÃÂáB CáÖ ânCáäRá_ CáÖ âÐäÃÂáB CáÖ âoãÎCáº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the Subduer, O Alláh, O the Most Powerful, O Alláh, O All­Hear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Så×ã`âÆ CáÖ âÐäÃÂáB CáÖ âSåÖãoáº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(One who is) Nea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(the One) who Answer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7T17:52:43Z</dcterms:modified>
  <cp:revision>64</cp:revision>
  <dc:subject/>
  <dc:title>Du`a for 25th Night of Ramadan</dc:title>
</cp:coreProperties>
</file>