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FA7-0851-4DB6-A607-6C30AAD8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968-F65D-486D-ADCC-22398D6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D12-87DF-434D-8C21-CAEEF886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021-F454-451A-A83C-16C91049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5D7-B304-49AA-9FD6-AD42EE5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094-1A77-47FD-8BAD-8BD3DE3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20C-2438-4A79-A9F9-7D7256E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BCF-CC24-40C4-AAA4-5296D2C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AFC-F902-4022-8FA1-F1CDE0F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AF0-0DA8-4F57-BDEA-2FE957C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694-1983-4D7E-949F-487A811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0DE-00A7-4415-8D38-6529AB6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0CA-1A56-46DE-8E26-86BC988E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åÇáäxÂB áÑ CæËá¿ás ãÄå×áäÂB áÄã®Cá_ áÑ ãbCáRå{áÛB á¼ãÂCá¶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ÊCáRåtâc áoáÇá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leaver of the dawn, who made the night for rest, and the sun and moon for calculation (of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áä§ÂB áÑ ãäÌáÇåÂB Bál CáÖ 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All­Knowing, the Possessor o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ings and m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Þá`åÂB áÑ ãÅCá¯åÊãÛB áÑ ãÄå£á·åÂB áÑ ãÁåÒádåÂB áÑ ãTáäÒâ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Báoå¿ã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trength and power, grace and favours, and majesty and no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WãÑ CáÖ âjåoá¶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Single, O the Uniq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Øác CáÖ âÌã¦CáQ CáÖ âoãÎCáª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Manifest, O the Hidden, O the Ever­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0:08Z</dcterms:modified>
  <cp:revision>62</cp:revision>
  <dc:subject/>
  <dc:title>Du`a for 24th Night of Ramadan</dc:title>
</cp:coreProperties>
</file>