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23.xml.rels" ContentType="application/vnd.openxmlformats-package.relationships+xml"/>
  <Override PartName="/ppt/slides/_rels/slide203.xml.rels" ContentType="application/vnd.openxmlformats-package.relationships+xml"/>
  <Override PartName="/ppt/slides/_rels/slide100.xml.rels" ContentType="application/vnd.openxmlformats-package.relationships+xml"/>
  <Override PartName="/ppt/slides/_rels/slide195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202.xml.rels" ContentType="application/vnd.openxmlformats-package.relationships+xml"/>
  <Override PartName="/ppt/slides/_rels/slide194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20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200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19.xml.rels" ContentType="application/vnd.openxmlformats-package.relationships+xml"/>
  <Override PartName="/ppt/slides/_rels/slide163.xml.rels" ContentType="application/vnd.openxmlformats-package.relationships+xml"/>
  <Override PartName="/ppt/slides/_rels/slide86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75.xml.rels" ContentType="application/vnd.openxmlformats-package.relationships+xml"/>
  <Override PartName="/ppt/slides/_rels/slide180.xml.rels" ContentType="application/vnd.openxmlformats-package.relationships+xml"/>
  <Override PartName="/ppt/slides/_rels/slide6.xml.rels" ContentType="application/vnd.openxmlformats-package.relationships+xml"/>
  <Override PartName="/ppt/slides/_rels/slide176.xml.rels" ContentType="application/vnd.openxmlformats-package.relationships+xml"/>
  <Override PartName="/ppt/slides/_rels/slide99.xml.rels" ContentType="application/vnd.openxmlformats-package.relationships+xml"/>
  <Override PartName="/ppt/slides/_rels/slide2.xml.rels" ContentType="application/vnd.openxmlformats-package.relationships+xml"/>
  <Override PartName="/ppt/slides/_rels/slide168.xml.rels" ContentType="application/vnd.openxmlformats-package.relationships+xml"/>
  <Override PartName="/ppt/slides/_rels/slide40.xml.rels" ContentType="application/vnd.openxmlformats-package.relationships+xml"/>
  <Override PartName="/ppt/slides/_rels/slide177.xml.rels" ContentType="application/vnd.openxmlformats-package.relationships+xml"/>
  <Override PartName="/ppt/slides/_rels/slide3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182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124.xml.rels" ContentType="application/vnd.openxmlformats-package.relationships+xml"/>
  <Override PartName="/ppt/slides/_rels/slide110.xml.rels" ContentType="application/vnd.openxmlformats-package.relationships+xml"/>
  <Override PartName="/ppt/slides/_rels/slide33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12.xml.rels" ContentType="application/vnd.openxmlformats-package.relationships+xml"/>
  <Override PartName="/ppt/slides/_rels/slide18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5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44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44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1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45.xml.rels" ContentType="application/vnd.openxmlformats-package.relationships+xml"/>
  <Override PartName="/ppt/slides/_rels/slide160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29.xml.rels" ContentType="application/vnd.openxmlformats-package.relationships+xml"/>
  <Override PartName="/ppt/slides/_rels/slide173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8.xml.rels" ContentType="application/vnd.openxmlformats-package.relationships+xml"/>
  <Override PartName="/ppt/slides/_rels/slide170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7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62.xml.rels" ContentType="application/vnd.openxmlformats-package.relationships+xml"/>
  <Override PartName="/ppt/slides/_rels/slide171.xml.rels" ContentType="application/vnd.openxmlformats-package.relationships+xml"/>
  <Override PartName="/ppt/slides/_rels/slide67.xml.rels" ContentType="application/vnd.openxmlformats-package.relationships+xml"/>
  <Override PartName="/ppt/slides/_rels/slide120.xml.rels" ContentType="application/vnd.openxmlformats-package.relationships+xml"/>
  <Override PartName="/ppt/slides/_rels/slide206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78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83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9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53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208.xml.rels" ContentType="application/vnd.openxmlformats-package.relationships+xml"/>
  <Override PartName="/ppt/slides/_rels/slide28.xml.rels" ContentType="application/vnd.openxmlformats-package.relationships+xml"/>
  <Override PartName="/ppt/slides/_rels/slide138.xml.rels" ContentType="application/vnd.openxmlformats-package.relationships+xml"/>
  <Override PartName="/ppt/slides/_rels/slide142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20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21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7.xml.rels" ContentType="application/vnd.openxmlformats-package.relationships+xml"/>
  <Override PartName="/ppt/slides/_rels/slide27.xml.rels" ContentType="application/vnd.openxmlformats-package.relationships+xml"/>
  <Override PartName="/ppt/slides/_rels/slide199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156.xml.rels" ContentType="application/vnd.openxmlformats-package.relationships+xml"/>
  <Override PartName="/ppt/slides/_rels/slide149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9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205.xml.rels" ContentType="application/vnd.openxmlformats-package.relationships+xml"/>
  <Override PartName="/ppt/slides/_rels/slide102.xml.rels" ContentType="application/vnd.openxmlformats-package.relationships+xml"/>
  <Override PartName="/ppt/slides/_rels/slide25.xml.rels" ContentType="application/vnd.openxmlformats-package.relationships+xml"/>
  <Override PartName="/ppt/slides/_rels/slide197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196.xml.rels" ContentType="application/vnd.openxmlformats-package.relationships+xml"/>
  <Override PartName="/ppt/slides/_rels/slide204.xml.rels" ContentType="application/vnd.openxmlformats-package.relationships+xml"/>
  <Override PartName="/ppt/slides/_rels/slide62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51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79.xml.rels" ContentType="application/vnd.openxmlformats-package.relationships+xml"/>
  <Override PartName="/ppt/slides/_rels/slide178.xml.rels" ContentType="application/vnd.openxmlformats-package.relationships+xml"/>
  <Override PartName="/ppt/slides/_rels/slide130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6.xml.rels" ContentType="application/vnd.openxmlformats-package.relationships+xml"/>
  <Override PartName="/ppt/slides/_rels/slide159.xml.rels" ContentType="application/vnd.openxmlformats-package.relationships+xml"/>
  <Override PartName="/ppt/slides/_rels/slide211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61.xml.rels" ContentType="application/vnd.openxmlformats-package.relationships+xml"/>
  <Override PartName="/ppt/slides/_rels/slide145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95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94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25.xml" ContentType="application/vnd.openxmlformats-officedocument.presentationml.slide+xml"/>
  <Override PartName="/ppt/slides/slide68.xml" ContentType="application/vnd.openxmlformats-officedocument.presentationml.slide+xml"/>
  <Override PartName="/ppt/slides/slide16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24.xml" ContentType="application/vnd.openxmlformats-officedocument.presentationml.slide+xml"/>
  <Override PartName="/ppt/slides/slide67.xml" ContentType="application/vnd.openxmlformats-officedocument.presentationml.slide+xml"/>
  <Override PartName="/ppt/slides/slide163.xml" ContentType="application/vnd.openxmlformats-officedocument.presentationml.slide+xml"/>
  <Override PartName="/ppt/slides/slide66.xml" ContentType="application/vnd.openxmlformats-officedocument.presentationml.slide+xml"/>
  <Override PartName="/ppt/slides/slide162.xml" ContentType="application/vnd.openxmlformats-officedocument.presentationml.slide+xml"/>
  <Override PartName="/ppt/slides/slide65.xml" ContentType="application/vnd.openxmlformats-officedocument.presentationml.slide+xml"/>
  <Override PartName="/ppt/slides/slide161.xml" ContentType="application/vnd.openxmlformats-officedocument.presentationml.slide+xml"/>
  <Override PartName="/ppt/slides/slide64.xml" ContentType="application/vnd.openxmlformats-officedocument.presentationml.slide+xml"/>
  <Override PartName="/ppt/slides/slide160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50.xml" ContentType="application/vnd.openxmlformats-officedocument.presentationml.slide+xml"/>
  <Override PartName="/ppt/slides/slide149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0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28.xml" ContentType="application/vnd.openxmlformats-officedocument.presentationml.slide+xml"/>
  <Override PartName="/ppt/slides/slide196.xml" ContentType="application/vnd.openxmlformats-officedocument.presentationml.slide+xml"/>
  <Override PartName="/ppt/slides/slide32.xml" ContentType="application/vnd.openxmlformats-officedocument.presentationml.slide+xml"/>
  <Override PartName="/ppt/slides/slide202.xml" ContentType="application/vnd.openxmlformats-officedocument.presentationml.slide+xml"/>
  <Override PartName="/ppt/slides/slide129.xml" ContentType="application/vnd.openxmlformats-officedocument.presentationml.slide+xml"/>
  <Override PartName="/ppt/slides/slide197.xml" ContentType="application/vnd.openxmlformats-officedocument.presentationml.slide+xml"/>
  <Override PartName="/ppt/slides/slide33.xml" ContentType="application/vnd.openxmlformats-officedocument.presentationml.slide+xml"/>
  <Override PartName="/ppt/slides/slide203.xml" ContentType="application/vnd.openxmlformats-officedocument.presentationml.slide+xml"/>
  <Override PartName="/ppt/slides/slide10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207.xml" ContentType="application/vnd.openxmlformats-officedocument.presentationml.slide+xml"/>
  <Override PartName="/ppt/slides/slide7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208.xml" ContentType="application/vnd.openxmlformats-officedocument.presentationml.slide+xml"/>
  <Override PartName="/ppt/slides/slide8.xml" ContentType="application/vnd.openxmlformats-officedocument.presentationml.slide+xml"/>
  <Override PartName="/ppt/slides/slide201.xml" ContentType="application/vnd.openxmlformats-officedocument.presentationml.slide+xml"/>
  <Override PartName="/ppt/slides/slide19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205.xml" ContentType="application/vnd.openxmlformats-officedocument.presentationml.slide+xml"/>
  <Override PartName="/ppt/slides/slide5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108.xml" ContentType="application/vnd.openxmlformats-officedocument.presentationml.slide+xml"/>
  <Override PartName="/ppt/slides/slide176.xml" ContentType="application/vnd.openxmlformats-officedocument.presentationml.slide+xml"/>
  <Override PartName="/ppt/slides/slide206.xml" ContentType="application/vnd.openxmlformats-officedocument.presentationml.slide+xml"/>
  <Override PartName="/ppt/slides/slide6.xml" ContentType="application/vnd.openxmlformats-officedocument.presentationml.slide+xml"/>
  <Override PartName="/ppt/slides/slide109.xml" ContentType="application/vnd.openxmlformats-officedocument.presentationml.slide+xml"/>
  <Override PartName="/ppt/slides/slide177.xml" ContentType="application/vnd.openxmlformats-officedocument.presentationml.slide+xml"/>
  <Override PartName="/ppt/slides/slide146.xml" ContentType="application/vnd.openxmlformats-officedocument.presentationml.slide+xml"/>
  <Override PartName="/ppt/slides/slide147.xml" ContentType="application/vnd.openxmlformats-officedocument.presentationml.slide+xml"/>
  <Override PartName="/ppt/slides/slide134.xml" ContentType="application/vnd.openxmlformats-officedocument.presentationml.slide+xml"/>
  <Override PartName="/ppt/slides/slide38.xml" ContentType="application/vnd.openxmlformats-officedocument.presentationml.slide+xml"/>
  <Override PartName="/ppt/slides/slide210.xml" ContentType="application/vnd.openxmlformats-officedocument.presentationml.slide+xml"/>
  <Override PartName="/ppt/slides/slide148.xml" ContentType="application/vnd.openxmlformats-officedocument.presentationml.slide+xml"/>
  <Override PartName="/ppt/slides/slide135.xml" ContentType="application/vnd.openxmlformats-officedocument.presentationml.slide+xml"/>
  <Override PartName="/ppt/slides/slide39.xml" ContentType="application/vnd.openxmlformats-officedocument.presentationml.slide+xml"/>
  <Override PartName="/ppt/slides/slide211.xml" ContentType="application/vnd.openxmlformats-officedocument.presentationml.slide+xml"/>
  <Override PartName="/ppt/slides/slide204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200.xml" ContentType="application/vnd.openxmlformats-officedocument.presentationml.slide+xml"/>
  <Override PartName="/ppt/slides/slide198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189.xml" ContentType="application/vnd.openxmlformats-officedocument.presentationml.slide+xml"/>
  <Override PartName="/ppt/slides/slide55.xml" ContentType="application/vnd.openxmlformats-officedocument.presentationml.slide+xml"/>
  <Override PartName="/ppt/slides/slide151.xml" ContentType="application/vnd.openxmlformats-officedocument.presentationml.slide+xml"/>
  <Override PartName="/ppt/slides/slide188.xml" ContentType="application/vnd.openxmlformats-officedocument.presentationml.slide+xml"/>
  <Override PartName="/ppt/slides/slide209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66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58.xml" ContentType="application/vnd.openxmlformats-officedocument.presentationml.slide+xml"/>
  <Override PartName="/ppt/slides/slide157.xml" ContentType="application/vnd.openxmlformats-officedocument.presentationml.slide+xml"/>
  <Override PartName="/ppt/slides/slide156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31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68.xml" ContentType="application/vnd.openxmlformats-officedocument.presentationml.slide+xml"/>
  <Override PartName="/ppt/slides/slide1.xml" ContentType="application/vnd.openxmlformats-officedocument.presentationml.slide+xml"/>
  <Override PartName="/ppt/slides/slide16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  <p:sldId id="408" r:id="rId155"/>
    <p:sldId id="409" r:id="rId156"/>
    <p:sldId id="410" r:id="rId157"/>
    <p:sldId id="411" r:id="rId158"/>
    <p:sldId id="412" r:id="rId159"/>
    <p:sldId id="413" r:id="rId160"/>
    <p:sldId id="414" r:id="rId161"/>
    <p:sldId id="415" r:id="rId162"/>
    <p:sldId id="416" r:id="rId163"/>
    <p:sldId id="417" r:id="rId164"/>
    <p:sldId id="418" r:id="rId165"/>
    <p:sldId id="419" r:id="rId166"/>
    <p:sldId id="420" r:id="rId167"/>
    <p:sldId id="421" r:id="rId168"/>
    <p:sldId id="422" r:id="rId169"/>
    <p:sldId id="423" r:id="rId170"/>
    <p:sldId id="424" r:id="rId171"/>
    <p:sldId id="425" r:id="rId172"/>
    <p:sldId id="426" r:id="rId173"/>
    <p:sldId id="427" r:id="rId174"/>
    <p:sldId id="428" r:id="rId175"/>
    <p:sldId id="429" r:id="rId176"/>
    <p:sldId id="430" r:id="rId177"/>
    <p:sldId id="431" r:id="rId178"/>
    <p:sldId id="432" r:id="rId179"/>
    <p:sldId id="433" r:id="rId180"/>
    <p:sldId id="434" r:id="rId181"/>
    <p:sldId id="435" r:id="rId182"/>
    <p:sldId id="436" r:id="rId183"/>
    <p:sldId id="437" r:id="rId184"/>
    <p:sldId id="438" r:id="rId185"/>
    <p:sldId id="439" r:id="rId186"/>
    <p:sldId id="440" r:id="rId187"/>
    <p:sldId id="441" r:id="rId188"/>
    <p:sldId id="442" r:id="rId189"/>
    <p:sldId id="443" r:id="rId190"/>
    <p:sldId id="444" r:id="rId191"/>
    <p:sldId id="445" r:id="rId192"/>
    <p:sldId id="446" r:id="rId193"/>
    <p:sldId id="447" r:id="rId194"/>
    <p:sldId id="448" r:id="rId195"/>
    <p:sldId id="449" r:id="rId196"/>
    <p:sldId id="450" r:id="rId197"/>
    <p:sldId id="451" r:id="rId198"/>
    <p:sldId id="452" r:id="rId199"/>
    <p:sldId id="453" r:id="rId200"/>
    <p:sldId id="454" r:id="rId201"/>
    <p:sldId id="455" r:id="rId202"/>
    <p:sldId id="456" r:id="rId203"/>
    <p:sldId id="457" r:id="rId204"/>
    <p:sldId id="458" r:id="rId205"/>
    <p:sldId id="459" r:id="rId206"/>
    <p:sldId id="460" r:id="rId207"/>
    <p:sldId id="461" r:id="rId208"/>
    <p:sldId id="462" r:id="rId209"/>
    <p:sldId id="463" r:id="rId210"/>
    <p:sldId id="464" r:id="rId211"/>
    <p:sldId id="465" r:id="rId212"/>
    <p:sldId id="466" r:id="rId2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slide" Target="slides/slide153.xml"/><Relationship Id="rId156" Type="http://schemas.openxmlformats.org/officeDocument/2006/relationships/slide" Target="slides/slide154.xml"/><Relationship Id="rId157" Type="http://schemas.openxmlformats.org/officeDocument/2006/relationships/slide" Target="slides/slide155.xml"/><Relationship Id="rId158" Type="http://schemas.openxmlformats.org/officeDocument/2006/relationships/slide" Target="slides/slide156.xml"/><Relationship Id="rId159" Type="http://schemas.openxmlformats.org/officeDocument/2006/relationships/slide" Target="slides/slide157.xml"/><Relationship Id="rId160" Type="http://schemas.openxmlformats.org/officeDocument/2006/relationships/slide" Target="slides/slide158.xml"/><Relationship Id="rId161" Type="http://schemas.openxmlformats.org/officeDocument/2006/relationships/slide" Target="slides/slide159.xml"/><Relationship Id="rId162" Type="http://schemas.openxmlformats.org/officeDocument/2006/relationships/slide" Target="slides/slide160.xml"/><Relationship Id="rId163" Type="http://schemas.openxmlformats.org/officeDocument/2006/relationships/slide" Target="slides/slide161.xml"/><Relationship Id="rId164" Type="http://schemas.openxmlformats.org/officeDocument/2006/relationships/slide" Target="slides/slide162.xml"/><Relationship Id="rId165" Type="http://schemas.openxmlformats.org/officeDocument/2006/relationships/slide" Target="slides/slide163.xml"/><Relationship Id="rId166" Type="http://schemas.openxmlformats.org/officeDocument/2006/relationships/slide" Target="slides/slide164.xml"/><Relationship Id="rId167" Type="http://schemas.openxmlformats.org/officeDocument/2006/relationships/slide" Target="slides/slide165.xml"/><Relationship Id="rId168" Type="http://schemas.openxmlformats.org/officeDocument/2006/relationships/slide" Target="slides/slide166.xml"/><Relationship Id="rId169" Type="http://schemas.openxmlformats.org/officeDocument/2006/relationships/slide" Target="slides/slide167.xml"/><Relationship Id="rId170" Type="http://schemas.openxmlformats.org/officeDocument/2006/relationships/slide" Target="slides/slide168.xml"/><Relationship Id="rId171" Type="http://schemas.openxmlformats.org/officeDocument/2006/relationships/slide" Target="slides/slide169.xml"/><Relationship Id="rId172" Type="http://schemas.openxmlformats.org/officeDocument/2006/relationships/slide" Target="slides/slide170.xml"/><Relationship Id="rId173" Type="http://schemas.openxmlformats.org/officeDocument/2006/relationships/slide" Target="slides/slide171.xml"/><Relationship Id="rId174" Type="http://schemas.openxmlformats.org/officeDocument/2006/relationships/slide" Target="slides/slide172.xml"/><Relationship Id="rId175" Type="http://schemas.openxmlformats.org/officeDocument/2006/relationships/slide" Target="slides/slide173.xml"/><Relationship Id="rId176" Type="http://schemas.openxmlformats.org/officeDocument/2006/relationships/slide" Target="slides/slide174.xml"/><Relationship Id="rId177" Type="http://schemas.openxmlformats.org/officeDocument/2006/relationships/slide" Target="slides/slide175.xml"/><Relationship Id="rId178" Type="http://schemas.openxmlformats.org/officeDocument/2006/relationships/slide" Target="slides/slide176.xml"/><Relationship Id="rId179" Type="http://schemas.openxmlformats.org/officeDocument/2006/relationships/slide" Target="slides/slide177.xml"/><Relationship Id="rId180" Type="http://schemas.openxmlformats.org/officeDocument/2006/relationships/slide" Target="slides/slide178.xml"/><Relationship Id="rId181" Type="http://schemas.openxmlformats.org/officeDocument/2006/relationships/slide" Target="slides/slide179.xml"/><Relationship Id="rId182" Type="http://schemas.openxmlformats.org/officeDocument/2006/relationships/slide" Target="slides/slide180.xml"/><Relationship Id="rId183" Type="http://schemas.openxmlformats.org/officeDocument/2006/relationships/slide" Target="slides/slide181.xml"/><Relationship Id="rId184" Type="http://schemas.openxmlformats.org/officeDocument/2006/relationships/slide" Target="slides/slide182.xml"/><Relationship Id="rId185" Type="http://schemas.openxmlformats.org/officeDocument/2006/relationships/slide" Target="slides/slide183.xml"/><Relationship Id="rId186" Type="http://schemas.openxmlformats.org/officeDocument/2006/relationships/slide" Target="slides/slide184.xml"/><Relationship Id="rId187" Type="http://schemas.openxmlformats.org/officeDocument/2006/relationships/slide" Target="slides/slide185.xml"/><Relationship Id="rId188" Type="http://schemas.openxmlformats.org/officeDocument/2006/relationships/slide" Target="slides/slide186.xml"/><Relationship Id="rId189" Type="http://schemas.openxmlformats.org/officeDocument/2006/relationships/slide" Target="slides/slide187.xml"/><Relationship Id="rId190" Type="http://schemas.openxmlformats.org/officeDocument/2006/relationships/slide" Target="slides/slide188.xml"/><Relationship Id="rId191" Type="http://schemas.openxmlformats.org/officeDocument/2006/relationships/slide" Target="slides/slide189.xml"/><Relationship Id="rId192" Type="http://schemas.openxmlformats.org/officeDocument/2006/relationships/slide" Target="slides/slide190.xml"/><Relationship Id="rId193" Type="http://schemas.openxmlformats.org/officeDocument/2006/relationships/slide" Target="slides/slide191.xml"/><Relationship Id="rId194" Type="http://schemas.openxmlformats.org/officeDocument/2006/relationships/slide" Target="slides/slide192.xml"/><Relationship Id="rId195" Type="http://schemas.openxmlformats.org/officeDocument/2006/relationships/slide" Target="slides/slide193.xml"/><Relationship Id="rId196" Type="http://schemas.openxmlformats.org/officeDocument/2006/relationships/slide" Target="slides/slide194.xml"/><Relationship Id="rId197" Type="http://schemas.openxmlformats.org/officeDocument/2006/relationships/slide" Target="slides/slide195.xml"/><Relationship Id="rId198" Type="http://schemas.openxmlformats.org/officeDocument/2006/relationships/slide" Target="slides/slide196.xml"/><Relationship Id="rId199" Type="http://schemas.openxmlformats.org/officeDocument/2006/relationships/slide" Target="slides/slide197.xml"/><Relationship Id="rId200" Type="http://schemas.openxmlformats.org/officeDocument/2006/relationships/slide" Target="slides/slide198.xml"/><Relationship Id="rId201" Type="http://schemas.openxmlformats.org/officeDocument/2006/relationships/slide" Target="slides/slide199.xml"/><Relationship Id="rId202" Type="http://schemas.openxmlformats.org/officeDocument/2006/relationships/slide" Target="slides/slide200.xml"/><Relationship Id="rId203" Type="http://schemas.openxmlformats.org/officeDocument/2006/relationships/slide" Target="slides/slide201.xml"/><Relationship Id="rId204" Type="http://schemas.openxmlformats.org/officeDocument/2006/relationships/slide" Target="slides/slide202.xml"/><Relationship Id="rId205" Type="http://schemas.openxmlformats.org/officeDocument/2006/relationships/slide" Target="slides/slide203.xml"/><Relationship Id="rId206" Type="http://schemas.openxmlformats.org/officeDocument/2006/relationships/slide" Target="slides/slide204.xml"/><Relationship Id="rId207" Type="http://schemas.openxmlformats.org/officeDocument/2006/relationships/slide" Target="slides/slide205.xml"/><Relationship Id="rId208" Type="http://schemas.openxmlformats.org/officeDocument/2006/relationships/slide" Target="slides/slide206.xml"/><Relationship Id="rId209" Type="http://schemas.openxmlformats.org/officeDocument/2006/relationships/slide" Target="slides/slide207.xml"/><Relationship Id="rId210" Type="http://schemas.openxmlformats.org/officeDocument/2006/relationships/slide" Target="slides/slide208.xml"/><Relationship Id="rId211" Type="http://schemas.openxmlformats.org/officeDocument/2006/relationships/slide" Target="slides/slide209.xml"/><Relationship Id="rId212" Type="http://schemas.openxmlformats.org/officeDocument/2006/relationships/slide" Target="slides/slide210.xml"/><Relationship Id="rId213" Type="http://schemas.openxmlformats.org/officeDocument/2006/relationships/slide" Target="slides/slide211.xml"/><Relationship Id="rId2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8BDD-B2D1-48F9-AFD3-61632117D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D153-3092-4CAA-A22D-587657580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03A8-2EC8-4201-837B-155D4BA70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0D8A-925F-41AA-9628-DF4382C5C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06C7-15B7-4046-83D3-35F776A4A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BF59-FF93-4064-801D-7B34C3CF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EC46-118F-44C0-95A7-057B9105D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F788-ED16-4C1F-8187-4DC4893DA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9454-95F1-4F18-98D1-6D959D84A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54BE-69F8-40A9-9333-E1FC4B22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CFD2-14FB-4E14-9BD3-87C2F302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84E3-4688-4E2C-A7F9-815B5637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l-Arial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99"/>
                </a:solidFill>
                <a:latin typeface="Al-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l-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A37C2-681E-420E-939B-1326EF2608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Èå×ãcáäoÂB ãÌÇåcáäoÂB ãÐäÃÂB ãÈåtã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n the name of Alláh the Beneficent, the Merci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äÌáÇãQ á½áAEá§á® åSâxáW åÈáÂ áYå×á§å®áF åÉã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f You bestow, You stain not Your bestowal with obligatio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ÐãWáäkâÆ ã­Cá§ã»åÊB áÑ ãÐãXåºáÑ ãÅCáÇáW ákåËã® CáËáºánCá¶ åkáº áäÈâ[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Íãjáká® ãAEá¶áÑ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en it parted from us at the completion of its time, the end of its term, and the fulfillment of its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áËå×áÃá® âÐâºBáoã¶ áäqá® åÌáÆ á­BájáÑ âÍÒâ®ãäjáÒâÆ âÌådáËá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So we bid farewell to it with the farewell of one whose parting pains u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áäËá® âÐ¶Báoã|åÊB CáËáxácåÑáF áÑ CáËáäÇá²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whose leaving fills us with gloom and lonelines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©Òâ·ådáÇåÂB âÅCáÆãämÂB âÐáÂ CáËáÆãqáÂ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to whom we have come to owe a safeguarded claim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äUáä×ã®åoáÇåÂB âUáÆåoâdåÂ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 observed inviolabilit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äØã£å»áÇåÂB âä¼ádåÂ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a discharged r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oáRå¾áÛBB ãÐáäÃÂB áoåÏáw CáÖ áÀ×ãÃá® âÅáÚáätÂB áÉÒâÃãMEáº âÌådáËá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ÐãMEá×ãÂåÑáF ák×ã® CáÖ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We say: Peace be upon you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greatest month of God!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festival of His friend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VCáºåÑáÛBB áÌãÆ èPÒâdå|áÆ áÅáoå¾áF EáÖ áÀå×áÃá® âÅáÚáätÂ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VCá®CáätÂBáÑ ãÅCáäÖáÛBB Øã¶ èoåÏáw áoå×ág CáÖ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Peace be upon you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most noble of accompanying times!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best of months in days and hour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ÁCáÆåÝB ãÐ×ã¶ åYáQâoáº èoåÏáw åÌãÆ áÀå×áÃá® âÅáÚáätÂ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ÁCáÇå®áÛBB ãÐ×ã¶ åVáoãxâÊ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Peace be upon you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month in which expectations come near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good works are scattered abou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BæjÒâ_åÒáÆ âÍânåkáº áäÄá_ èÌÖãoáº åÌãÆ áÀå×áÃá® âÅáÚáätÂ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Peace be upon you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comrade who is great in worth when foun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æÖãäká¯áW áÀâ¯åËáÆ åÌâ¿áÖ åÈáÂ áYå¯ËáÆ åÉãH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if You withhold, You withhold not in transgress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ÐâºBáoã¶ áÈáÂD èäÒâ_åoáÆ áÑ BæjÒâ»å·áÆ âÍâkå»á¶ á°á`å¶áF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who torments through absence when lost, anticipated friend whose parting gives pai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äoátá¶ æÚãRå»âÆ áuáÊD è¸×ãÂáF åÌãÆ áÀå×áÃá® âÅáÚáätÂ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ä¤áÇá¶ Cá×ã£á»åËâÆ áyácåÑáF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Peace be upon you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familiar who brought comfort in coming, thus making happy, who left loneliness in going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us giving anguish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PÒâÃâ»åÂB ãÐ×ã¶ åYáäºán ènãÑCá`âÆ åÌãÆ áÀå×áÃá® âÅáÚáätÂ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PÒâÊâämÂB ãÐ×ã¶ åYáäÃáº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Peace be upon you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neighbour in whom hearts became tender and sins became few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ÉCá§å×áäxÂB ÔáÃá® áÉCá®áF èoã{CáÊ ÌãÆ áÀå×áÃá® âÅáÚáätÂ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ÉCátåcãåßB áÄâRâs áÄáäÏás èSãcCá{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Peace be upon you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helper who aided against Satan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companion who made easy the paths of good-do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×ã¶ ãÐáäÃÂB áAEá»áXâ® áoá\å¾áF EáÆ áÀå×áÃá® âÅáÚáätÂ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ãQ áÀáXáÆåoâc Ôá®án åÌáÆ áká¯åsáF EáÆ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Peace be upon you -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How many became freedmen of God within you!  How happy those who observed the respect due to you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PÒâÊâämÃãÂ á½CádåÆáF áÉCá¾ CáÆ áÀå×áÃá® âÅáÚáätÂ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PÒâ×â¯åÂB ã­BáÒåÊáãÛ á½áoáXåsáF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Peace be upon you -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How many sins you erased!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How many kinds of faults you covered ov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×ãÆãoå`âÇåÂB ÔáÃá® áÀáÂáÒå¦áF áÉCá¾ CáÆ áÀå×áÃá® âÅáÚáätÂ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×ãËãÆåKâÇåÂB ãnÑâkâ{ Øã¶ áÀáRá×åÎáF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Peace be upon you -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How drawn out were you for the sinners!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How awesome were you in the hearts of the faithfu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ÅCáäÖáÛBB âÐâtã¶CáËâW áÙ èoåÏáw åÌãÆ áÀå×áÃá® âÅáÚáätÂ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Peace be upon you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month with which no days compet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çÅáÚás èoåÆáF ãäÄâ¾ åÌãÆ áÒâÎ èoåÏáw åÌãÆ áÀå×áÃá® âÅáÚáätÂ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Peace be upon you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month which is peace in all affair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UátáQáÚâÇåÂB ãÈ×ãÆál áÙ áÑ ãUáRácCá|âÇåÂB ãÐÖãoá¾ áoå×á² áÀå×áÃá® âÅáÚáätÂ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Peace be upon you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you whose companionship is not disliked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you whose friendly mixing is not blame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½áoå¿âw âÐáXåÇáÏåÂáF áYåÊáF áÑ á½áoá¿w åÌáÆ âoâ¿åxá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You show gratitude to him who thanks, while You have inspired him to thank You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VCá¾áoáRåÂCãQ CáËå×áÃá® áVåká¶áÑ CáÇá¾ áÀå×áÃá® âÅáÚáätÂ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VCáN×ã§áhåÂB áuáÊáj CáäËá® áYåÃátá²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Peace be upon you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just as you have entered upon us with blessings and cleansed us of the defilement of offens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æÆáoáQ è­áäjáÒâÆ áoå×á² áÀå×áÃá® âÅáÚáätÂ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æÆáGás âÐâÆCá×ã{ è½ÑâoåXáÆ áÙ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Peace be upon you -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you are not bid farewell in annoyanc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nor is your fasting left in wearines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ÐãXåºáÑ áÄåRáº èPÒâÃå§áÆ åÌãÆ áÀå×áÃá® âÅáÚáätÂ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ÐãWåÒá¶ áÄåRáº ãÐå×áÃá® èÉÑâqådáÆ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Peace be upon you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bject of seeking before your time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bject of sorrow before your pass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áäËá® áÀãQ áµãoâ{ èAÒâs åÌãÆ åÈá¾ áÀå×áÃá® âÅáÚáätÂ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áËå×áÃá® áÀãQ á¤×ã¶âF èoå×ág åÌãÆ åÈá¾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Peace be upon you -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How much evil was turned away from us through you!  How much good flowed upon us because of you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çoå×ág áØãÎ Ø~ãXáäÂB ãnåká»åÂB ãUáÃå×áÂ ÔáÃá®áÑ áÀå×áÃá® âÅáÚáätÂ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oåÏáw ã¸åÂáF åÌã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Peace be upon you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upon the Night of Decree which is </a:t>
            </a: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better than a thousand months! </a:t>
            </a: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 (97: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å×áÃá® ãuåÆáÛBCãQ CáËá{áoåcáF áÉCá¾ CáÆ áÀå×áÃá® âÅáÚáätÂ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å×áÂãH Dæká² CáËáºåÒáw áäkáwáF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Peace be upon you -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How much we craved you yesterday!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How intensely we shall yearn for you tomorrow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ÍCáËåÆãoâc ÕãmáäÂB áÀãÃå£á¶ ÔáÃá®áÑ áÀå×áÃá® âÅáÚáätÂ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ÍCáËåRãÃâs áÀãWCá¾áoáQ åÌãÆ è¡CáÆ ÔáÃá®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Peace be upon you and upon your bounty which has now been made unlawful to us and upon your blessings gone by which have now been stripped away from u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ÐãQ CáËáXå¶áäoáw ÕãmáäÂB ãoåÏáäxÂB BámáÎ âÄåÎáF EáäÊãH áäÈ~âÏ~áäÃÂ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we are the people of this month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rough it You have ennobled 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ÐáXåºáÑ âAEá×ã»åwáÛBB áÄãÏá_ áÌ×ãc âÐáÂ áÀãäËáÇãQ CáËáXå»áä¶áÑ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given us success because of Your kindness, while the wretched are ignorant of its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ÐáÃå£á¶ åÈãÏãMEá»áxãÂ BÒâÆãoâc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Made unlawful to them is its bounty because of their wretchedn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½ákåÇác âÐáXåÇáäÃá® áYåÊáF áÑ á½ákãÇác åÌáÆ âOã¶Cá¿âW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You reward him who praises You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ough You have taught him Your prais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ÐãXá¶ãoå¯áÆ åÌãÆ ãÐãQ CáËáWåoá[D CáÆ âäØãÂáÑ áYåÊáF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You are the patron of the knowledge of it by which You have preferred u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ÐãXáäËâs åÌãÆ âÐáÂ CáËáXåÖákáÎ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its prescribed practices to which You have guided 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o×ã|å»áW ÔáÃá® âÐáÆCá×ãºáÑ âÐáÆCá×ã{ áÀã»×ã¶åÒáXãQ CáËå×áäÂáÒáW åkáº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We have undertaken, through Your giving success, its fasting and its standing in prayer, but with shortcoming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o×ã\á¾ åÌãÆ æÚ×ãÃáº ãÐ×ã¶ CáËåÖáäjáF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we have performed little of mu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TáAEásãåßCãQ BænBáoåºãH âkåÇádåÂB áÀáÃá¶ áäÈ~âÏ~áäÃÂ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so to You belongs praise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n admission of evil doing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Uá®Cá¢ãåßCãQ Cæ¶BáoãXå®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confession of negligenc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ÅákáäËÂB âkå»á® CáËãQÒâÃâº åÌãÆ áÀáÂ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to You belongs remorse firmly knitted in our heart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nBámãXå®ãÙB â¹åkã{ CáËãXáËãtåÂáF åÌãÆ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seeking of pardon sincerely uttered by our tong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¨Öãoå·áäXÂB áÌãÆ ãÐ×ã¶ CáËáQCá{F EáÆ ÔáÃá® CáÊåoâ_åGá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Reward us, in spite of the neglect that befell us in this month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Ð×ã¶ áPÒâ²åoáÇåÂB áÄå£á·åÂB ãÐãQ â½ãnåkáXåtáÊ Bæoå_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with a reward through which we may reach the bounty desired from i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ÐáXådá£á¶ áYåNãw åÒáÂ åÌáÆ ÔáÃá® âoâXåtáW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You cover him whom, if You willed, You would expos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Ðå×áÃá® ãzÑâoådáÇåÂB ãoågâämÂB ã­BáÒåÊáF åÌãÆ ãÐãQ â¡CáXå¯áÊ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win the varieties of its craved stor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ãä»ác åÌãÆ ãÐ×ã¶ CáÊåoáä|áº CáÆ ÔáÃá® á½ánåmâ® CáËáÂ åSã_åÑáF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Make incumbent upon us Your pardon for our falling short of Your right in this mon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ÄãRå»âÇåÂB áÉCá£áÆán ãoåÏáw åÌãÆ CáËÖãkåÖáF áÌå×áQ CáÆ CáÊãnCáÇå®áGãQ å´âÃåQ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make our lives which lie before us reach the coming month of Rama_á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ÍCáËáXå³áäÃáQ BálãIá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nce You have made us reach i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TájCáRã¯åÂB áÌãÆ âÐâÃåÎáF áYåÊáF EáÆ ãÁâÑCáËáW ÔáÃá® CáäËã®áGá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help us perform the worship of which You are worth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Uá®Cáä§ÂB áÌãÆ âÐâä»ãdáXåtáÖ CáÇãQ ãÅCá×ã»åÂB ÔáÂãH EáÊãäjáF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cause us to undertake the obedience which You deserv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ãä»ádãÂ Cæ¾ánáj âÉÒ¿áÖ CáÆ ãÄáÇá¯åÂB ãeãÂCá{ åÌãÆ CáËáÂ ãoå_áF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oåÎáäkÂB ãnÒâÏâw åÌãÆ ãÌåÖáoåÏáäxÂB Øã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grant us righteous works that we may fulfill Your right in these two months of the months of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ÈáÇáÂ åÌãÆ BámáÎ CáÊãoåÏáw Øã¶ ãÐãQ CáËåÇáÇåÂáF EáÆ áÑ áäÈ~âÏ~áäÃÂ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Èå[ãH åÑá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as for the small and large sins which we have committed in this our month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UáN×ã§ág åÌãÆ ãÐ×ã¶ CáËåRátáXå¾B áÑ èSåÊál åÌãÆ ãÐ×ã¶ CáËå¯áºBáÑ åÑá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e misdeeds into which we have fallen, and the offenses which we have ear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áËátâ·åÊáF ãÐ×ã¶ CáËåÇáÃáª èÉCá×åtãÊ ÔáÃá® åÑáF EáäËãÆ èkâäÇá¯áW ÔáÃá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purposefully or in forgetfulness, wronging ourselves there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ÐáXå¯áËáÆ áYåNãw åÒáÂ åÌáÆ ÔáÃá® âjÒâ`áW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You are generous toward him from whom, if You willed, You would withho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áÊãoå×á² åÌãÆ æUáÆåoâc ãÐãQ CáËå¿áÏáXåÊB ãÑá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r violating the respect due to other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ÐãÂD áÑ èkáäÇádâÆ ÔáÃá® ãäÄá|á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bless Muhammad and his Househol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½ãoåXãtãQ CáÊåoâXås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cover us over with Your covering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½ãÒå·á¯ãQ CáäËá® â¸å®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pardon us through Your pardoning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×ãXãÆCáäxÂB ãÌâ×å®áãÛ ãÐ×ã¶ CáËåRã|åËáW áÙ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place us not before the eyes of the gloaters because of tha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×ãËã®Cáä§ÂB áÌâtåÂáF ãÐ×ã¶ CáËå×áÃá® å¨âtåRáW áÙ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stretch not toward us the tongues of the defamer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áäËãÆ áVåoá¿åÊáF EáÇãÂ æTánCáä·á¾áÑ æUáä§ãc âÉÒâ¿áÖ CáÇãQ CáËåÃãÇå¯áXås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Ð×ã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employ us in that which will alleviate and expiate whatever You disapprove from us within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ká·åËáW áÙ Ø~ãXáäÂB áÀãXá¶åFáoã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rough Your clemency which does not run ou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}â»åËáÖ áÙ ÕãmáäÂB áÀãÃå£á¶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Your bounty which does not diminish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ÐãÂD áÑ èkáäÇádâÆ ÔáÃá® ãäÄá{ áäÈ~âÏ~áäÃÂ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hammad and his Househol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°åËáÇåÂBáÑ ãUád×ã£á·åÃãÂ áÀåËãÆ çÄåÎáF EáÇâÎáÚã¾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Both are worthy of Your exposure and withholding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áÊãoåÏáxãQ CáËáXáR×ã|âÆ åoâRå_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redress our being afflicted by our month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áÊãoå§ã¶áÑ CáÊãk×ã® ãÅåÒáÖ Øã¶ CáËáÂ å½ãnCáQ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bless us in this day of our festival and our fast-breaking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Òå·á¯ãÂ ãÐãRáÃå_áF EáËå×áÃá® áäoáÆ èÅåÒáÖ ãoå×ág åÌãÆ âÐåÃá¯å_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SåÊámãÂ âÍCádåÆáF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make it one of the best of days that have passed over us, the greatest in attracting Your pardon, and the most effacing toward sin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áÃá® CáÆ áÑ CáËãQÒâÊâl åÌãÆ áØã·ág CáÆ CáËáÂ åoã·å²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forgive us our sins, both the concealed and the public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áÊCáÖCá§ág åÌãÆ ãoåÏáäxÂB BámáÎ ãfáÚãtåÊCãQ CáËåháÃåsB áäÈ~âÏ~áäÃÂ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with the passing of this month make us pass forth from our offense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áËãWCáNãä×ás åÌãÆ ãÐã_ÑâoâhãQ CáËå_ãoågáF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with its departure make us depart from our evil deed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Ð×ã¶ CæÇåtãº åÈãÏãÂáqå_áF áÑ ãÐãQ ãÐãÃåÎáF ãká¯åsáF åÌãÆ CáËåÃá¯å_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ÐåËãÆ Cæä«ác åÈãÎãoá¶åÑáF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appoint us thereby among its most felicitous people, the most plentiful of them in portion, and the fullest of them in shar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ÐãXáÖCá®ãn áä¼ác ãoåÏáäxÂB BámáÎ áä¼ác Ôá®án åÌáÆáÑ áäÈ~âÏ~áäÃÂ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when any person observes this month as it should be observe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áÏã«å·ãc áä¼ác âÐáXáÆåoâc á¬ã·ác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safeguards its inviolability as it should be safeguarde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áÏãÆCá×ãº áä¼ác ãÍãjÑâkâdãQ áÅCáº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ttends to its bounds as they should be attended to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Äâä£á·áäXÂB ÔáÃá® áÀáÂCá¯á¶áF áYå×áËáQ áÀáäÊáF áoå×á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but You have founded Your acts upon gratuitous bount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áÏãWCá»âW áä¼ác âÐáQÒâÊâl Ôá»áäW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fears its misdeeds as they should be feare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ÐáÂ á½Cá¢ãn åYáRá_åÑáF èUáQåoâ»ãQ áÀå×áÂãH áPáäoá»áW åÑá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r seeks nearness to You with any act of nearness-seeking which makes incumbent upon him Your good plea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Ðå×áÃá® áÀáXáÇåcán åYá·á§á®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bends toward him Your merc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½ãkå_Ñ åÌãÆ âÐáÃå\ãÆ CáËáÂ åSáÏá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give to us the like [of that] from Your weal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ãÃå£á¶ åÌãÆ âÐá¶Cá¯å¢áF EáËã§å®áF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bestow it upon us in multiples through Your bount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¤×ã³áÖ áÙ áÀáÃå£á¶ áäÉãIá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for Your bounty does not diminish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¤×ã·áW åÄáQ â}â»åËáW áÙ áÀáËãMDáqág áäÉãH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Your treasuries do not decrease but overflow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ÔáËå·áW áÙ áÀãÊCátåcãH áÉãjCá¯áÆ áäÉãH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e mines of Your beneficence are not exhauste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áäËáÏâÇåÂB âAEá§á¯åÃáÂ á½áAEá§á® áäÉãH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Your bestowal is the bestowal full of deligh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ÐãÂD áÑ èkáäÇádâÆ ÔáÃá® ãäÄá{ áäÈ~âÏ~áäÃÂ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hammad and his Househol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pÑCá`áäXÂB ÔáÃá® áÀáWánåkâº áYåÖáoå_áF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channelled Your power into forbearanc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Ð×ã¶ áÀáÂ ákáäRá¯áW åÑáF âÐáÆCá{ åÌáÆ ãnÒâ_âF áÄå\ãÆ CáËáÂ åSâXå¾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UáÆCá×ã»åÂB ãÅåÒáÖ ÔáÂã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write for us the like of the wages of him who fasted in it or worshipped You within it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until the Day of Resurrec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áÊãoå§ã¶ ãÅåÒáÖ Øã¶ áÀå×áÂãH âPÒâXáÊ CáäÊãH áäÈ~âÏ~áäÃÂ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we repent to You in our day of fast-breaking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BænÑâoâsáÑ Bæk×ã® áÌ×ãËãÆåKâÇåÃãÂ âÐáXåÃá¯á_ ÕãmáäÂ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which You have appointed for the faithful a festival and a jo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BækáxáXådâÆáÑ Cæ¯áÇå`áÆ áÀãXáäÃãÆ ãÄåÎáãÛ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for the people of Your creed a time of assembly and gathering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ÍCáËåR~áÊåláF èSåÊál ãäÄâ¾ åÌã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from every misdeed we di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ÍCáËå·áÃåsáF èAÒâs åÑá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ll work we sent ahea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ÍCáÊåoáÇå¢áF èäoáw ãoã¦Cág åÑá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r evil thought we secretly conceive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SåÊál ÔáÂãH è­Òâ_ân ÔáÃá® ÕãÒá§åËáÖ áÙ åÌáÆ áUáQåÒá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e repentance of one who does not harbour a return to si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UáN×ã§ág Øã¶ CáÎákå¯áQ âjÒâ¯áÖ áÙ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who afterwards will not go back to offens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PCá×ãWånãÙBáÑ ãäÀáäxÂB áÌãÆ åYá|áÃág CæcÒâ|áÊ æUáQåÒá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 unswerving repentance rid of doubt and wave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ÈåÃãdåÂCãQ á½Cá|á® åÌáÆ áYå×áä»áÃáW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received him who disobeyed You with clemenc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áÏå×áÃá® CáËåXãäR~á[ áÑ CáäËá® á¡ånB áÑ CáäËãÆ CáÏåÃáäRá»áXá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So accept it from us, be pleased with us, and fix us within i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k×ã®áÒåÂB ãPCá»ã® áµåÒág CáËåºâpånB áäÈ~âÏ~áäÃÂ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provide us with fear of the threatened punishmen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jÒâ®åÒáÇåÂB ãPBáÒá[ á¹åÒáw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yearning for the promised rewar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ÐãQ á½Òâ®åkáÊ CáÆ áTáämáÂ ákã`áÊ ÔáäXá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so that we may find the pleasure of that for which we supplicate You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ÐåËãÆ á½âo×ã`áXåtáÊ CáÆ áUáQåGá¾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the sorrow of that from which we seek sanctuary in You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×ãQBáäÒáäXÂB áÌãÆ á½ákåËã® CáËåÃá¯å_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place us with You among the repenter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áXáäRádáÆ åÈâÏáÂ áYåRá_åÑáF áÌÖãmáäÂ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ose upon whom You have made Your love obliga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ãXá®Cá¦ áUá¯á_BáoâÆ åÈâÏåËãÆ áYåÃãRáº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from whom You have accepted the return to obeying You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×ãÂãjCá¯åÂB áÁákå®áF E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Most Just of the jus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æ¯×ãÇá_ CáËãËÖãj ãÄåÎFáÑ CáËãWCáÏáäÆâFáÑ CáËãMEáQD åÌá® åpáÑCá`áW áäÈ~âÏ~áäÃÂ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show forbearance toward our fathers and our mothers and all the people of our religio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  <a:ea typeface="Courier New"/>
              </a:rPr>
              <a:t>èkáäÇádâÆ ãÁB áÑ èkáäÇádâÆ ÔÃá® ãäÄá{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send Your blessings on Muhamm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the family of Muhamm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ÈåÃâä«ÂCãQ ãÐãtå·áËãÂ áká|áº åÌáÆ áYåÃáÏåÆáF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disregarded him who intended wrongdoing against himsel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UáÆCá×ã»åÂB ãÅåÒáÖ ÔáÂãH áoáRá² åÌáÆáÑ åÈâÏåËãÆ á¸áÃás åÌá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ose who have gone and those who will pass by, until the Day of Resurrec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ÐãÂD áÑ CáËãä×ãRáÊ èkáäÇádâÆ ÔáÃá® ãäÄá{ áäÈ~âÏ~áäÃÂ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our prophet Muhammad and his Househol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×ãQáäoá»âÇåÂB áÀãXá¿ãMáÚáÆ ÔáÃá® áYå×áäÃá{ CáÇá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s You have blessed Your angels brought nea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×ãÃásåoâÇåÂB áÀãMEá×ãRåÊáF ÔáÃá® áYå×áäÃá{ CáÇá¾ ãÐãÂD áÑ ãÐå×áÃá® ãäÄá{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bless him and his Household, as You have blessed Your prophets sent ou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×ãdãÂCáä|ÂB á½ãjCáRã® ÔáÃá® áYå×áäÃá{ CáÇá¾ ãÐãÂD áÑ ãÐå×áÃá® ãäÄá{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bless him and his Household, as You have blessed Your righteous servant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æTáÚá{ áÌ×ãÇáÂCá¯åÂB áäPán CáÖ áÀãÂál åÌãÆ Äá£å¶áF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áÏâXá¾áoáQ CáËâ³âÃåRá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- and better than that, O Lord of the worlds! - a blessing whose benediction will reach u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áÊâJEá®âj CáÏáÂ âPCá`áXåtâÖ áÑ CáÏâ¯å·áÊ CáËâÂCáËáÖ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whose benefit will attain to us, and through which our supplication may be grante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Ðå×áÂãH áSã²ân åÌáÆ âÅáoå¾áF áÀáäÊã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You are the most generous of those who are beseeche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Ðå×áÃá® áÄãä¾ÒâW åÌáÆ Ôá·å¾áF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e most sufficient of those in whom confidence is ha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ÐãÃå£á¶ åÌãÆ áÄãNâs åÌáÆ Ôá§å®áF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e most bestowing of those from whom bounty is aske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UáQCáÊãåßB ÔáÂãH áÀãWCáÊáGãQ åÈâÎâoã«åËáXtá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You await their turning back without ha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çoÖãkáº èAØáw ãäÄâ¾ ÔáÃá® áYåÊáF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</a:t>
            </a: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You are powerful over everything! </a:t>
            </a: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 (3:2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  <a:ea typeface="Courier New"/>
              </a:rPr>
              <a:t>èkáäÇádâÆ ãÁB áÑ èkáäÇádâÆ ÔÃá® ãäÄá{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send Your blessings on Muhamm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the family of Muhamm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UáQåÒáäXÂB ÔáÂãH åÈâÏáXáÃá_Cá¯âÆ â½âoåXáW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refrain from rushing them toward repentanc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åÈâÏâ¿ãÂCáÎ áÀå×áÃá® áÀãÃåÏáÖ áÚå×á¿ã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so that the perisher among them may not perish, because of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åÈâÏâä×ã»áw áÀãXáÇå¯ãËãQ Ôá»åxáÖ áÙ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the wretched may not be wretched through Your favou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Ðå×áÂãH ãnBámå®ãåßB ãÁÒâ¦ åÌá® áäÙã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but only after Your prolonged excusing him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Ðå×áÃá® ãUáä`âdåÂB ãµâjBáoáW ákå¯áQ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successive arguments against him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ÈÖãoá¾ CáÖ á½ãÒå·á® ÌãÆ CæÆáoá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s an act of generosity through Your pardon, O Generou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È×ãÃác CáÖ áÀã·å§á® åÌãÆ æTákãMEá®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an act of kindliness through Your tenderness, O Clemen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UáQåÒáäXÂB âÐáXå×áäÇásáÑ á½ãÒå·á® ÔáÂãH EæQCáQ á½ãjCáRã¯ãÂ áYådáXá¶ ÕãmáäÂB áYåÊá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t is You who have opened for Your servant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 door to Your pardon, which You have named ‘repentance’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ADáqá`åÂB Øã¶ âSá²åoáÖ áÙ åÌáÆ CáÖ áäÈ~âÏ~áäÃÂ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O He who desires no repayment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BÒâäÃã£áÖ áÚáNãÂ áÀã×åcáÑ åÌãÆ æÚ×ãÂáj ãPCáRåÂB áÀãÂál ÔáÃá® áYåÃá¯á_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âÇåsB ½ánCáRáW áYåÃâ»á¶ âÐåËá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You have placed upon that door a pointer from Your revelation, lest they stray from it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          You have said (blessed are Your names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oãä·á¿âÖ åÉáF åÈâ¿âäQán Ôátá® CæcÒâ|áÊ æUáQåÒáW ãÐáäÃÂB ÔáÂãH DáÒâQÒâ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åÈâ¿ãWCáNãä×ás åÈâ¿åËá®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Repent toward God with unswerving repentance! It may be that Your Lord will acquit of your evil de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nCáÏåÊáÛBB CáÏãXådáW åÌãÆ Õãoå`áW èVCáäËá_ åÈâ¿áÃãgåkâÖ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will admit you into gardens beneath which rivers flow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Ðá¯áÆ BÒâËáÆD áÌÖãmáäÂB áÑ áäØãRáäËÂB âÐáäÃÂB ÕãqåhâÖ áÙ áÅåÒ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upon the day when God will not degrade the Prophet and those who have faith along with him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åÈãÏãÊCáÇåÖáGãQáÑ âÈãÏÖãkåÖáF áÌå×áQ Ôá¯åtáÖ åÈâÎânÒâ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eir light running before them and on their right hand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EáËáÂ åoã·å²BáÑ CáÊánÒâÊ CáËáÂ åÈãÇåWáF EáËáäQán áÉÒâÂÒâ»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they say: ‘Our Lord, complete for us our light, and forgive u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çoÖãkáº èAØáw ãäÄâ¾ ÔáÃá® áÀáäÊã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Surely You art powerful over everything</a:t>
            </a: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.’ (66: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ÁãqåËáÇåÂB áÀãÂál áÁÒâgâj áÄá·å²áF åÌáÆ ânåmâ® CáÇá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What is the excuse of him who remains heedless of entering that ho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?ãÄ×ãÂáäkÂB ãUáÆCáºãH áÑ ãPCáRåÂB ãeåXá¶ ákå¯á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fter the opening of the door and the setting up of the point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½ãjCáRã¯ãÂ áÀãtå·áÊ ÔáÃá® ãÅåÒáätÂB Øã¶ áVåjãp ÕãmáäÂB áYåÊáF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t is You who have raised the price against Yourself to the advantage of Your servants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         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AEá§á¯åÂB ÔáÃá® âÅákåËáÖ áÙ åÌáÆ CáÖ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He who shows no remorse at bestowa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áÂ åÈÏãWáoá_CáXâÆ Øã¶ åÈâÏádåQãn âkÖãoâ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desiring their profit in their trade with You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åËãÆ ãTájCáÖãäqÂBáÑ áÀå×áÃá® ãTájCá¶ãÒåÂCãQ åÈâÎápåÒá¶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eir triumph through reaching You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their increase on account of You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Yå×áÂCá¯áW áÑ áÀâÇåsB á½ánCáRáW áYåÃâ»á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for You have said (blessed is Your Name and high are You exalted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áÏãÂCá\åÆáF âoåxá® âÐáÃá¶ ãUáËátádåÂCãQ áAEá_ åÌá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Whoso brings a good deed shall have ten the like of i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áÏáÃå\ãÆ áÙãH Óáqå`âÖ áÚá¶ ãUáNãä×áätÂCãQ áAEá_ åÌáÆ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whoso brings an evil deed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shall only be recompensed the like of it</a:t>
            </a: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 . (6:16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ÐáäÃÂB ãÄ×ãRás Øã¶ åÈâÏáÂBáÒåÆáF áÉÒâ»ã·åËâÖ áÌÖãmáäÂB âÄá\áÆ YåÃâº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ÄãQCáËás á°åRás åYáXáRåÊáF èUáäRác ãÄá\áÇá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You have said, ‘</a:t>
            </a: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e likeness of those who expend their wealth in the way of God is as the likeness of a grain of corn that sprouts seven ear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AEáxáÖ åÌáÇãÂ â¸ã®Cá£âÖ âÐáäÃÂB áÑ èUáäRác âUáMCãÆ èUáÃâRåËâs ãäÄâ¾ Øã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n every ear a hundred grains; so God multiplies unto whom He wills.’ </a:t>
            </a: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(2:26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æËátác Cæ¢åoáº áÐáäÃÂB â¡ãoå»âÖ ÕãmáäÂB Bál åÌáÆ YåÃâº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?æTáo×ã\á¾ Cæ¶Cá¯å¢áF âÐáÂ âÐá·ã®Cá£â×á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You have said, ‘</a:t>
            </a: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Who is he that will lend to God a good loan, and He will multiply it for him manifold?’ </a:t>
            </a: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 (2:24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¸×ã®Cá£áW åÌãÆ ãÉDåoâ»åÂB Øã¶ áäÌãÎãoãMEá«áÊ ÌãÆ áYåÂáqåÊáF EáÆ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VCáËátádåÂ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You have sent down in the Qur’án similar verses on the multiplying of good deed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ãRå×á² åÌãÆ áÀãÂåÒá»ãQ åÈâÏáXåÃáÂáj ÕãmáäÂB áYåÊáF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t is You who have pointed them through Your speech from Your Uns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ADáÒáätÂB ÔáÃá® âÍákåRá® âOã¶Cá¿âÖ áÙ åÌáÆ CáÖ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He who rewards not His servant tit for t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åÈâÏåËá® âÐáWåoáXás åÒáÂ CáÆ ÔáÃá® åÈâÏâä«ác ãÐ×ã¶ ÕãmáäÂB áÀãR×ã²åoáW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Your encouragement in which lies their good fortune toward that which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- had You covered it from them -    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åÈâÎânCá|åQáF âÐå¾ãnåkâW åÈá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eir eyes would not have perceive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åÈâÏâ®CáÇåsáF ãÐã¯áW åÈáÂ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eir ears would not have hear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åÈâÏâÆCáÎåÑáF âÐå»ádåÃáW åÈáÂ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their imaginations would not have graspe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ÉÑâoâ·å¿áW áÙ áÑ ØãÂ BÑâoâ¿åwB áÑ åÈâ¾åoâ¾åláF ØãÊÑâoâ¾ålB áYåÃâ»á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for You have said, ‘</a:t>
            </a: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Remember Me and I will remember you, be thankful to Me, and be you not thankless towards Me!’ </a:t>
            </a: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 (2:15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åÈâWåoá·á¾ åÌãNáÂáÑ åÈâ¿áäÊákÖãpáÙ åÈâWåoá¿áw åÌãNáÂ áYåÃâº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çkÖãkáxáÂ ØãQBámá® áäÉã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You have said, ‘</a:t>
            </a: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f you are thankful, surely I will increase you, but if you are thankless,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My chastisement is surely terrible.’ </a:t>
            </a: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 (14: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åÈâ¿áÂ åSã`áXåsáF ØãÊÒâ®åjB áYåÃâº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You have said, ‘</a:t>
            </a: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Supplicate Me and I will respond to you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ÈáäËáÏá_ áÉÒâÃâgåká×ás ØãWájCáRã® åÌá® áÉÑâoãRå¿áXåtáÖ áÌÖãmáäÂB áäÉã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ÖãoãgBáj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surely those who wax too proud to worship Me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shall enter Jahannam utterly abject</a:t>
            </a: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 .’ (40:6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BænCáRå¿ãXåsB âÐá¾åoáW áÑ æTájCáRã® á½áAEá®âj áYå×áäÇátá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Hence You have named supplicating You ‘worship’ and refraining from it ‘waxing proud’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ÖãoãgBáj áÈáäËáÏá_ áÁÒâgâj ãÐã¾åoáW ÔáÃá® áVåkáä®áÒáW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You have threatened that the refraining from it would yield entrance into </a:t>
            </a: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Jahannam</a:t>
            </a: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 in utter abj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çADákãXåQB áÀâXáäËã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Your kindness is a new beginning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ãäËáÇãQ á½Ñâoá¾ámá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So they remember You for Your kindnes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ãÃå£á·ãQ á½Ñâoá¿áw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ey thank You for Your bount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½ãoåÆáGãQ á½åÒá®áj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ey supplicate You by Your comman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½ãkÖãqáÇãÂ CæRáÃá¦ áÀáÂ BÒâºáäká|áW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they donate for You in order to seek Your increas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ãRá£á² åÌãÆ åÈâÏâWCá`áÊ åYáÊCá¾ CáÏ×ã¶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½Cá¢ãoãQ åÈâÎâpåÒá¶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n all this lies their deliverance from Your wrath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their triumph through Your good pleas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ÕãmáäÂB ãÄå\ãÆ ÔáÃá® ãÐãtå·áÊ åÌãÆ CæºÒâÃåháÆ ç¹ÒâÃåháÆ áäÁáj åÒáÂ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åËãÆ ½ájCáRã® ãÐå×áÃá® áYåÃáÂáj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Were any creature himself to direct another creature to the like of that to which You Yourself have directed Your servant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ÉCáËãXåÆãÙCãQ CæWÒâ¯åËáÆ áÑ ãÉCátåcãåßCãQ Cæ¶Òâ{åÒáÆ áÉCá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ÉCátãÂ ãäÄâ¿ãQ BæjÒâÇådáÆ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he would be described by beneficence, qualified by kindness, and praised by every tong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çSáÎåmáÆ á½ãkåÇác Øã¶ ákã_âÑ CáÆ âkåÇádåÂB áÀáÃá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So to You belongs praise as long as there is found a way to praise You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Ðå×áÂãH âµãoá|åËáÖ ÔæËå¯áÆ áÑ ãÐãQ âkáÇådâW ç¬å·áÂ ãkåÇádåÃãÂ Øã»áQ CáÆ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as long as there remains for praising words by which You may be praised and meanings which may be spent in praise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Äå£á·åÂB áÑ ãÉCátåcãåßCãQ ãÍãjCáRã® ÔáÂãH ákáäÇádáW åÌáÆ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He who shows Himself praiseworthy to His servants through beneficence and bount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çÄâä£á·áW á½âÒå·á®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Your pardon gratuitous bount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ÁåÒáä§ÂB áÑ ãäÌáÇåÂCãQ åÈâÎáoáÇá²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flooding them with kindness and graciousnes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áXáÇå¯ãÊ CáË×ã¶ Ôáxå¶áF Eá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How much of Your favour has been spread about among u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áXáäËãÆ CáËå×áÃá® á´áRåsáF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Your kindness lavished upon u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?á½ãäoãRãQ CáËáä|ágáF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Your goodness singled out for u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Yå×á·á§å{B ÕãmáäÂB áÀãËÖãkãÂ CáËáXåÖáká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You have guided us to Your religion which You have chose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Yå×á£áWånB Ø~ãXáäÂB áÀãXáäÃãÆ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Your creed with which You are please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YåÃáäÏás ÕãmáäÂB áÀãÃ×ãRás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Your path which You have made smooth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ãXáÆBáoá¾ ÔáÂãH áÁÒâ{âÒåÂB áÑ áÀåÖákáÂ áUá·åÂâäqÂB CáËáWåoáä|áQ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You have shown us proximity to You and arrival at Your generosity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ã¸ãMEáªáÒåÂB áÀåÃãW CáÖCá·á{ åÌãÆ áYåÃá¯á_ áYåÊáF áÑ áäÈ~âÏ~áäÃÂ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among the choicest of those duties         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¡Ñâoâ·åÂB áÀåÃãW ã}ãMEá|ág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the most special of those obligation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çÁåká® áÀâXáQÒâ»â®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Your punishment justic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nÒâÏâäxÂB ãoãMEás åÌãÆ âÐáXå|á|áXågB ÕãmáäÂB áÉCá£áÆán áoåÏá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You have appointed the month of Ramadan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which You have singled out from other month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nÒâÎâäkÂBáÑ ãUáËãÆåpáÛBB ã°×ãÇá_ åÌãÆ âÐáWåoáä×áháW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chosen from among all periods and era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áÇãQ ãUáËáätÂB ãVCáºåÑáF ãäÄâ¾ ÔáÃá® âÐáWåoá[D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nÒâäËÂBáÑ ãÉDåoâ»åÂB áÌãÆ ãÐ×ã¶ áYåÂáqåÊá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preferred over all times of the year through the Qur’án and the Light which You sent down within i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ÉCáÇÖãåßB áÌãÆ ãÐ×ã¶ áYå·á®Cá¢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e faith which You multiplied by means of i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ÅCá×ãä|ÂB áÌãÆ ãÐ×ã¶ áYå¢áoá¶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e fasting which You obligated therei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ÅCá×ã»åÂB áÌãÆ ãÐ×ã¶ áYåRáä²án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e standing in prayer which You encouraged at its tim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nåká»åÂB ãUáÃå×áÂ åÌãÆ ãÐ×ã¶ áYåÃáÃå_áF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the Night of Decree which You magnified therei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oåÏáw ã¸åÂáF åÌãÆ çoå×ág áØãÎ Ø~ãXáäÂ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e night which is </a:t>
            </a: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better than a thousand months. </a:t>
            </a: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(97: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ÈáÆâåÛB ãoãMEás ÔáÃá® ãÐãQ CáËáWåoá[D áäÈâ[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rough it You have preferred us over the other commun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ÄáÃãÇåÂB ãÄåÎáF áÉÑâj ãÐãÃå£á·ãQ CáËáXå×á·á§å{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through its excellence You have chosen us to the exclusion of the people of the cree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çTáoá×ãg á½âJEá£áº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Your decree a choice for the bes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ÍánCáÏáÊ á½ãoåÆáGãQ CáËåÇâ|á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We fasted by Your command in its dayligh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ÐáÃå×áÂ áÀãÊåÒá¯ãQ CáËåÇâº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we stood in prayer with Your help in its nigh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ãXáÇåcán åÌãÆ âÐáÂ CáËáXå¢áäoá® CáÇãÂ ãÐãÆCá×ãºáÑ ãÐãÆCá×ã|ãQ áÌ×ã¢ãäoá¯áXâ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presenting ourselves by its fasting and its standing to the mercy which You have held up before u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ãXáQåÒâ\áÆ åÌãÆ ãÐå×áÂãH EáËåRáäRátáW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we found through it the means to Your rew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å×áÂãH ãÐ×ã¶ áSã²ân CáÇãQ âAØãÃáÇåÂB áYåÊáF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You are full of what is sought from You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ãÃå£á¶ åÌãÆ áYåÃãNâs CáÇãQ âjBáÒá`åÂ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Munificent with what is asked of Your bount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áQåoâº áÁáÑCác åÌáÆ ÔáÂãH âSÖãoá»åÂ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near to him who strives for Your nearn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åÇác áÅCá»áÆ âoåÏáäxÂB BámáÎ CáË×ã¶ áÅCáºáF åkáº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is month stood among us in a standing place of prais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nÑâoåRáÆ áUáRådâ{ CáËáRãdá{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ccompanied us with the companionship of one approve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Bidding Farewell to the Month of Rama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Times New Roman"/>
              </a:rPr>
              <a:t>_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án</a:t>
            </a:r>
            <a:br>
              <a:rPr sz="3000"/>
            </a:b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Supplication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MS Mincho"/>
              </a:rPr>
              <a:t>#</a:t>
            </a:r>
            <a:r>
              <a:rPr b="1" lang="en-GB" sz="2000" spc="-1" strike="noStrike">
                <a:solidFill>
                  <a:srgbClr val="000099"/>
                </a:solidFill>
                <a:latin typeface="Al-Arial"/>
                <a:ea typeface="MS Mincho"/>
              </a:rPr>
              <a:t> 45 from Sahífa al-Kámilah</a:t>
            </a:r>
            <a:endParaRPr b="1" lang="en-US" sz="2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×ãÇáÂCá¯åÂB ãbCáQånáF áÄá£å¶áF EáËádáQånáF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profited us with the most excellent profit of the world’s creatu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17:49:06Z</dcterms:created>
  <dc:creator>Akil Karim</dc:creator>
  <dc:description/>
  <dc:language>en-US</dc:language>
  <cp:lastModifiedBy>name</cp:lastModifiedBy>
  <dcterms:modified xsi:type="dcterms:W3CDTF">2006-09-30T16:30:44Z</dcterms:modified>
  <cp:revision>136</cp:revision>
  <dc:subject/>
  <dc:title>Du`a for Bidding Farewell to Ramadan</dc:title>
</cp:coreProperties>
</file>