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26FF52D-4875-4C52-ABAF-0E6F3A4B565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4D3BB81-0092-4222-8F2D-839232B13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B5BEA007-0F06-4388-9043-E2C8F1901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E6710B7E-A7FC-4A89-8C31-6E2E95B7D21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4772B9-FFD0-41CF-89A5-851463760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F0C7D0-12BC-4392-BA24-33D968687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43404A5-8067-44E5-B214-E742398BF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sldNum" idx="2"/>
          </p:nvPr>
        </p:nvSpPr>
        <p:spPr/>
        <p:txBody>
          <a:bodyPr/>
          <a:p>
            <a:fld id="{FB1037B2-48DA-4A12-B867-4BD4F934C7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9283016-C607-4664-9E40-90C1E2D70F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0398DCB-3584-4AB2-A468-892FCFBFA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70C1A7B-7E34-44FA-8FA1-256218CA7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7340776-9E21-490C-B0EF-2AEDBEBD8BD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8F86A-0C6F-44BE-9B9D-EA5BD93475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
          <p:cNvSpPr/>
          <p:nvPr/>
        </p:nvSpPr>
        <p:spPr>
          <a:xfrm>
            <a:off x="0" y="6553080"/>
            <a:ext cx="9144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9"/>
                </a:solidFill>
                <a:latin typeface="Times New Roman"/>
                <a:ea typeface="Times New Roman"/>
              </a:rPr>
              <a:t>&lt;footer&gt;</a:t>
            </a:r>
            <a:endParaRPr b="0" lang="en-US" sz="1400" spc="-1" strike="noStrike">
              <a:solidFill>
                <a:srgbClr val="000000"/>
              </a:solidFill>
              <a:latin typeface="Arial"/>
            </a:endParaRPr>
          </a:p>
        </p:txBody>
      </p:sp>
      <p:sp>
        <p:nvSpPr>
          <p:cNvPr id="5"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99"/>
                </a:solidFill>
                <a:uFillTx/>
                <a:latin typeface="Times New Roman"/>
                <a:ea typeface="Times New Roman"/>
              </a:rPr>
              <a:t>Ziyarat Warith</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6320" y="698400"/>
            <a:ext cx="89154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Arial"/>
                <a:cs typeface="Traditional Arabic"/>
              </a:rPr>
              <a:t>اَلسَّلامُ عَلَيْكَ يا وارِثَ آدَمَ صَفْوَةِ اللهِ</a:t>
            </a:r>
            <a:r>
              <a:rPr b="1" lang="ar-SA" sz="5500" spc="-1" strike="noStrike">
                <a:solidFill>
                  <a:srgbClr val="000000"/>
                </a:solidFill>
                <a:latin typeface="Arial"/>
                <a:ea typeface="Traditional Arabic"/>
              </a:rPr>
              <a:t> </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Arial"/>
                <a:cs typeface="Traditional Arabic"/>
              </a:rPr>
              <a:t>اَلسَّلامُ عَلَيْكَ يا وارِثَ نُوح نَبِيِّ اللهِ</a:t>
            </a:r>
            <a:r>
              <a:rPr b="1" lang="ar-SA" sz="5500" spc="-1" strike="noStrike">
                <a:solidFill>
                  <a:srgbClr val="000000"/>
                </a:solidFill>
                <a:latin typeface="Arial"/>
                <a:ea typeface="Traditional Arabic"/>
              </a:rPr>
              <a:t> </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Arial"/>
                <a:cs typeface="Traditional Arabic"/>
              </a:rPr>
              <a:t>اَلسَّلامُ عَلَيْكَ يا وارِثَ اِبْراهيمَ خَليلِ اللهِ</a:t>
            </a:r>
            <a:r>
              <a:rPr b="1" lang="ar-SA" sz="5500" spc="-1" strike="noStrike">
                <a:solidFill>
                  <a:srgbClr val="000000"/>
                </a:solidFill>
                <a:latin typeface="Arial"/>
                <a:ea typeface="Traditional Arabic"/>
              </a:rPr>
              <a:t> </a:t>
            </a:r>
            <a:endParaRPr b="0" lang="en-US" sz="5500" spc="-1" strike="noStrike">
              <a:solidFill>
                <a:srgbClr val="000000"/>
              </a:solidFill>
              <a:latin typeface="Arial"/>
            </a:endParaRPr>
          </a:p>
        </p:txBody>
      </p:sp>
      <p:sp>
        <p:nvSpPr>
          <p:cNvPr id="43" name=""/>
          <p:cNvSpPr/>
          <p:nvPr/>
        </p:nvSpPr>
        <p:spPr>
          <a:xfrm>
            <a:off x="0" y="4114800"/>
            <a:ext cx="91440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rPr>
              <a:t>Peace be upon you, O inheritor of Adam, the choice of Alláh! Peace be upon you, O inheritor of Nu&lt;, the Prophet of Alláh! Peace be upon you, O inheritor of Ibráhím, the friend of Allá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76320" y="774720"/>
            <a:ext cx="8915400" cy="5121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Arial"/>
                <a:ea typeface="Traditional Arabic"/>
              </a:rPr>
              <a:t> </a:t>
            </a:r>
            <a:r>
              <a:rPr b="1" lang="ar-SA" sz="5500" spc="-1" strike="noStrike">
                <a:solidFill>
                  <a:srgbClr val="000000"/>
                </a:solidFill>
                <a:latin typeface="Arial"/>
                <a:cs typeface="Traditional Arabic"/>
              </a:rPr>
              <a:t>وَاُشْهِدُ اللهَ وَمَلائِكَتَهُ وَاَنْبِياءَهُ وَرُسُلَهُ</a:t>
            </a:r>
            <a:r>
              <a:rPr b="1" lang="ar-SA" sz="5500" spc="-1" strike="noStrike">
                <a:solidFill>
                  <a:srgbClr val="000000"/>
                </a:solidFill>
                <a:latin typeface="Arial"/>
                <a:ea typeface="Traditional Arabic"/>
              </a:rPr>
              <a:t> </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Arial"/>
                <a:cs typeface="Traditional Arabic"/>
              </a:rPr>
              <a:t>اَنّي بِكُمْ مُؤْمِنٌ وَبِاِيابِكُمْ مُوقِنٌ بِشَرايـِعِ ديني</a:t>
            </a:r>
            <a:r>
              <a:rPr b="1" lang="ar-SA" sz="5500" spc="-1" strike="noStrike">
                <a:solidFill>
                  <a:srgbClr val="000000"/>
                </a:solidFill>
                <a:latin typeface="Arial"/>
                <a:ea typeface="Traditional Arabic"/>
              </a:rPr>
              <a:t> </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Arial"/>
                <a:cs typeface="Traditional Arabic"/>
              </a:rPr>
              <a:t>وَخَواتيمِ عَمَلي</a:t>
            </a:r>
            <a:endParaRPr b="0" lang="en-US" sz="5500" spc="-1" strike="noStrike">
              <a:solidFill>
                <a:srgbClr val="000000"/>
              </a:solidFill>
              <a:latin typeface="Arial"/>
            </a:endParaRPr>
          </a:p>
        </p:txBody>
      </p:sp>
      <p:sp>
        <p:nvSpPr>
          <p:cNvPr id="61" name=""/>
          <p:cNvSpPr/>
          <p:nvPr/>
        </p:nvSpPr>
        <p:spPr>
          <a:xfrm>
            <a:off x="0" y="4130640"/>
            <a:ext cx="91440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rPr>
              <a:t>And I make Alláh, His Angels, His Prophets and His Messengers the witness that I believe in him and in his return and in the Laws of Alláh and in the consequences of human a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228600" y="1019160"/>
            <a:ext cx="89154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Arial"/>
                <a:cs typeface="Traditional Arabic"/>
              </a:rPr>
              <a:t>وَقَلْبي لِقَلْبِكُمْ سِلْمٌ</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Arial"/>
                <a:ea typeface="Traditional Arabic"/>
              </a:rPr>
              <a:t> </a:t>
            </a:r>
            <a:r>
              <a:rPr b="1" lang="ar-SA" sz="5500" spc="-1" strike="noStrike">
                <a:solidFill>
                  <a:srgbClr val="000000"/>
                </a:solidFill>
                <a:latin typeface="Arial"/>
                <a:cs typeface="Traditional Arabic"/>
              </a:rPr>
              <a:t>وَاَمْري لاَِمْرِكُمْ مُتَّبِـعٌ</a:t>
            </a:r>
            <a:r>
              <a:rPr b="1" lang="ar-SA" sz="5500" spc="-1" strike="noStrike">
                <a:solidFill>
                  <a:srgbClr val="000000"/>
                </a:solidFill>
                <a:latin typeface="Arial"/>
                <a:ea typeface="Traditional Arabic"/>
              </a:rPr>
              <a:t> </a:t>
            </a:r>
            <a:endParaRPr b="0" lang="en-US" sz="5500" spc="-1" strike="noStrike">
              <a:solidFill>
                <a:srgbClr val="000000"/>
              </a:solidFill>
              <a:latin typeface="Arial"/>
            </a:endParaRPr>
          </a:p>
        </p:txBody>
      </p:sp>
      <p:sp>
        <p:nvSpPr>
          <p:cNvPr id="63" name=""/>
          <p:cNvSpPr/>
          <p:nvPr/>
        </p:nvSpPr>
        <p:spPr>
          <a:xfrm>
            <a:off x="0" y="396252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rPr>
              <a:t>I sincerely submit to him and follow his command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228600" y="698400"/>
            <a:ext cx="89154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Arial"/>
                <a:cs typeface="Traditional Arabic"/>
              </a:rPr>
              <a:t>صَلَواتُ اللهِ عَلَيْكُمْ وَعَلى اَرْواحِكُمْ وَعَلى اَجْسادِكُمْ وَعَلى اَجْسامِكُمْ وَ عَلى شاهِدِكُمْ وَعَلى غائِبِكُمْ وَعَلى ظاهِرِكُمْ وَعَلى باطِنِكُمْ</a:t>
            </a:r>
            <a:endParaRPr b="0" lang="en-US" sz="5500" spc="-1" strike="noStrike">
              <a:solidFill>
                <a:srgbClr val="000000"/>
              </a:solidFill>
              <a:latin typeface="Arial"/>
            </a:endParaRPr>
          </a:p>
        </p:txBody>
      </p:sp>
      <p:sp>
        <p:nvSpPr>
          <p:cNvPr id="65" name=""/>
          <p:cNvSpPr/>
          <p:nvPr/>
        </p:nvSpPr>
        <p:spPr>
          <a:xfrm>
            <a:off x="0" y="3733920"/>
            <a:ext cx="914400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rPr>
              <a:t>May Alláh bless them and their souls and their bodies and what is visible and what is unseen and what is apparent and what is hidde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0" y="838080"/>
            <a:ext cx="9144000" cy="5121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Arial"/>
                <a:cs typeface="Traditional Arabic"/>
              </a:rPr>
              <a:t>بِاَبي اَنْتَ وَاُمّي يَا بْنَ رَسُولِ اللهِ بِاَبي اَنْتَ وَاُمّي يا اَبا عَبْدِاللهِ لَقَدْ عَظُمَتِ الرَّزِيَّةُ وَجَلَّتِ الْمُصيبَةُ بِكَ عَلَيْنا</a:t>
            </a:r>
            <a:endParaRPr b="0" lang="en-US" sz="5500" spc="-1" strike="noStrike">
              <a:solidFill>
                <a:srgbClr val="000000"/>
              </a:solidFill>
              <a:latin typeface="Arial"/>
            </a:endParaRPr>
          </a:p>
        </p:txBody>
      </p:sp>
      <p:sp>
        <p:nvSpPr>
          <p:cNvPr id="67" name=""/>
          <p:cNvSpPr/>
          <p:nvPr/>
        </p:nvSpPr>
        <p:spPr>
          <a:xfrm>
            <a:off x="0" y="3886200"/>
            <a:ext cx="91440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rPr>
              <a:t>My father and mother be sacrificed for you, O son of the Messenger of Alláh! My father and mother be sacrificed for you, O Aba Abdullah! Verily terrible was the calamity and your suffering casts gloom upon u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0" y="851040"/>
            <a:ext cx="9144000" cy="7132320"/>
          </a:xfrm>
          <a:prstGeom prst="rect">
            <a:avLst/>
          </a:prstGeom>
          <a:noFill/>
          <a:ln w="0">
            <a:noFill/>
          </a:ln>
        </p:spPr>
        <p:style>
          <a:lnRef idx="0"/>
          <a:fillRef idx="0"/>
          <a:effectRef idx="0"/>
          <a:fontRef idx="minor"/>
        </p:style>
        <p:txBody>
          <a:bodyPr lIns="90000" rIns="90000" tIns="46800" bIns="46800" anchor="t">
            <a:spAutoFit/>
          </a:bodyPr>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Arial"/>
                <a:cs typeface="Traditional Arabic"/>
              </a:rPr>
              <a:t>وَعَلى جَميعِ اَهْلِ السَّماواتِ وَالاَْرْضِ فَلَعَنَ اللهُ اُمَّةً اَسْرَجَتْ وَاَلْجَمَتْ وَتَهَيَّأَتْ لِقِتالِكَ يا مَوْلايَ يا اَبا عَبْدِاللهِ قَصَدْتُ حَرَمَكَ</a:t>
            </a:r>
            <a:r>
              <a:rPr b="1" lang="en-GB" sz="5500" spc="-1" strike="noStrike">
                <a:solidFill>
                  <a:srgbClr val="000000"/>
                </a:solidFill>
                <a:latin typeface="Arial"/>
                <a:ea typeface="Traditional Arabic"/>
              </a:rPr>
              <a:t> </a:t>
            </a:r>
            <a:r>
              <a:rPr b="1" lang="ar-SA" sz="5500" spc="-1" strike="noStrike">
                <a:solidFill>
                  <a:srgbClr val="000000"/>
                </a:solidFill>
                <a:latin typeface="Arial"/>
                <a:cs typeface="Traditional Arabic"/>
              </a:rPr>
              <a:t>وَاَتَيْتُ اِلى مَشْهَدِكَ</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Arial"/>
            </a:endParaRPr>
          </a:p>
        </p:txBody>
      </p:sp>
      <p:sp>
        <p:nvSpPr>
          <p:cNvPr id="69" name=""/>
          <p:cNvSpPr/>
          <p:nvPr/>
        </p:nvSpPr>
        <p:spPr>
          <a:xfrm>
            <a:off x="0" y="3683160"/>
            <a:ext cx="91440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rPr>
              <a:t>And upon all the people of the heavens and the earth. Therefore, curse of Alláh be on the people who saddled up and gave rein to their horses and prepared to kill you. O my Master, O Aba Abdullah! I moved towards your sacred shrine and came to visit you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0" y="600120"/>
            <a:ext cx="9144000" cy="5121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Arial"/>
                <a:cs typeface="Traditional Arabic"/>
              </a:rPr>
              <a:t>اَسْألُ اللهَ بِالشَّأنِ الَّذي لَكَ عِنْدَهُ وَبِالَْمحَلِّ الَّذي لَكَ لَدَيْهِ اَنْ يُصَلِيَّ عَلى مُحَمَّد وَآلِ مُحَمَّد وَاَنْ يَجْعَلَني مَعَكُمْ فِي الدُّنْيا وَالاْخِرَةِ</a:t>
            </a:r>
            <a:r>
              <a:rPr b="1" lang="en-GB" sz="5500" spc="-1" strike="noStrike">
                <a:solidFill>
                  <a:srgbClr val="000000"/>
                </a:solidFill>
                <a:latin typeface="Arial"/>
                <a:ea typeface="Traditional Arabic"/>
              </a:rPr>
              <a:t> </a:t>
            </a:r>
            <a:endParaRPr b="0" lang="en-US" sz="5500" spc="-1" strike="noStrike">
              <a:solidFill>
                <a:srgbClr val="000000"/>
              </a:solidFill>
              <a:latin typeface="Arial"/>
            </a:endParaRPr>
          </a:p>
        </p:txBody>
      </p:sp>
      <p:sp>
        <p:nvSpPr>
          <p:cNvPr id="71" name=""/>
          <p:cNvSpPr/>
          <p:nvPr/>
        </p:nvSpPr>
        <p:spPr>
          <a:xfrm>
            <a:off x="0" y="3871800"/>
            <a:ext cx="91440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rPr>
              <a:t>I beseech Alláh by the status that you enjoy with Him and in the position that you enjoy with Him to send blessings on Mu&lt;ammad and on the children of Mu&lt;ammad and keep me with you in this world and in the Hereaft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609480"/>
            <a:ext cx="91440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Arial"/>
                <a:cs typeface="Traditional Arabic"/>
              </a:rPr>
              <a:t>اَلسَّلامُ عَلَيْكَ يَا بْنَ رَسُولِ اللهِ اَلسَّلامُ عَلَيْكَ يَا بْنَ نَبِيِّ اللهِ اَلسَّلامُ عَلَيْكَ يَا بْنَ اَميرِ الْمُؤْمِنينَ اَلسَّلامُ عَلَيْكَ يَا بْنَ الْحُسَيْنِ الشَّهيدِ</a:t>
            </a:r>
            <a:endParaRPr b="0" lang="en-US" sz="5500" spc="-1" strike="noStrike">
              <a:solidFill>
                <a:srgbClr val="000000"/>
              </a:solidFill>
              <a:latin typeface="Arial"/>
            </a:endParaRPr>
          </a:p>
        </p:txBody>
      </p:sp>
      <p:sp>
        <p:nvSpPr>
          <p:cNvPr id="73" name=""/>
          <p:cNvSpPr/>
          <p:nvPr/>
        </p:nvSpPr>
        <p:spPr>
          <a:xfrm>
            <a:off x="0" y="3657600"/>
            <a:ext cx="91440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rPr>
              <a:t>Peace be upon you, O son of the Messenger of Alláh. Peace be upon you, O son of the Prophet of Alláh. Peace be upon you, O son of Amír al-Mu’mineen (the commander of the believers). Peace be upon you, O son of al-\usayn the shaheed (marty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600120"/>
            <a:ext cx="9144000" cy="4115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Arial"/>
                <a:cs typeface="Traditional Arabic"/>
              </a:rPr>
              <a:t>اَلسَّلامُ عَلَيْكَ اَيُّهَا الشَّهيدُ اَلسَّلامُ عَلَيْكَ اَيُّهَا الْمَظْلُومُ وَابْنُ الْمَظْلُومِ لَعَنَ اللهُ اُمَّةً قَتَلَتْكَ</a:t>
            </a:r>
            <a:endParaRPr b="0" lang="en-US" sz="5500" spc="-1" strike="noStrike">
              <a:solidFill>
                <a:srgbClr val="000000"/>
              </a:solidFill>
              <a:latin typeface="Arial"/>
            </a:endParaRPr>
          </a:p>
        </p:txBody>
      </p:sp>
      <p:sp>
        <p:nvSpPr>
          <p:cNvPr id="75" name=""/>
          <p:cNvSpPr/>
          <p:nvPr/>
        </p:nvSpPr>
        <p:spPr>
          <a:xfrm>
            <a:off x="0" y="3886200"/>
            <a:ext cx="914400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rPr>
              <a:t>Peace be upon you, O shaheed. Peace be upon you, O the wronged one and son of the wronged one. Curse of Alláh be on those who killed you.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0" y="942840"/>
            <a:ext cx="9144000" cy="31104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Arial"/>
                <a:cs typeface="Traditional Arabic"/>
              </a:rPr>
              <a:t>وَلَعَنَ اللهُ اُمَّةً ظَلَمَتْكَ وَلَعَنَ اللهُ اُمَّةً سَمِعَتْ بِذلِكَ فَرَضَيِتْ بِهِ</a:t>
            </a:r>
            <a:r>
              <a:rPr b="1" lang="en-GB" sz="5500" spc="-1" strike="noStrike">
                <a:solidFill>
                  <a:srgbClr val="000000"/>
                </a:solidFill>
                <a:latin typeface="Arial"/>
                <a:ea typeface="Traditional Arabic"/>
              </a:rPr>
              <a:t>  </a:t>
            </a:r>
            <a:endParaRPr b="0" lang="en-US" sz="5500" spc="-1" strike="noStrike">
              <a:solidFill>
                <a:srgbClr val="000000"/>
              </a:solidFill>
              <a:latin typeface="Arial"/>
            </a:endParaRPr>
          </a:p>
        </p:txBody>
      </p:sp>
      <p:sp>
        <p:nvSpPr>
          <p:cNvPr id="77" name=""/>
          <p:cNvSpPr/>
          <p:nvPr/>
        </p:nvSpPr>
        <p:spPr>
          <a:xfrm>
            <a:off x="0" y="3657600"/>
            <a:ext cx="9144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rPr>
              <a:t>Curse of Alláh be on those who persecuted you. Curse of Alláh be on those who heard this even but rested satisfi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560520"/>
            <a:ext cx="9144000" cy="5121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Arial"/>
                <a:cs typeface="Traditional Arabic"/>
              </a:rPr>
              <a:t>اَلسَّلامُ عَلَيْكُمْ يا اَوْلِياءَ اللهِ وَاَحِبّائَهُ اَلسَّلامُ عَلَيْكُمْ يا اَصْفِياءَ اللهِ وَاَوِدّاءَهُ اَلسَّلامُ عَلَيْكُمْ يا اَنْصارَ دينِ اللهِ</a:t>
            </a:r>
            <a:endParaRPr b="0" lang="en-US" sz="5500" spc="-1" strike="noStrike">
              <a:solidFill>
                <a:srgbClr val="000000"/>
              </a:solidFill>
              <a:latin typeface="Arial"/>
            </a:endParaRPr>
          </a:p>
        </p:txBody>
      </p:sp>
      <p:sp>
        <p:nvSpPr>
          <p:cNvPr id="79" name=""/>
          <p:cNvSpPr/>
          <p:nvPr/>
        </p:nvSpPr>
        <p:spPr>
          <a:xfrm>
            <a:off x="76320" y="4024440"/>
            <a:ext cx="89154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rPr>
              <a:t>Peace be upon all of you, O the saints and dears of Alláh. Peace be upon all of you, O the adorers of Alláh and the sincerely attached to Him. Peace be upon all of you, O the helpers of Alláh’s relig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76320" y="698400"/>
            <a:ext cx="89154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Arial"/>
                <a:cs typeface="Traditional Arabic"/>
              </a:rPr>
              <a:t>اَلسَّلامُ عَلَيْكَ يا وارِثَ مُوسى كَليمِ اللهِ</a:t>
            </a:r>
            <a:r>
              <a:rPr b="1" lang="ar-SA" sz="5500" spc="-1" strike="noStrike">
                <a:solidFill>
                  <a:srgbClr val="000000"/>
                </a:solidFill>
                <a:latin typeface="Arial"/>
                <a:ea typeface="Traditional Arabic"/>
              </a:rPr>
              <a:t> </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Arial"/>
                <a:cs typeface="Traditional Arabic"/>
              </a:rPr>
              <a:t>اَلسَّلامُ عَلَيْكَ يا وارِثَ عيسى رُوحِ اللهِ</a:t>
            </a:r>
            <a:r>
              <a:rPr b="1" lang="ar-SA" sz="5500" spc="-1" strike="noStrike">
                <a:solidFill>
                  <a:srgbClr val="000000"/>
                </a:solidFill>
                <a:latin typeface="Arial"/>
                <a:ea typeface="Traditional Arabic"/>
              </a:rPr>
              <a:t> </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Arial"/>
                <a:cs typeface="Traditional Arabic"/>
              </a:rPr>
              <a:t>اَلسَّلامُ عَلَيْكَ يا وارِثَ مُحَمَّد حَبيبِ اللهِ</a:t>
            </a:r>
            <a:r>
              <a:rPr b="1" lang="ar-SA" sz="5500" spc="-1" strike="noStrike">
                <a:solidFill>
                  <a:srgbClr val="000000"/>
                </a:solidFill>
                <a:latin typeface="Arial"/>
                <a:ea typeface="Traditional Arabic"/>
              </a:rPr>
              <a:t> </a:t>
            </a:r>
            <a:endParaRPr b="0" lang="en-US" sz="5500" spc="-1" strike="noStrike">
              <a:solidFill>
                <a:srgbClr val="000000"/>
              </a:solidFill>
              <a:latin typeface="Arial"/>
            </a:endParaRPr>
          </a:p>
        </p:txBody>
      </p:sp>
      <p:sp>
        <p:nvSpPr>
          <p:cNvPr id="45" name=""/>
          <p:cNvSpPr/>
          <p:nvPr/>
        </p:nvSpPr>
        <p:spPr>
          <a:xfrm>
            <a:off x="0" y="4100400"/>
            <a:ext cx="91440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rPr>
              <a:t>Peace be upon you, O inheritor of Músa, who conversed with Alláh! Peace be upon you, O inheritor of ISa, the Holy Spirit of Alláh, Peace be upon you, O inheritor of Mu&lt;ammad, the most Beloved of Allá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0" y="636480"/>
            <a:ext cx="91440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Arial"/>
                <a:cs typeface="Traditional Arabic"/>
              </a:rPr>
              <a:t>اَلسَّلامُ عَلَيْكُمْ يا اَنْصارَ رَسُولِ اللهِ اَلسَّلامُ عَلَيْكُمْ يا اَنْصارَ اَميرِ الْمُؤْمِنينَ اَلسَّلامُ عَلَيْكُمْ يا اَنْصارَ فاطِمَةَ سَيِّدَةِ نِساءِ الْعالَمينَ</a:t>
            </a:r>
            <a:endParaRPr b="0" lang="en-US" sz="5500" spc="-1" strike="noStrike">
              <a:solidFill>
                <a:srgbClr val="000000"/>
              </a:solidFill>
              <a:latin typeface="Arial"/>
            </a:endParaRPr>
          </a:p>
        </p:txBody>
      </p:sp>
      <p:sp>
        <p:nvSpPr>
          <p:cNvPr id="81" name=""/>
          <p:cNvSpPr/>
          <p:nvPr/>
        </p:nvSpPr>
        <p:spPr>
          <a:xfrm>
            <a:off x="0" y="3871800"/>
            <a:ext cx="91440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rPr>
              <a:t>Peace be upon all of you, O the helpers of the Messenger of Alláh. Peace be upon all of you, O the helpers of Amír al-Mu’mineen. Peace be upon all of you, O the helpers of Fá&gt;imah the chiefess of the women of this wor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560520"/>
            <a:ext cx="9144000" cy="4115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Arial"/>
                <a:cs typeface="Traditional Arabic"/>
              </a:rPr>
              <a:t>اَلسَّلامُ عَلَيْكُمْ يا اَنْصارَ أَبي مُحَمَّد الْحَسَنِ بْنِ عَلِيِّ الْوَلِيِّ النّاصِحِ اَلسَّلامُ عَلَيْكُمْ يا اَنْصارَ اَبي عَبْدِاللهِ</a:t>
            </a:r>
            <a:endParaRPr b="0" lang="en-US" sz="5500" spc="-1" strike="noStrike">
              <a:solidFill>
                <a:srgbClr val="000000"/>
              </a:solidFill>
              <a:latin typeface="Arial"/>
            </a:endParaRPr>
          </a:p>
        </p:txBody>
      </p:sp>
      <p:sp>
        <p:nvSpPr>
          <p:cNvPr id="83" name=""/>
          <p:cNvSpPr/>
          <p:nvPr/>
        </p:nvSpPr>
        <p:spPr>
          <a:xfrm>
            <a:off x="0" y="3978360"/>
            <a:ext cx="91440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rPr>
              <a:t>Peace be upon all of you, O the helpers of the grandson of Mu&lt;ammad al-Hasan ibn 'Alí The sincere, pure and faithful saint. Peace be upon all of you, O the helpers of Abú Abdulla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636480"/>
            <a:ext cx="9144000" cy="5121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Arial"/>
                <a:cs typeface="Traditional Arabic"/>
              </a:rPr>
              <a:t>بِاَبي اَنْتُمْ وَاُمّي طِبْتُمْ وَطابَتِ الاَْرْضُ الَّتي فيها دُفِنْتُمْ وَفُزْتُمْ فَوْزاً عَظيماً فَيا لَيْتَني كُنْتُ مَعَكُمْ فَاَفُوزَ مَعَكُمْ</a:t>
            </a:r>
            <a:endParaRPr b="0" lang="en-US" sz="5500" spc="-1" strike="noStrike">
              <a:solidFill>
                <a:srgbClr val="000000"/>
              </a:solidFill>
              <a:latin typeface="Arial"/>
            </a:endParaRPr>
          </a:p>
        </p:txBody>
      </p:sp>
      <p:sp>
        <p:nvSpPr>
          <p:cNvPr id="85" name=""/>
          <p:cNvSpPr/>
          <p:nvPr/>
        </p:nvSpPr>
        <p:spPr>
          <a:xfrm>
            <a:off x="0" y="3537000"/>
            <a:ext cx="914400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rPr>
              <a:t>My father and mother be sacrificed for you. Verily, you were pure; therefore, the land wherein you are buried has been purified. You also attained your end and won great fortune. Would that we were with you so that we could also share the accomplishment with you.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0" y="685800"/>
            <a:ext cx="9144000" cy="81378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Arial"/>
                <a:cs typeface="Traditional Arabic"/>
              </a:rPr>
              <a:t>اَلسَّلامُ عَلَيْكَ يا اَبَا الْفَضْلِ الْعَبّاسَ ابْنَ اَميرِ الْمُؤْمِنينَ اَلسَّلامُ عَلَيْكَ يَا بْنَ سَيِّدِ الْوَصِيّينَ اَلسَّلامُ عَلَيْكَ يَا بْنَ اَوَّلِ الْقَوْمِ اِسْلاماً وَاَقْدَمِهِمْ ايماناً وَاَقْوَمِهِمْ بِدينِ اللهِ وَاَحْوَطِهِمْ عَلَى الاِْسْلامِ</a:t>
            </a:r>
            <a:endParaRPr b="0" lang="en-US" sz="5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0" y="685800"/>
            <a:ext cx="9144000" cy="135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l-Arial"/>
                <a:cs typeface="Simplified Arabic"/>
              </a:rPr>
              <a:t>اَشْهَدُ لَقَدْ نَصَحْتَ للهِ وَلِرَسُولِهِ وَلاَِخيكَ فَنِعْمَ الاَْخُ الْمُواسي فَلَعَنَ اللهُ اُمَّةً قَتَلَتْكَ وَلَعَنَ اللهُ اُمَّةً ظَلَمَتْكَ وَلَعَنَ اللهُ اُمَّةً اسْتَحَلَّتْ مِنْكَ الَْمحارِمَ وَانْتَهَكَتْ حُرْمَةَ الاِْسْلامِ فَنِعْمَ الصّابِرُ الُْمجاهِدُ الُْمحامِي النّاصِرُ وَالاَْخُ الدّافِعُ عَنْ اَخيهِ الُْمجيبُ اِلى طاعَةِ رَبِّهِ الرّاغِبُ فيـما زَهِدَ فيهِ غَيْرُهُ مِنَ الثَّوابِ الْجَزيلِ وَالثَّناءِ الْجَميلِ وَاَلْحَقَكَ اللهُ بِدَرَجَةِ آبائِكَ فِي جَنّاتِ النَّعيمِ اَللّـهُمَّ اِنّي تَعَرَّضْتُ لِزِيارَةِ اَوْلِيائِكَ رَغْبَةً فِي ثَوابِكَ وَرَجاءً لِمَغْفِرَتِكَ وَجَزيلِ اِحْسانِكَ فَاَسْاَلُكَ اَنْ تُصَلِّيَ عَلى مُحَمَّد وَآلِهِ الطّاهِرينَ وَاَنْ تَجْعَلَ رِزْقي بِهِمْ دارّاً وَعَيْشي بِهِمْ قارّاً وَزِيارَتي بِهِمْ مَقْبُولَةً وَحَياتي بِهِمْ طَيِّبَةً وَاَدْرِجْني اِدْراجَ الْمُكْرَمينَ وَاجْعَلْني مِمَّنْ يَنْقَلِبُ مِنْ زِيارَةِ مَشاهِدِ اَحِبّائِكَ مُفْلِحاً مُنْجِحاً قَدِ اسْتَوْجَبَ غُفْرانَ الذُّنُوبِ وَسَتْرَ الْعُيُوبِ وَكَشْفَ الْكُرُوبِ اِنَّكَ اَهْلُ التَّقْوى وَاَهْلُ الْمَغْفِرَةِ</a:t>
            </a:r>
            <a:r>
              <a:rPr b="0" lang="en-GB" sz="4400" spc="-1" strike="noStrike">
                <a:solidFill>
                  <a:srgbClr val="000000"/>
                </a:solidFill>
                <a:latin typeface="Al-Arial"/>
                <a:ea typeface="Simplified Arabic"/>
              </a:rPr>
              <a:t> </a:t>
            </a:r>
            <a:r>
              <a:rPr b="0" lang="en-GB" sz="4400" spc="-1" strike="noStrike">
                <a:solidFill>
                  <a:srgbClr val="000000"/>
                </a:solidFill>
                <a:latin typeface="Al-Arial"/>
                <a:ea typeface="Simplified Arabic"/>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0" y="685800"/>
            <a:ext cx="9144000" cy="135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l-Arial"/>
                <a:cs typeface="Simplified Arabic"/>
              </a:rPr>
              <a:t>اَشْهَدُ لَقَدْ نَصَحْتَ للهِ وَلِرَسُولِهِ وَلاَِخيكَ فَنِعْمَ الاَْخُ الْمُواسي فَلَعَنَ اللهُ اُمَّةً قَتَلَتْكَ وَلَعَنَ اللهُ اُمَّةً ظَلَمَتْكَ وَلَعَنَ اللهُ اُمَّةً اسْتَحَلَّتْ مِنْكَ الَْمحارِمَ وَانْتَهَكَتْ حُرْمَةَ الاِْسْلامِ فَنِعْمَ الصّابِرُ الُْمجاهِدُ الُْمحامِي النّاصِرُ وَالاَْخُ الدّافِعُ عَنْ اَخيهِ الُْمجيبُ اِلى طاعَةِ رَبِّهِ الرّاغِبُ فيـما زَهِدَ فيهِ غَيْرُهُ مِنَ الثَّوابِ الْجَزيلِ وَالثَّناءِ الْجَميلِ وَاَلْحَقَكَ اللهُ بِدَرَجَةِ آبائِكَ فِي جَنّاتِ النَّعيمِ اَللّـهُمَّ اِنّي تَعَرَّضْتُ لِزِيارَةِ اَوْلِيائِكَ رَغْبَةً فِي ثَوابِكَ وَرَجاءً لِمَغْفِرَتِكَ وَجَزيلِ اِحْسانِكَ فَاَسْاَلُكَ اَنْ تُصَلِّيَ عَلى مُحَمَّد وَآلِهِ الطّاهِرينَ وَاَنْ تَجْعَلَ رِزْقي بِهِمْ دارّاً وَعَيْشي بِهِمْ قارّاً وَزِيارَتي بِهِمْ مَقْبُولَةً وَحَياتي بِهِمْ طَيِّبَةً وَاَدْرِجْني اِدْراجَ الْمُكْرَمينَ وَاجْعَلْني مِمَّنْ يَنْقَلِبُ مِنْ زِيارَةِ مَشاهِدِ اَحِبّائِكَ مُفْلِحاً مُنْجِحاً قَدِ اسْتَوْجَبَ غُفْرانَ الذُّنُوبِ وَسَتْرَ الْعُيُوبِ وَكَشْفَ الْكُرُوبِ اِنَّكَ اَهْلُ التَّقْوى وَاَهْلُ الْمَغْفِرَةِ</a:t>
            </a:r>
            <a:r>
              <a:rPr b="0" lang="en-GB" sz="4400" spc="-1" strike="noStrike">
                <a:solidFill>
                  <a:srgbClr val="000000"/>
                </a:solidFill>
                <a:latin typeface="Al-Arial"/>
                <a:ea typeface="Simplified Arabic"/>
              </a:rPr>
              <a:t> </a:t>
            </a:r>
            <a:r>
              <a:rPr b="0" lang="en-GB" sz="4400" spc="-1" strike="noStrike">
                <a:solidFill>
                  <a:srgbClr val="000000"/>
                </a:solidFill>
                <a:latin typeface="Al-Arial"/>
                <a:ea typeface="Simplified Arabic"/>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685800"/>
            <a:ext cx="9144000" cy="1685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l-Arial"/>
                <a:cs typeface="Simplified Arabic"/>
              </a:rPr>
              <a:t>اَلسَّلامُ عَلَيْكَ يا اَبَا الْفَضْلِ الْعَبّاسَ ابْنَ اَميرِ الْمُؤْمِنينَ اَلسَّلامُ عَلَيْكَ يَا بْنَ سَيِّدِ الْوَصِيّينَ اَلسَّلامُ عَلَيْكَ يَا بْنَ اَوَّلِ الْقَوْمِ اِسْلاماً وَاَقْدَمِهِمْ ايماناً وَاَقْوَمِهِمْ بِدينِ اللهِ وَاَحْوَطِهِمْ عَلَى الاِْسْلامِ اَشْهَدُ لَقَدْ نَصَحْتَ للهِ وَلِرَسُولِهِ وَلاَِخيكَ فَنِعْمَ الاَْخُ الْمُواسي فَلَعَنَ اللهُ اُمَّةً قَتَلَتْكَ وَلَعَنَ اللهُ اُمَّةً ظَلَمَتْكَ وَلَعَنَ اللهُ اُمَّةً اسْتَحَلَّتْ مِنْكَ الَْمحارِمَ وَانْتَهَكَتْ حُرْمَةَ الاِْسْلامِ فَنِعْمَ الصّابِرُ الُْمجاهِدُ الُْمحامِي النّاصِرُ وَالاَْخُ الدّافِعُ عَنْ اَخيهِ الُْمجيبُ اِلى طاعَةِ رَبِّهِ الرّاغِبُ فيـما زَهِدَ فيهِ غَيْرُهُ مِنَ الثَّوابِ الْجَزيلِ وَالثَّناءِ الْجَميلِ وَاَلْحَقَكَ اللهُ بِدَرَجَةِ آبائِكَ فِي جَنّاتِ النَّعيمِ اَللّـهُمَّ اِنّي تَعَرَّضْتُ لِزِيارَةِ اَوْلِيائِكَ رَغْبَةً فِي ثَوابِكَ وَرَجاءً لِمَغْفِرَتِكَ وَجَزيلِ اِحْسانِكَ فَاَسْاَلُكَ اَنْ تُصَلِّيَ عَلى مُحَمَّد وَآلِهِ الطّاهِرينَ وَاَنْ تَجْعَلَ رِزْقي بِهِمْ دارّاً وَعَيْشي بِهِمْ قارّاً وَزِيارَتي بِهِمْ مَقْبُولَةً وَحَياتي بِهِمْ طَيِّبَةً وَاَدْرِجْني اِدْراجَ الْمُكْرَمينَ وَاجْعَلْني مِمَّنْ يَنْقَلِبُ مِنْ زِيارَةِ مَشاهِدِ اَحِبّائِكَ مُفْلِحاً مُنْجِحاً قَدِ اسْتَوْجَبَ غُفْرانَ الذُّنُوبِ وَسَتْرَ الْعُيُوبِ وَكَشْفَ الْكُرُوبِ اِنَّكَ اَهْلُ التَّقْوى وَاَهْلُ الْمَغْفِرَةِ</a:t>
            </a:r>
            <a:r>
              <a:rPr b="0" lang="en-GB" sz="4400" spc="-1" strike="noStrike">
                <a:solidFill>
                  <a:srgbClr val="000000"/>
                </a:solidFill>
                <a:latin typeface="Al-Arial"/>
                <a:ea typeface="Simplified Arabic"/>
              </a:rPr>
              <a:t> </a:t>
            </a:r>
            <a:r>
              <a:rPr b="0" lang="en-GB" sz="4400" spc="-1" strike="noStrike">
                <a:solidFill>
                  <a:srgbClr val="000000"/>
                </a:solidFill>
                <a:latin typeface="Al-Arial"/>
                <a:ea typeface="Simplified Arabic"/>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6320" y="698400"/>
            <a:ext cx="899136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Arial"/>
                <a:cs typeface="Traditional Arabic"/>
              </a:rPr>
              <a:t>اَلسَّلامُ عَلَيْكَ يا وارِثَ اَميرِ الْمُؤْمِنينَ عَلَيْهِ</a:t>
            </a:r>
            <a:r>
              <a:rPr b="1" lang="ar-SA" sz="5500" spc="-1" strike="noStrike">
                <a:solidFill>
                  <a:srgbClr val="000000"/>
                </a:solidFill>
                <a:latin typeface="Arial"/>
                <a:ea typeface="Traditional Arabic"/>
              </a:rPr>
              <a:t> </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Arial"/>
                <a:cs typeface="Traditional Arabic"/>
              </a:rPr>
              <a:t>السَّلامُ اَلسَّلامُ عَلَيْكَ يَا بْنَ مُحَمَّد الْمُصْطَفى</a:t>
            </a:r>
            <a:r>
              <a:rPr b="1" lang="ar-SA" sz="5500" spc="-1" strike="noStrike">
                <a:solidFill>
                  <a:srgbClr val="000000"/>
                </a:solidFill>
                <a:latin typeface="Arial"/>
                <a:ea typeface="Traditional Arabic"/>
              </a:rPr>
              <a:t> </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Arial"/>
                <a:cs typeface="Traditional Arabic"/>
              </a:rPr>
              <a:t>اَلسَّلامُ عَلَيْكَ يَا بْنَ عَلِيِّ الْمُرْتَضى</a:t>
            </a:r>
            <a:endParaRPr b="0" lang="en-US" sz="5500" spc="-1" strike="noStrike">
              <a:solidFill>
                <a:srgbClr val="000000"/>
              </a:solidFill>
              <a:latin typeface="Arial"/>
            </a:endParaRPr>
          </a:p>
        </p:txBody>
      </p:sp>
      <p:sp>
        <p:nvSpPr>
          <p:cNvPr id="47" name=""/>
          <p:cNvSpPr/>
          <p:nvPr/>
        </p:nvSpPr>
        <p:spPr>
          <a:xfrm>
            <a:off x="0" y="4100400"/>
            <a:ext cx="91440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rPr>
              <a:t>Peace be upon you, O inheritor of 'Alí, the commander of the faithfuls and the vicegerent of Alláh! Peace be upon you, O son of Mu&lt;ammad Mustafa! Peace be upon you, O son of 'Alí, who Alláh was pleased to choo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76320" y="774720"/>
            <a:ext cx="89154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Arial"/>
                <a:cs typeface="Traditional Arabic"/>
              </a:rPr>
              <a:t>اَلسَّلامُ عَلَيْكَ يَا بْنَ فاطِمَةَ الزَّهْراءِ اَلسَّلامُ</a:t>
            </a:r>
            <a:r>
              <a:rPr b="1" lang="ar-SA" sz="5500" spc="-1" strike="noStrike">
                <a:solidFill>
                  <a:srgbClr val="000000"/>
                </a:solidFill>
                <a:latin typeface="Arial"/>
                <a:ea typeface="Traditional Arabic"/>
              </a:rPr>
              <a:t> </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Arial"/>
                <a:cs typeface="Traditional Arabic"/>
              </a:rPr>
              <a:t>عَلَيْكَ يَا بْنَ خَديجَةَ الْكُبْرى اَلسَّلامُ عَلَيْكَ</a:t>
            </a:r>
            <a:r>
              <a:rPr b="1" lang="ar-SA" sz="5500" spc="-1" strike="noStrike">
                <a:solidFill>
                  <a:srgbClr val="000000"/>
                </a:solidFill>
                <a:latin typeface="Arial"/>
                <a:ea typeface="Traditional Arabic"/>
              </a:rPr>
              <a:t> </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Arial"/>
                <a:cs typeface="Traditional Arabic"/>
              </a:rPr>
              <a:t>يا ثارَ اللهِ وَابْنَ ثارِهِ وَالْوِتْرَ الْمَوْتُورَ</a:t>
            </a:r>
            <a:endParaRPr b="0" lang="en-US" sz="5500" spc="-1" strike="noStrike">
              <a:solidFill>
                <a:srgbClr val="000000"/>
              </a:solidFill>
              <a:latin typeface="Arial"/>
            </a:endParaRPr>
          </a:p>
        </p:txBody>
      </p:sp>
      <p:sp>
        <p:nvSpPr>
          <p:cNvPr id="49" name=""/>
          <p:cNvSpPr/>
          <p:nvPr/>
        </p:nvSpPr>
        <p:spPr>
          <a:xfrm>
            <a:off x="0" y="4100400"/>
            <a:ext cx="91440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rPr>
              <a:t>Peace be upon you, O inheritor of Fá&gt;ima, the most exalted among the women of the world! Peace be upon you, O son of Khadija-tul-Kubra! Peace be upon you, O Martyr, for whose blood Alláh claims compens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76320" y="774720"/>
            <a:ext cx="89154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Arial"/>
                <a:cs typeface="Traditional Arabic"/>
              </a:rPr>
              <a:t>اَشْهَدُ اَنَّكَ قَدْ اَقَمْتَ الصَّلاةَ وَآتَيْتَ الزَّكاةَ</a:t>
            </a:r>
            <a:r>
              <a:rPr b="1" lang="ar-SA" sz="5500" spc="-1" strike="noStrike">
                <a:solidFill>
                  <a:srgbClr val="000000"/>
                </a:solidFill>
                <a:latin typeface="Arial"/>
                <a:ea typeface="Traditional Arabic"/>
              </a:rPr>
              <a:t> </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Arial"/>
                <a:cs typeface="Traditional Arabic"/>
              </a:rPr>
              <a:t>وَاَمَرْتَ بِالْمَعْرُوفِ وَنَهَيْتَ عَنْ الْمُنْكَرِ</a:t>
            </a:r>
            <a:r>
              <a:rPr b="1" lang="ar-SA" sz="5500" spc="-1" strike="noStrike">
                <a:solidFill>
                  <a:srgbClr val="000000"/>
                </a:solidFill>
                <a:latin typeface="Arial"/>
                <a:ea typeface="Traditional Arabic"/>
              </a:rPr>
              <a:t> </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Arial"/>
                <a:cs typeface="Traditional Arabic"/>
              </a:rPr>
              <a:t>وَاَطَعْتَ اللهَ وَرَسُولَهُ حَتّى اَتاكَ الْيَقينُ</a:t>
            </a:r>
            <a:endParaRPr b="0" lang="en-US" sz="5500" spc="-1" strike="noStrike">
              <a:solidFill>
                <a:srgbClr val="000000"/>
              </a:solidFill>
              <a:latin typeface="Arial"/>
            </a:endParaRPr>
          </a:p>
        </p:txBody>
      </p:sp>
      <p:sp>
        <p:nvSpPr>
          <p:cNvPr id="51" name=""/>
          <p:cNvSpPr/>
          <p:nvPr/>
        </p:nvSpPr>
        <p:spPr>
          <a:xfrm>
            <a:off x="0" y="4130640"/>
            <a:ext cx="91440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rPr>
              <a:t>I testify that you kept up the prayers and paid the poor rate and ordered good actions and forbade sinful actions and obeyed Alláh and his Messenger till the last brea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76320" y="774720"/>
            <a:ext cx="8915400" cy="5121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Arial"/>
                <a:cs typeface="Traditional Arabic"/>
              </a:rPr>
              <a:t>فَلَعَنَ اللهُ اُمَّةً قَتَلَتْكَ وَلَعَنَ اللهُ اُمَّةً ظَلَمَتْكَ</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Arial"/>
                <a:ea typeface="Traditional Arabic"/>
              </a:rPr>
              <a:t> </a:t>
            </a:r>
            <a:r>
              <a:rPr b="1" lang="ar-SA" sz="5500" spc="-1" strike="noStrike">
                <a:solidFill>
                  <a:srgbClr val="000000"/>
                </a:solidFill>
                <a:latin typeface="Arial"/>
                <a:cs typeface="Traditional Arabic"/>
              </a:rPr>
              <a:t>وَلَعَنَ اللهُ اُمَّةً سَمِعَتْ بِذلِكَ فَرَضِيَتْ بِهِ</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Arial"/>
                <a:ea typeface="Traditional Arabic"/>
              </a:rPr>
              <a:t> </a:t>
            </a:r>
            <a:r>
              <a:rPr b="1" lang="ar-SA" sz="5500" spc="-1" strike="noStrike">
                <a:solidFill>
                  <a:srgbClr val="000000"/>
                </a:solidFill>
                <a:latin typeface="Arial"/>
                <a:cs typeface="Traditional Arabic"/>
              </a:rPr>
              <a:t>يا مَوْلايَ يا اَبا عَبْدِاللهِ</a:t>
            </a:r>
            <a:r>
              <a:rPr b="1" lang="ar-SA" sz="5500" spc="-1" strike="noStrike">
                <a:solidFill>
                  <a:srgbClr val="000000"/>
                </a:solidFill>
                <a:latin typeface="Arial"/>
                <a:ea typeface="Traditional Arabic"/>
              </a:rPr>
              <a:t> </a:t>
            </a:r>
            <a:endParaRPr b="0" lang="en-US" sz="5500" spc="-1" strike="noStrike">
              <a:solidFill>
                <a:srgbClr val="000000"/>
              </a:solidFill>
              <a:latin typeface="Arial"/>
            </a:endParaRPr>
          </a:p>
        </p:txBody>
      </p:sp>
      <p:sp>
        <p:nvSpPr>
          <p:cNvPr id="53" name=""/>
          <p:cNvSpPr/>
          <p:nvPr/>
        </p:nvSpPr>
        <p:spPr>
          <a:xfrm>
            <a:off x="0" y="4024440"/>
            <a:ext cx="91440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rPr>
              <a:t>So, may Alláh curse the people who assassinated you, and may Alláh curse the people who oppressed you, and may Alláh curse the people who heard of it and were pleased with it. O my Master, O Aba Abdulla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76320" y="762120"/>
            <a:ext cx="89154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Arial"/>
                <a:cs typeface="Traditional Arabic"/>
              </a:rPr>
              <a:t>اَشْهَدُ اَنَّكَ كُنْتَ نُوراً فِي الاَْصْلابِ الشّامِخَةِ</a:t>
            </a:r>
            <a:r>
              <a:rPr b="1" lang="ar-SA" sz="5500" spc="-1" strike="noStrike">
                <a:solidFill>
                  <a:srgbClr val="000000"/>
                </a:solidFill>
                <a:latin typeface="Arial"/>
                <a:ea typeface="Traditional Arabic"/>
              </a:rPr>
              <a:t> </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Arial"/>
                <a:cs typeface="Traditional Arabic"/>
              </a:rPr>
              <a:t>وَالاَْرْحامِ الْمُطَهَّرَةِ لَمْ تُنَجِّسْكَ الْجاهِلِيَّةُ</a:t>
            </a:r>
            <a:r>
              <a:rPr b="1" lang="ar-SA" sz="5500" spc="-1" strike="noStrike">
                <a:solidFill>
                  <a:srgbClr val="000000"/>
                </a:solidFill>
                <a:latin typeface="Arial"/>
                <a:ea typeface="Traditional Arabic"/>
              </a:rPr>
              <a:t> </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Arial"/>
                <a:cs typeface="Traditional Arabic"/>
              </a:rPr>
              <a:t>بِاَنْجاسِها وَلَمْ تُلْبِسْكَ مِنْ مُدْلَهِمّاتِ ثِيابِها</a:t>
            </a:r>
            <a:r>
              <a:rPr b="1" lang="ar-SA" sz="5500" spc="-1" strike="noStrike">
                <a:solidFill>
                  <a:srgbClr val="000000"/>
                </a:solidFill>
                <a:latin typeface="Arial"/>
                <a:ea typeface="Traditional Arabic"/>
              </a:rPr>
              <a:t> </a:t>
            </a:r>
            <a:endParaRPr b="0" lang="en-US" sz="5500" spc="-1" strike="noStrike">
              <a:solidFill>
                <a:srgbClr val="000000"/>
              </a:solidFill>
              <a:latin typeface="Arial"/>
            </a:endParaRPr>
          </a:p>
        </p:txBody>
      </p:sp>
      <p:sp>
        <p:nvSpPr>
          <p:cNvPr id="55" name=""/>
          <p:cNvSpPr/>
          <p:nvPr/>
        </p:nvSpPr>
        <p:spPr>
          <a:xfrm>
            <a:off x="0" y="4130640"/>
            <a:ext cx="914400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rPr>
              <a:t>I bear witness that you were Light before and during conception. The impurities of the pre-Islamic age could not touch you, nor its uncleanliness affect you.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76320" y="774720"/>
            <a:ext cx="8915400" cy="5121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Arial"/>
                <a:cs typeface="Traditional Arabic"/>
              </a:rPr>
              <a:t>وَاَشْهَدُ اَنَّكَ مِنْ دَعائِمِ الدّينِ وَاَرْكانِ الْمُؤْمِنينَ</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Arial"/>
                <a:ea typeface="Traditional Arabic"/>
              </a:rPr>
              <a:t> </a:t>
            </a:r>
            <a:r>
              <a:rPr b="1" lang="ar-SA" sz="5500" spc="-1" strike="noStrike">
                <a:solidFill>
                  <a:srgbClr val="000000"/>
                </a:solidFill>
                <a:latin typeface="Arial"/>
                <a:cs typeface="Traditional Arabic"/>
              </a:rPr>
              <a:t>وَاَشْهَدُ اَنَّكَ الاِْمامُ الْبَرُّ التَّقِيُّ الرَّضِيُّ</a:t>
            </a:r>
            <a:r>
              <a:rPr b="1" lang="ar-SA" sz="5500" spc="-1" strike="noStrike">
                <a:solidFill>
                  <a:srgbClr val="000000"/>
                </a:solidFill>
                <a:latin typeface="Arial"/>
                <a:ea typeface="Traditional Arabic"/>
              </a:rPr>
              <a:t> </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Arial"/>
                <a:cs typeface="Traditional Arabic"/>
              </a:rPr>
              <a:t>الزَّكِيُّ الْهادِي الْمَهْدِىُّ</a:t>
            </a:r>
            <a:endParaRPr b="0" lang="en-US" sz="5500" spc="-1" strike="noStrike">
              <a:solidFill>
                <a:srgbClr val="000000"/>
              </a:solidFill>
              <a:latin typeface="Arial"/>
            </a:endParaRPr>
          </a:p>
        </p:txBody>
      </p:sp>
      <p:sp>
        <p:nvSpPr>
          <p:cNvPr id="57" name=""/>
          <p:cNvSpPr/>
          <p:nvPr/>
        </p:nvSpPr>
        <p:spPr>
          <a:xfrm>
            <a:off x="0" y="3962520"/>
            <a:ext cx="91440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rPr>
              <a:t>I bear witness that verily, you are the pillar of our religion and the Leader of the faithfuls. And I bear witness that you are Imam, virtuous, guarded yourself against sin, pleased to resign to the will of Alláh, pure, guided aright and divinely guid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76320" y="774720"/>
            <a:ext cx="8915400" cy="5121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Arial"/>
                <a:cs typeface="Traditional Arabic"/>
              </a:rPr>
              <a:t>وَاَشْهَدُ اَنَّ الاَْئِّمَةَ مِنْ وُلْدِكَ كَلِمَةُ التَّقْوى</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Arial"/>
                <a:ea typeface="Traditional Arabic"/>
              </a:rPr>
              <a:t> </a:t>
            </a:r>
            <a:r>
              <a:rPr b="1" lang="ar-SA" sz="5500" spc="-1" strike="noStrike">
                <a:solidFill>
                  <a:srgbClr val="000000"/>
                </a:solidFill>
                <a:latin typeface="Arial"/>
                <a:cs typeface="Traditional Arabic"/>
              </a:rPr>
              <a:t>وَاَعْلامُ الْهُدى وَالْعُروَةُ الْوُثْقى</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Arial"/>
                <a:ea typeface="Traditional Arabic"/>
              </a:rPr>
              <a:t> </a:t>
            </a:r>
            <a:r>
              <a:rPr b="1" lang="ar-SA" sz="5500" spc="-1" strike="noStrike">
                <a:solidFill>
                  <a:srgbClr val="000000"/>
                </a:solidFill>
                <a:latin typeface="Arial"/>
                <a:cs typeface="Traditional Arabic"/>
              </a:rPr>
              <a:t>وَالْحُجَّةُ عَلى اَهْلِ الدُّنْيا</a:t>
            </a:r>
            <a:r>
              <a:rPr b="1" lang="ar-SA" sz="5500" spc="-1" strike="noStrike">
                <a:solidFill>
                  <a:srgbClr val="000000"/>
                </a:solidFill>
                <a:latin typeface="Arial"/>
                <a:ea typeface="Traditional Arabic"/>
              </a:rPr>
              <a:t> </a:t>
            </a:r>
            <a:endParaRPr b="0" lang="en-US" sz="5500" spc="-1" strike="noStrike">
              <a:solidFill>
                <a:srgbClr val="000000"/>
              </a:solidFill>
              <a:latin typeface="Arial"/>
            </a:endParaRPr>
          </a:p>
        </p:txBody>
      </p:sp>
      <p:sp>
        <p:nvSpPr>
          <p:cNvPr id="59" name=""/>
          <p:cNvSpPr/>
          <p:nvPr/>
        </p:nvSpPr>
        <p:spPr>
          <a:xfrm>
            <a:off x="0" y="4191120"/>
            <a:ext cx="91440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rPr>
              <a:t>And I bear witness that verily the Imams that are your Progeny are the essence of abstinence, the signs of guidance, the strong rope of religion and the proofs of Alláh for the people of the wor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1T15:26:43Z</dcterms:created>
  <dc:creator>Shia Ithnaâ€™ashari Community of Middlesex (Mahfil Ali)</dc:creator>
  <dc:description/>
  <dc:language>en-US</dc:language>
  <cp:lastModifiedBy>Kumail Versi</cp:lastModifiedBy>
  <dcterms:modified xsi:type="dcterms:W3CDTF">2007-10-06T15:15:04Z</dcterms:modified>
  <cp:revision>19</cp:revision>
  <dc:subject/>
  <dc:title>Slide 1</dc:title>
</cp:coreProperties>
</file>