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973C-BD7D-472A-AD8D-42380B49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85FE-2EBC-4DA9-81D6-C7A9852B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2A49-49FA-4094-84C3-14149335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8660-66E3-4ECD-BC5E-91ED68A1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5BF2-BF7B-4711-B49F-F3195D3C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916F-E2E0-490B-837D-AABB2D55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634A-EC02-4DFF-888A-73D1DFD7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25C6-0CEF-4704-98C5-D5B2B834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DCCA-648C-485A-92DB-EE06736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C18A-B2ED-4757-A4C7-E89E21E4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505B-AB6E-438C-B4CF-456A4D34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A31C-6FD4-44D4-834D-D2C96622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49AD-16AE-4623-AAB4-BCD133F79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04920" y="6400440"/>
            <a:ext cx="8534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Prepared by Tablígh Sub-Committee of ISIJ of Toronto and updated by SICM (Mahfil 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 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wCá¯áÆ ãnCáÏáäËÂB áÑ CæsCáRãÂ ãÄå×áäÂB áÄã®C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jCáWåÑáB ãÁCáRã`åÂB áÑ BæjCáÏãÆ ã¡åná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°å×ãÇás CáÖ âÐäÃÂáB CáÖ ânCáäRá_ CáÖ âÐäÃÂáB CáÖ âoãÎCá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made, the night a covering, and the day for seeking livelihood, and the earth a resting place, and the mountains as pegs. O Alláh, O the Subduer, O Alláh, O the Most Powerful, O Alláh, O All­Hear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Så×ã`âÆ CáÖ âÐäÃÂáB CáÖ âSåÖãoá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(One who is) Near, O Alláh, O (the One) who Answers, O Alláh, O Alláh, O Alláh, You have the most beautiful names, 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 and place my name, in this night, among the fortunate, 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 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 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evil deeds be forgiven. (And I beseech You to) grant me a certainty which gives joy to my heart, and a faith which drives doubt away from me, and make me pleased with what You have granted me. 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</a:t>
            </a:r>
            <a:r>
              <a:rPr b="1" i="1" lang="en-US" sz="3100" spc="-1" strike="noStrike">
                <a:solidFill>
                  <a:srgbClr val="000000"/>
                </a:solidFill>
                <a:latin typeface="Al-Arial"/>
                <a:ea typeface="MS Mincho"/>
              </a:rPr>
              <a:t>and good in the Hereafter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 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 for all that You have granted Mu&lt;ammad and his family, 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’sheri Community of Middlesex (Mahfil Ali)</dc:creator>
  <dc:description/>
  <dc:language>en-US</dc:language>
  <cp:lastModifiedBy>Kumail Versi</cp:lastModifiedBy>
  <dcterms:modified xsi:type="dcterms:W3CDTF">2007-09-13T15:47:05Z</dcterms:modified>
  <cp:revision>73</cp:revision>
  <dc:subject/>
  <dc:title>Du`a for 25th Night of Ramadan</dc:title>
</cp:coreProperties>
</file>