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A444CD-10AC-4661-A08F-D52C6B5C98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2326383-D058-4653-A21F-4B2FCDED5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BCE80DD-EAE8-4270-90AB-1DB23EF9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157AA40-E80F-4086-8879-1869401E931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3452E4F-47FD-41F4-8A19-07E7D476A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A9E7BA3-2416-44E3-B0CA-7169EC1E0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C4ADD29-F8DF-45DE-9AB7-21F60752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 name="PlaceHolder 2"/>
          <p:cNvSpPr>
            <a:spLocks noGrp="1"/>
          </p:cNvSpPr>
          <p:nvPr>
            <p:ph type="sldNum" idx="2"/>
          </p:nvPr>
        </p:nvSpPr>
        <p:spPr/>
        <p:txBody>
          <a:bodyPr/>
          <a:p>
            <a:fld id="{54806770-A1A8-48FA-81CE-B8DF1E92E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8463923-B693-4361-A5AE-259C6C4A0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DD75AFB-C449-42FF-9339-7D183D7CC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B55D367-03A2-46AA-8E33-24612EE55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2FF39E-9FC0-4BE1-B5D0-475B7469533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5A72-0D97-4C2D-8189-920509371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80880" y="6400800"/>
            <a:ext cx="8458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4" name=""/>
          <p:cNvSpPr/>
          <p:nvPr/>
        </p:nvSpPr>
        <p:spPr>
          <a:xfrm>
            <a:off x="22860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24</a:t>
            </a:r>
            <a:r>
              <a:rPr b="1" lang="en-GB" sz="3000" spc="-1" strike="noStrike" baseline="30000">
                <a:solidFill>
                  <a:srgbClr val="000099"/>
                </a:solidFill>
                <a:latin typeface="Al-Arial"/>
                <a:ea typeface="MS Mincho"/>
              </a:rPr>
              <a:t>th</a:t>
            </a:r>
            <a:r>
              <a:rPr b="1" lang="en-GB" sz="3000" spc="-1" strike="noStrike">
                <a:solidFill>
                  <a:srgbClr val="000099"/>
                </a:solidFill>
                <a:latin typeface="Al-Arial"/>
                <a:ea typeface="MS Mincho"/>
              </a:rPr>
              <a:t> Night of Rama_án</a:t>
            </a:r>
            <a:endParaRPr b="0" lang="en-US" sz="30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l-Arial"/>
              </a:rPr>
              <a:t>Click to edit the title text format</a:t>
            </a:r>
            <a:endParaRPr b="1" lang="en-US" sz="3000" spc="-1" strike="noStrike">
              <a:solidFill>
                <a:srgbClr val="cc0000"/>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413000"/>
            <a:ext cx="9144000" cy="4572000"/>
          </a:xfrm>
          <a:prstGeom prst="rect">
            <a:avLst/>
          </a:prstGeom>
          <a:noFill/>
          <a:ln w="0">
            <a:noFill/>
          </a:ln>
        </p:spPr>
        <p:txBody>
          <a:bodyPr lIns="90000" rIns="90000" tIns="46800" bIns="46800" anchor="t">
            <a:normAutofit fontScale="83000"/>
          </a:bodyPr>
          <a:p>
            <a:pPr marL="2844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844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2844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a:t>
            </a:r>
            <a:endParaRPr b="0" lang="en-US" sz="3200" spc="-1" strike="noStrike">
              <a:solidFill>
                <a:srgbClr val="000000"/>
              </a:solidFill>
              <a:latin typeface="Times New Roman"/>
            </a:endParaRPr>
          </a:p>
          <a:p>
            <a:pPr marL="284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bless Mu&lt;ammad and the family of Mu&lt;ammad.</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20240" y="782280"/>
            <a:ext cx="8915400" cy="5948280"/>
          </a:xfrm>
          <a:prstGeom prst="rect">
            <a:avLst/>
          </a:prstGeom>
          <a:noFill/>
          <a:ln w="0">
            <a:noFill/>
          </a:ln>
        </p:spPr>
        <p:txBody>
          <a:bodyPr lIns="90000" rIns="90000" tIns="46800" bIns="46800" anchor="t">
            <a:normAutofit fontScale="65000"/>
          </a:bodyPr>
          <a:p>
            <a:pPr marL="2228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uåÇáäxÂB áÑ CæËá¿ás ãÄå×áäÂB áÄã®Cá_ áÑ ãbCáRå{áÛB á¼ãÂCá¶ CáÖ</a:t>
            </a:r>
            <a:endParaRPr b="0" lang="en-US" sz="4400" spc="-1" strike="noStrike">
              <a:solidFill>
                <a:srgbClr val="000000"/>
              </a:solidFill>
              <a:latin typeface="Times New Roman"/>
            </a:endParaRPr>
          </a:p>
          <a:p>
            <a:pPr marL="2228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ÁåÒáä§ÂB áÑ ãäÌáÇåÂB Bál CáÖ âÈå×ãÃá® CáÖ âqåÖãqá® CáÖ CæÊCáRåtâc áoáÇá»åÂB áÑ</a:t>
            </a:r>
            <a:endParaRPr b="0" lang="en-US" sz="4400" spc="-1" strike="noStrike">
              <a:solidFill>
                <a:srgbClr val="000000"/>
              </a:solidFill>
              <a:latin typeface="Times New Roman"/>
            </a:endParaRPr>
          </a:p>
          <a:p>
            <a:pPr marL="2228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ÅBáoå¿ãÛB áÑ ãÁáÞá`åÂB áÑ ãÅCá¯åÊãÛB áÑ ãÄå£á·åÂB áÑ ãÁåÒádåÂB áÑ ãTáäÒâ»åÂB áÑ</a:t>
            </a:r>
            <a:endParaRPr b="0" lang="en-US" sz="4400" spc="-1" strike="noStrike">
              <a:solidFill>
                <a:srgbClr val="000000"/>
              </a:solidFill>
              <a:latin typeface="Times New Roman"/>
            </a:endParaRPr>
          </a:p>
          <a:p>
            <a:pPr marL="2228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Cleaver of the dawn, who made the night for rest, and the sun and moon for calculation (of time). O Mighty, O All­Knowing, the Possessor of; blessings and might, strength and power, grace and favours, and majesty and nobility.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07640" y="1049040"/>
            <a:ext cx="8915400" cy="5403960"/>
          </a:xfrm>
          <a:prstGeom prst="rect">
            <a:avLst/>
          </a:prstGeom>
          <a:noFill/>
          <a:ln w="0">
            <a:noFill/>
          </a:ln>
        </p:spPr>
        <p:txBody>
          <a:bodyPr lIns="90000" rIns="90000" tIns="46800" bIns="46800" anchor="t">
            <a:normAutofit fontScale="72000"/>
          </a:bodyPr>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oåWãÑ CáÖ âjåoá¶ CáÖ âÐäÃÂáB CáÖ âÌÇåcán CáÖ âÐäÃÂáB CáÖ</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äØác CáÖ âÌã¦CáQ CáÖ âoãÎCáª CáÖ âÐäÃÂáB CáÖ</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áYåÊáB áäÙãB áÐÂãB áÙ</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O the Beneficent, O Alláh, O the Single, O the Unique, O Alláh, O the Manifest, O the Hidden, O the Ever­Living. There is no god but You, You have the most beautiful names,</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1052640"/>
            <a:ext cx="8686800" cy="5472000"/>
          </a:xfrm>
          <a:prstGeom prst="rect">
            <a:avLst/>
          </a:prstGeom>
          <a:noFill/>
          <a:ln w="0">
            <a:noFill/>
          </a:ln>
        </p:spPr>
        <p:txBody>
          <a:bodyPr lIns="90000" rIns="90000" tIns="46800" bIns="46800" anchor="t">
            <a:normAutofit fontScale="72000"/>
          </a:bodyPr>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469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ká¯âätÂB Øã¶ ãUáÃå×áäÂB ãÍãmÎ Øã¶ ØãÇåsB áÄá¯å`áW åÉáB áÑ</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highest examples, the grandeur, the bounties. I beseech You to bless Mu&lt;ammad and the family of Mu&lt;ammad, and place my name, in this night, among the fortunate, </a:t>
            </a:r>
            <a:endParaRPr b="0" lang="en-US" sz="32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764640"/>
            <a:ext cx="9144000" cy="6481800"/>
          </a:xfrm>
          <a:prstGeom prst="rect">
            <a:avLst/>
          </a:prstGeom>
          <a:noFill/>
          <a:ln w="0">
            <a:noFill/>
          </a:ln>
        </p:spPr>
        <p:txBody>
          <a:bodyPr lIns="90000" rIns="90000" tIns="46800" bIns="46800" anchor="t">
            <a:normAutofit fontScale="73000"/>
          </a:bodyPr>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ä×ãäÃã® Øã¶ ØãÊCátåcãB áÑ ãADákáÏâäxÂB á°áÆ ØãcåÑân áÑ</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 æTánåÒâ·å³áÆ ØãXáMCásãB áÑ</a:t>
            </a:r>
            <a:endParaRPr b="0" lang="en-US" sz="4400" spc="-1" strike="noStrike">
              <a:solidFill>
                <a:srgbClr val="000000"/>
              </a:solidFill>
              <a:latin typeface="Times New Roman"/>
            </a:endParaRPr>
          </a:p>
          <a:p>
            <a:pPr marL="2502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äËá® áäÀáäxÂB âSãÎåmâÖ CæÊCáÇåÖãB áÑ</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 (And I beseech You to) grant me a certainty which gives joy to my heart, and a faith which drives doubt away from me, </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936360"/>
            <a:ext cx="8686800" cy="5877000"/>
          </a:xfrm>
          <a:prstGeom prst="rect">
            <a:avLst/>
          </a:prstGeom>
          <a:noFill/>
          <a:ln w="0">
            <a:noFill/>
          </a:ln>
        </p:spPr>
        <p:txBody>
          <a:bodyPr lIns="90000" rIns="90000" tIns="46800" bIns="46800" anchor="t">
            <a:normAutofit fontScale="78000"/>
          </a:bodyPr>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áYåÇátáº CáÇãQ ØãËá×ã¢åoâW áÑ</a:t>
            </a:r>
            <a:endParaRPr b="0" lang="en-US" sz="4400" spc="-1" strike="noStrike">
              <a:solidFill>
                <a:srgbClr val="000000"/>
              </a:solidFill>
              <a:latin typeface="Times New Roman"/>
            </a:endParaRPr>
          </a:p>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a:t>
            </a:r>
            <a:endParaRPr b="0" lang="en-US" sz="4400" spc="-1" strike="noStrike">
              <a:solidFill>
                <a:srgbClr val="000000"/>
              </a:solidFill>
              <a:latin typeface="Times New Roman"/>
            </a:endParaRPr>
          </a:p>
          <a:p>
            <a:pPr marL="2674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¼åÖãoádåÂB ãnCáäËÂB áPBámá® CáËãº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ake me pleased with what You have granted me. (And I beseech You to) </a:t>
            </a:r>
            <a:r>
              <a:rPr b="1" i="1" lang="en-US" sz="3200" spc="-1" strike="noStrike">
                <a:solidFill>
                  <a:srgbClr val="000000"/>
                </a:solidFill>
                <a:latin typeface="Al-Arial"/>
                <a:ea typeface="MS Mincho"/>
              </a:rPr>
              <a:t>Give us good in this world, and good in the Hereafter, and save us from the punishment of the burning fire.</a:t>
            </a:r>
            <a:r>
              <a:rPr b="1" lang="en-US" sz="3200" spc="-1" strike="noStrike">
                <a:solidFill>
                  <a:srgbClr val="000000"/>
                </a:solidFill>
                <a:latin typeface="Al-Arial"/>
                <a:ea typeface="MS Mincho"/>
              </a:rPr>
              <a:t> (2:201)</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240" y="765000"/>
            <a:ext cx="8736120" cy="6048720"/>
          </a:xfrm>
          <a:prstGeom prst="rect">
            <a:avLst/>
          </a:prstGeom>
          <a:noFill/>
          <a:ln w="0">
            <a:noFill/>
          </a:ln>
        </p:spPr>
        <p:txBody>
          <a:bodyPr lIns="90000" rIns="90000" tIns="46800" bIns="46800" anchor="t">
            <a:normAutofit fontScale="75000"/>
          </a:bodyPr>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B áUáRå²áäoÂB áÑ á½áoå¿âw áÑ á½áoå¿ãl CáÏå×ã¶ ØãËåºâpånB áÑ</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âÐáÂ áYå»áä¶áÑ CáÇãÂ á¼å×ã¶åÒáäXÂB áÑ áUáQCáÊÛB áÑ</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áÚáätÂB âÈãÏå×áÃá® áÑ ãÐå×áÃá®</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in it (Night of Qadr) Your remembrance, and Your gratitude, and desire for (pleasing) You, turning (to You for repentance), and success, for all that You have granted Mu&lt;ammad and his family, peace be on him and on them.</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3:12:58Z</dcterms:modified>
  <cp:revision>70</cp:revision>
  <dc:subject/>
  <dc:title>Du`a for 24th Night of Ramadan</dc:title>
</cp:coreProperties>
</file>