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2E47AF-135C-4A05-A011-CA7B3F4B5F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4375A68-34C8-4B16-B205-5D475CB5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67DCAA1-3D52-40F8-B5DB-95435983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15C79C2-8622-4F6C-B6BD-A77F550AB8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965830-CECB-4AA8-A538-7796BB08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CCDD043-132C-4651-8A1A-DA7ED08A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3E42376-CDDB-4FCB-BEB7-F8893B805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sldNum" idx="2"/>
          </p:nvPr>
        </p:nvSpPr>
        <p:spPr/>
        <p:txBody>
          <a:bodyPr/>
          <a:p>
            <a:fld id="{E2C28D6C-DD60-4BFA-A2B5-6A7A5C6AF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F6BD4EB-2F0E-4FF6-860B-AA97F8381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9690FD4-2027-4156-957A-9552031D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34656FD-680E-40C1-9104-2C2946889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BA8538A-1527-4DD7-BC0F-938860125E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4DD1-D914-49F8-958E-F066B0B64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rPr>
              <a:t>Du`á for 30th Night of Rama_án</a:t>
            </a:r>
            <a:endParaRPr b="0" lang="en-US" sz="3000" spc="-1" strike="noStrike">
              <a:solidFill>
                <a:srgbClr val="000000"/>
              </a:solidFill>
              <a:latin typeface="Times New Roman"/>
            </a:endParaRPr>
          </a:p>
        </p:txBody>
      </p:sp>
      <p:sp>
        <p:nvSpPr>
          <p:cNvPr id="4" name=""/>
          <p:cNvSpPr/>
          <p:nvPr/>
        </p:nvSpPr>
        <p:spPr>
          <a:xfrm>
            <a:off x="380880" y="6400800"/>
            <a:ext cx="8458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3189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1218960"/>
            <a:ext cx="8686800" cy="5105160"/>
          </a:xfrm>
          <a:prstGeom prst="rect">
            <a:avLst/>
          </a:prstGeom>
          <a:noFill/>
          <a:ln w="0">
            <a:noFill/>
          </a:ln>
        </p:spPr>
        <p:txBody>
          <a:bodyPr lIns="90000" rIns="90000" tIns="46800" bIns="46800" anchor="t">
            <a:normAutofit fontScale="72000"/>
          </a:bodyPr>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áÂ áÀåÖãoáw áÙ ãÐäÃãÂ âkåÇádåÂáB</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áÚá_ ãäqã® áÑ ãÐãÏå_áÑ ãÅáoá¿ãÂ Øã³áRåËáÖ CáÇá¾ ãÐäÃãÂ âkåÇádåÂáB</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ÃåÎáB áÒâÎ CáÇá¾ áÑ</a:t>
            </a:r>
            <a:endParaRPr b="0" lang="en-US" sz="4400" spc="-1" strike="noStrike">
              <a:solidFill>
                <a:srgbClr val="000000"/>
              </a:solidFill>
              <a:latin typeface="Times New Roman"/>
            </a:endParaRPr>
          </a:p>
          <a:p>
            <a:pPr marL="246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ll Praise is for Alláh, there is no partner for Him. All Praise is for Alláh, as is deserved by His glorious countenance, and His mighty power, and as He is worthy of i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142640"/>
            <a:ext cx="8686800" cy="525780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råkâ»åÂB ánåÒâÊ CáÖ ânåÒâÊ CáÖ âråÑâäkâº CáÖ</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UáÇåcáäoÂB áÄã®Cá¶ CáÖ âÌÇåcán CáÖ ãeå×ãRåtáäXÂB ÔÏáXåËâÆ CáÖ âbåÒâäRâs CáÖ</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ã§áÂ CáÖ âÐäÃÂáB CáÖ âoå×ãRá¾ CáÖ âÈå×ãÃá® CáÖ âÐäÃÂáB CáÖ</a:t>
            </a:r>
            <a:endParaRPr b="0" lang="en-US" sz="4400" spc="-1" strike="noStrike">
              <a:solidFill>
                <a:srgbClr val="000000"/>
              </a:solidFill>
              <a:latin typeface="Times New Roman"/>
            </a:endParaRPr>
          </a:p>
          <a:p>
            <a:pPr marL="229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Holy, O Light, O Holy Light. O Glorious, O the ultimate goal of all glorification, O Beneficent, O the Doer of mercy. O Alláh, O All­Knowing, O Great, O Alláh, O Gracious.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1143000"/>
            <a:ext cx="8686800" cy="4952880"/>
          </a:xfrm>
          <a:prstGeom prst="rect">
            <a:avLst/>
          </a:prstGeom>
          <a:noFill/>
          <a:ln w="0">
            <a:noFill/>
          </a:ln>
        </p:spPr>
        <p:txBody>
          <a:bodyPr lIns="90000" rIns="90000" tIns="46800" bIns="46800" anchor="t">
            <a:normAutofit fontScale="71000"/>
          </a:bodyPr>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oå×ã|áQ CáÖ â°å×ãÇás CáÖ âÐäÃÂáB CáÖ âÄå×ãÃá_ CáÖ</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Magnificent, O Alláh, O All­Hearing, O All­Seeing. O Alláh, O Alláh, O Alláh, You have the most beautiful names, the highest examples, the grandeur, the bountie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1676160"/>
            <a:ext cx="8686800" cy="342900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29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 beseech You to bless Mu&lt;ammad and the family of Mu&lt;ammad, and place my name, in this night, among the fortunate,</a:t>
            </a:r>
            <a:endParaRPr b="0" lang="en-US" sz="32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1371240"/>
            <a:ext cx="8686800" cy="4876920"/>
          </a:xfrm>
          <a:prstGeom prst="rect">
            <a:avLst/>
          </a:prstGeom>
          <a:noFill/>
          <a:ln w="0">
            <a:noFill/>
          </a:ln>
        </p:spPr>
        <p:txBody>
          <a:bodyPr lIns="90000" rIns="90000" tIns="46800" bIns="46800" anchor="t">
            <a:normAutofit fontScale="73000"/>
          </a:bodyPr>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 æTánåÒâ·å³áÆ ØãXáMCásãB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 (And I beseech You to) grant me a certainty which gives joy to my hear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903240"/>
            <a:ext cx="9144000" cy="5867280"/>
          </a:xfrm>
          <a:prstGeom prst="rect">
            <a:avLst/>
          </a:prstGeom>
          <a:noFill/>
          <a:ln w="0">
            <a:noFill/>
          </a:ln>
        </p:spPr>
        <p:txBody>
          <a:bodyPr lIns="90000" rIns="90000" tIns="46800" bIns="46800" anchor="t">
            <a:normAutofit fontScale="72000"/>
          </a:bodyPr>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ÇãQ ØãËá×ã¢åoâW áÑ ØãäËá® áäÀáäxÂB âSãÎåmâÖ CæÊCáÇåÖãB áÑ</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 ØãÂ áYåÇátáº</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¼åÖãoádåÂB ãnCáäËÂB áPBámá® CáËãº áÑ</a:t>
            </a:r>
            <a:endParaRPr b="0" lang="en-US" sz="4400" spc="-1" strike="noStrike">
              <a:solidFill>
                <a:srgbClr val="000000"/>
              </a:solidFill>
              <a:latin typeface="Times New Roman"/>
            </a:endParaRPr>
          </a:p>
          <a:p>
            <a:pPr marL="246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a faith which drives doubt away from me,</a:t>
            </a:r>
            <a:endParaRPr b="0" lang="en-US" sz="3200" spc="-1" strike="noStrike">
              <a:solidFill>
                <a:srgbClr val="000000"/>
              </a:solidFill>
              <a:latin typeface="Times New Roman"/>
            </a:endParaRPr>
          </a:p>
          <a:p>
            <a:pPr marL="246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ake me pleased with what You have granted me. (And I beseech You to) </a:t>
            </a:r>
            <a:r>
              <a:rPr b="1" i="1" lang="en-US" sz="3200" spc="-1" strike="noStrike">
                <a:solidFill>
                  <a:srgbClr val="000000"/>
                </a:solidFill>
                <a:latin typeface="Al-Arial"/>
                <a:ea typeface="MS Mincho"/>
              </a:rPr>
              <a:t>Give us good in this world, and good in the Hereafter, and save us from the punishment of the burning fire.</a:t>
            </a:r>
            <a:r>
              <a:rPr b="1" lang="en-US" sz="3200" spc="-1" strike="noStrike">
                <a:solidFill>
                  <a:srgbClr val="000000"/>
                </a:solidFill>
                <a:latin typeface="Al-Arial"/>
                <a:ea typeface="MS Mincho"/>
              </a:rPr>
              <a:t> (2:201)</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837720"/>
            <a:ext cx="9144000" cy="5867640"/>
          </a:xfrm>
          <a:prstGeom prst="rect">
            <a:avLst/>
          </a:prstGeom>
          <a:noFill/>
          <a:ln w="0">
            <a:noFill/>
          </a:ln>
        </p:spPr>
        <p:txBody>
          <a:bodyPr lIns="90000" rIns="90000" tIns="46800" bIns="46800" anchor="t">
            <a:normAutofit fontScale="73000"/>
          </a:bodyPr>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B áUáRå²áäoÂB áÑ á½áoå¿âw áÑ á½áoå¿ãl CáÏå×ã¶ ØãËåºâpånB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âÐáÂ áYå»áä¶áÑ CáÇãÂ á¼å×ã¶åÒáäXÂB áÑ áUáQCáÊÛB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in it (Night of Qadr) Your remembrance, and Your gratitude, and desire for (pleasing) You, turning (to You for repentance), and success, for all that You have granted Mu&lt;ammad and his family, peace be on him and on them.</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3:06:21Z</dcterms:modified>
  <cp:revision>86</cp:revision>
  <dc:subject/>
  <dc:title>Du`a for 30th Night of Ramadan</dc:title>
</cp:coreProperties>
</file>