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55EE8-25AA-4718-AA72-BD9CB80A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3C1E-B828-4D06-85AE-215F5E84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5BCE3-E20C-4174-92B4-2C9B39C2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9DAFF-32D5-42AB-8757-E69A8638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9E1CA-01D7-4F36-B080-ED0F4942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087EB-472F-48D6-A34F-37BD2E83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9CD25-5C93-43EB-9D0E-315AD0D6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D52C9-E396-443F-AA66-333CA4D4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68FDB-1DD4-4CA6-A261-B171FAFD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A2A05-B0EF-405A-ADBC-C63D4513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73A2E-AAF1-4904-9870-148A7290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BFB05-E128-43F9-A475-EB33A578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62D7-01B3-4AF2-8975-D806F9372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-1764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</a:rPr>
              <a:t>Du`á for 22nd Night of Rama_á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3"/>
          </p:nvPr>
        </p:nvSpPr>
        <p:spPr>
          <a:xfrm>
            <a:off x="380520" y="640044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Prepared by Tablígh Sub-Committee of ISIJ of Toronto and updated by SICM (Mahfil Al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000099"/>
              </a:solidFill>
              <a:latin typeface="Al-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 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ÉåÒâÇãÃå«âÆ âÌådáÊ BálãCá¶ ãÄå×áäÂB áÌãÆ ãnCáÏáäËÂB áiãÂCás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ãoåÖãkå»áXãQ CáÎãäoá»áXåtâÇãÂ ãuåÇáäxÂB áÕãoå`â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Èå×ãÃá® CáÖ âqåÖãqá®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draws forth the day from the night, and lo! we are in darkness. O (One) who causes the sun to travel its appointed place, through Your decree, O the Mighty, the All­Kn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686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Öãká»åÂB ãÉåÒâ_åoâ¯åÂCá¿ ájCá® ÔäXc áÁãpCáËáÆ ãoáÇá»åÂB ánáäká»â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UáRå²án ãäÄâ¿ ÔÏáXåËâÆ áÑ ènåÒâÊ ãäÄâ¿ ánåÒâÊ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ÌÇåcán CáÖ âÐäÃÂáB CáÖ èUáÇå¯ãÊ ãäÄâ¿ áäØãÂáÑ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who decreed stages for the moon, till it returns bent like a palm tree. O the Light of all lights, and the ultimate goal of all desires, and the Guardian of all blessings, O Alláh, O Benefic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105264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jåoá¶ CáÖ âkãcBáÑ CáÖ âkácáB CáÖ âråÑâäkâº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Holy, O One , O (the) Unique, O (the) Single, O Alláh, O Alláh, O Alláh, You have the most beautiful names 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 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-360" y="141912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 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 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6318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 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 and make me pleased with what You have granted me. 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492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 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163656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 for all that You have granted Mu&lt;ammad and his family, peace be on him and on th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’sheri Community of Middlesex (Mahfil Ali)</dc:creator>
  <dc:description/>
  <dc:language>en-US</dc:language>
  <cp:lastModifiedBy>Kumail Versi</cp:lastModifiedBy>
  <dcterms:modified xsi:type="dcterms:W3CDTF">2007-09-13T11:48:20Z</dcterms:modified>
  <cp:revision>66</cp:revision>
  <dc:subject/>
  <dc:title>Du`a for 22nd Night of Ramadan</dc:title>
</cp:coreProperties>
</file>