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F299-E0FA-48D0-8FB8-386D2670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49BC-47B6-44CA-9DFD-DBF6753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28F8-79C9-48DA-B69D-4B5F39A3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4266-7C77-4B2F-9F73-E9919A5B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5DA5-14F6-4140-B357-2BD6E9D4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80F6-1C4E-4763-9E51-1452ABC3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4EA0-022C-4485-8D50-63E5AD5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1928-AB94-4B16-8685-715034A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D337-E28A-4C2B-A2BE-51D16119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35AD-F955-4A67-BD05-AF4D123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539C-E461-4AFA-899B-11AA27BA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36A8-C312-4C42-ADD6-B939292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C969-6035-463F-BE46-FF69B89C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oã·å³áXåtâÇåÂB áÌãÆ ãÐå×ã¶ ØãËåÃá¯å_B áäÈâÏá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XãÊCá»åÂB áÌå×ãdãÂCáä|ÂB á½ãjCáRã® åÌãÆ ãÐå×ã¶ Øã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place me among those who seek forgiveness. Place me among Your righteous and obedient serva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Qáäoá»âÇåÂB áÀãMEá×ãÂåÑáB åÌãÆ ãÐå×ã¶ Øã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cBáäoÂB áÈácånáB CáÖ áÀãXá¶Fáo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e among Your close friends, by Your kindness, O the most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8:28Z</dcterms:modified>
  <cp:revision>30</cp:revision>
  <dc:subject/>
  <dc:title>Daily Du`as for Ramadan - 5</dc:title>
</cp:coreProperties>
</file>