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F435-12BC-4CDE-B7F9-F239750B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8684-1433-4451-BC9F-5AA95C77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051D-5874-4884-83E0-972D8EA3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6391-CF9D-464E-A46C-CAE1E27E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B81A-2F29-418D-9497-03D03DF0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F323-81C8-403E-8BD1-B93E4E32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C1F2-52F2-4C73-A5B7-9EFD929C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CA6B-4519-422D-8BC0-E5562984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7BD7-E2EE-4A1D-AAD0-0420CBBC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C0EC-550D-4442-BF38-5CE84EB8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6157-E8FB-439C-838C-CD2A13A1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9EAD-6AE9-431D-9489-6649E04D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BE2E-B1A0-47B2-985D-646BE4E29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2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Ëã`åÂB áPBáÒåQáB ãÐå×ã¶ ØãÂ åeáXå¶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Báoå×ãäËÂB áPBáÒåQáB ãÐå×ã¶ ØãäËá® å¼ãÃå²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open for me the doors of the heavens, and lock the doors of Hell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Båoâ»åÂB ãTáÑáÚãXãÂ ãÐå×ã¶ ØãËå»ãä¶áÑ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ËãÆåKâÇåÂB ãPåÒâÃâº Øã¶ ãUáËå×ã¿áätÂB áÁãqåË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elp me to recite the Qur’án, O the One who sends down tranquility into the hearts of belie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19:54Z</dcterms:modified>
  <cp:revision>48</cp:revision>
  <dc:subject/>
  <dc:title>Daily Du`as for Ramadan - 20</dc:title>
</cp:coreProperties>
</file>