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131CB-9E27-40E6-B817-420E4BCC8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75BD3-C9CD-44F4-83BC-FDE1D806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A7B9F-8A3A-468A-8144-70AE754E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DA84A-1ED3-4E35-A4D5-93189DD20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F6EFA-9B6E-4958-9792-5DE978A4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9E1D7-8574-4998-A361-7DC1A853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836F2-1E96-47EC-8D05-8CB6D5D7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08A55-F498-47CC-A670-CEC6A2A0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DEABF-E4B0-45A5-A998-82AFE9FE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3C902-4D9D-46FC-BDD6-92CF0676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5F90E-FC7A-456A-A635-24F6C10C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91FEE-F83C-4293-BE8D-C7F59B63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B1F5-8AF5-43BE-A233-5209EF070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aily Du`ás for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 – (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Da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14842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PåÒâÊâmÂB áÌãÆ ãÐå×ã¶ ØãËåÃãtå²B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PåÒâ×â¯åÂB áÌãÆ ãÐå×ã¶ ØãÊåoãäÏá¦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n this day, wash away my sins, purify me from all flaw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144936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PåÒâÃâ»åÂB ÓáÒå»áXãQ ãÐå×ã¶ ØãRåÃáº åÌãdáXåÆ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RãÊåmâÇåÂB ãVBáoá\á® áÄå×ã»âÆ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examine my heart with (for) the piety of the hearts, O One who overlooks the shortcomings of the sinn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Shia Ithna'asheri Community of Middlesex (Mahfi Ali)</dc:creator>
  <dc:description/>
  <dc:language>en-US</dc:language>
  <cp:lastModifiedBy>Kumail Versi</cp:lastModifiedBy>
  <dcterms:modified xsi:type="dcterms:W3CDTF">2007-09-09T12:22:45Z</dcterms:modified>
  <cp:revision>50</cp:revision>
  <dc:subject/>
  <dc:title>Daily Du`as for Ramadan - 23</dc:title>
</cp:coreProperties>
</file>