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A078-2A92-44C8-8F04-EB09440CB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3DCB-55EA-4169-ADAC-BA64411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3257-BCFF-4709-A562-E19ADCE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7DE5-0D24-49C8-BF78-301D761F2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66AD-F085-4483-B911-F4B1EB19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7B10-DEAB-4AAE-8180-0CBB82F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A9B8-E237-4815-B42E-CAEF792C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B1DF-AC29-451B-AB57-A89AA7B7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2A28-B2DA-4907-9EC9-DF12A33E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A85D-F22E-47B9-8B43-6A2BA140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21B7-2B1E-41FB-8E64-8D96565A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71B8-AB47-405D-BBCB-3DAB3F7B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B97-767F-45B3-BCA6-586EBA736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åÒâ¿åxáÆ ãÐå×ã¶ Øã×å¯ás åÄá¯å_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åÒâ·å³áÆ ãÐå×ã¶ ØãRåÊál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make my efforts worthy of appreciation, and my sins forgiv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åÒâXåtáÆ ãÐå×ã¶ ØãRå×á® áÑ æÙåÒâRå»áÆ ãÐå×ã¶ ØãÃáÇ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ãÆCáätÂB á°áÇås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deeds accepted, my flaws concealed, O the best of those who h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6:18Z</dcterms:modified>
  <cp:revision>54</cp:revision>
  <dc:subject/>
  <dc:title>Daily Du`as for Ramadan - 26</dc:title>
</cp:coreProperties>
</file>