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AADDC1E-9BC3-46D9-9B7B-63777BE97C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0000"/>
              </a:solidFill>
              <a:latin typeface="Al-Arial"/>
            </a:endParaRPr>
          </a:p>
        </p:txBody>
      </p:sp>
      <p:sp>
        <p:nvSpPr>
          <p:cNvPr id="28" name="PlaceHolder 2"/>
          <p:cNvSpPr>
            <a:spLocks noGrp="1"/>
          </p:cNvSpPr>
          <p:nvPr>
            <p:ph/>
          </p:nvPr>
        </p:nvSpPr>
        <p:spPr>
          <a:xfrm>
            <a:off x="228600" y="1523880"/>
            <a:ext cx="86868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228600" y="3912120"/>
            <a:ext cx="86868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B4AF70B-536D-4CF4-A49A-9FEA81C3FD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0000"/>
              </a:solidFill>
              <a:latin typeface="Al-Arial"/>
            </a:endParaRPr>
          </a:p>
        </p:txBody>
      </p:sp>
      <p:sp>
        <p:nvSpPr>
          <p:cNvPr id="31" name="PlaceHolder 2"/>
          <p:cNvSpPr>
            <a:spLocks noGrp="1"/>
          </p:cNvSpPr>
          <p:nvPr>
            <p:ph/>
          </p:nvPr>
        </p:nvSpPr>
        <p:spPr>
          <a:xfrm>
            <a:off x="228600" y="152388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80000" y="152388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228600" y="391212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80000" y="391212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81DDAA7-7DC1-4261-84A5-0A416E5443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0000"/>
              </a:solidFill>
              <a:latin typeface="Al-Arial"/>
            </a:endParaRPr>
          </a:p>
        </p:txBody>
      </p:sp>
      <p:sp>
        <p:nvSpPr>
          <p:cNvPr id="36" name="PlaceHolder 2"/>
          <p:cNvSpPr>
            <a:spLocks noGrp="1"/>
          </p:cNvSpPr>
          <p:nvPr>
            <p:ph/>
          </p:nvPr>
        </p:nvSpPr>
        <p:spPr>
          <a:xfrm>
            <a:off x="228600" y="1523880"/>
            <a:ext cx="279684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165840" y="1523880"/>
            <a:ext cx="279684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102720" y="1523880"/>
            <a:ext cx="279684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228600" y="3912120"/>
            <a:ext cx="279684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165840" y="3912120"/>
            <a:ext cx="279684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102720" y="3912120"/>
            <a:ext cx="279684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DBDCABD-BBB7-4A34-AD1D-76F2439993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0000"/>
              </a:solidFill>
              <a:latin typeface="Al-Arial"/>
            </a:endParaRPr>
          </a:p>
        </p:txBody>
      </p:sp>
      <p:sp>
        <p:nvSpPr>
          <p:cNvPr id="7" name="PlaceHolder 2"/>
          <p:cNvSpPr>
            <a:spLocks noGrp="1"/>
          </p:cNvSpPr>
          <p:nvPr>
            <p:ph type="subTitle"/>
          </p:nvPr>
        </p:nvSpPr>
        <p:spPr>
          <a:xfrm>
            <a:off x="228600" y="1523880"/>
            <a:ext cx="86868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26EF06C-B7B6-4185-BA81-99B9A1F1F6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0000"/>
              </a:solidFill>
              <a:latin typeface="Al-Arial"/>
            </a:endParaRPr>
          </a:p>
        </p:txBody>
      </p:sp>
      <p:sp>
        <p:nvSpPr>
          <p:cNvPr id="9" name="PlaceHolder 2"/>
          <p:cNvSpPr>
            <a:spLocks noGrp="1"/>
          </p:cNvSpPr>
          <p:nvPr>
            <p:ph/>
          </p:nvPr>
        </p:nvSpPr>
        <p:spPr>
          <a:xfrm>
            <a:off x="228600" y="1523880"/>
            <a:ext cx="86868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34D32A8-B331-47D1-AE3C-CB8247B324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0000"/>
              </a:solidFill>
              <a:latin typeface="Al-Arial"/>
            </a:endParaRPr>
          </a:p>
        </p:txBody>
      </p:sp>
      <p:sp>
        <p:nvSpPr>
          <p:cNvPr id="11" name="PlaceHolder 2"/>
          <p:cNvSpPr>
            <a:spLocks noGrp="1"/>
          </p:cNvSpPr>
          <p:nvPr>
            <p:ph/>
          </p:nvPr>
        </p:nvSpPr>
        <p:spPr>
          <a:xfrm>
            <a:off x="228600" y="1523880"/>
            <a:ext cx="42390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80000" y="1523880"/>
            <a:ext cx="42390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1BF5AB1-65C0-4DE1-9F28-D9F486F75E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0000"/>
              </a:solidFill>
              <a:latin typeface="Al-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85262B0-C114-4B8B-BE71-093B03FA2F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005ADF3-3B9F-4CFC-9277-5CA1AE22D0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0000"/>
              </a:solidFill>
              <a:latin typeface="Al-Arial"/>
            </a:endParaRPr>
          </a:p>
        </p:txBody>
      </p:sp>
      <p:sp>
        <p:nvSpPr>
          <p:cNvPr id="16" name="PlaceHolder 2"/>
          <p:cNvSpPr>
            <a:spLocks noGrp="1"/>
          </p:cNvSpPr>
          <p:nvPr>
            <p:ph/>
          </p:nvPr>
        </p:nvSpPr>
        <p:spPr>
          <a:xfrm>
            <a:off x="228600" y="152388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80000" y="1523880"/>
            <a:ext cx="42390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228600" y="391212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BD83884-B134-411B-882E-07435E754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0000"/>
              </a:solidFill>
              <a:latin typeface="Al-Arial"/>
            </a:endParaRPr>
          </a:p>
        </p:txBody>
      </p:sp>
      <p:sp>
        <p:nvSpPr>
          <p:cNvPr id="20" name="PlaceHolder 2"/>
          <p:cNvSpPr>
            <a:spLocks noGrp="1"/>
          </p:cNvSpPr>
          <p:nvPr>
            <p:ph/>
          </p:nvPr>
        </p:nvSpPr>
        <p:spPr>
          <a:xfrm>
            <a:off x="228600" y="1523880"/>
            <a:ext cx="42390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80000" y="152388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80000" y="391212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49303BD-A760-4298-9439-35DDE0A5CE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0000"/>
              </a:solidFill>
              <a:latin typeface="Al-Arial"/>
            </a:endParaRPr>
          </a:p>
        </p:txBody>
      </p:sp>
      <p:sp>
        <p:nvSpPr>
          <p:cNvPr id="24" name="PlaceHolder 2"/>
          <p:cNvSpPr>
            <a:spLocks noGrp="1"/>
          </p:cNvSpPr>
          <p:nvPr>
            <p:ph/>
          </p:nvPr>
        </p:nvSpPr>
        <p:spPr>
          <a:xfrm>
            <a:off x="228600" y="152388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80000" y="152388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228600" y="3912120"/>
            <a:ext cx="86868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1A6CC19-339F-4FEE-8913-FB7C1DBA6B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228600" y="1523880"/>
            <a:ext cx="8686800" cy="457200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69328-2547-47C0-ABB9-7EB7858658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380880" y="-152280"/>
            <a:ext cx="86868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99"/>
                </a:solidFill>
                <a:latin typeface="Al-Arial"/>
                <a:ea typeface="MS Mincho"/>
              </a:rPr>
              <a:t>Daily Du`ás for Rama</a:t>
            </a:r>
            <a:r>
              <a:rPr b="1" lang="en-GB" sz="3000" spc="-1" strike="noStrike">
                <a:solidFill>
                  <a:srgbClr val="000099"/>
                </a:solidFill>
                <a:latin typeface="Al-Arial"/>
                <a:ea typeface="Times New Roman"/>
              </a:rPr>
              <a:t>_</a:t>
            </a:r>
            <a:r>
              <a:rPr b="1" lang="en-GB" sz="3000" spc="-1" strike="noStrike">
                <a:solidFill>
                  <a:srgbClr val="000099"/>
                </a:solidFill>
                <a:latin typeface="Al-Arial"/>
                <a:ea typeface="MS Mincho"/>
              </a:rPr>
              <a:t>án – (1</a:t>
            </a:r>
            <a:r>
              <a:rPr b="1" lang="en-GB" sz="3000" spc="-1" strike="noStrike" baseline="30000">
                <a:solidFill>
                  <a:srgbClr val="000099"/>
                </a:solidFill>
                <a:latin typeface="Al-Arial"/>
                <a:ea typeface="MS Mincho"/>
              </a:rPr>
              <a:t>st</a:t>
            </a:r>
            <a:r>
              <a:rPr b="1" lang="en-GB" sz="3000" spc="-1" strike="noStrike">
                <a:solidFill>
                  <a:srgbClr val="000099"/>
                </a:solidFill>
                <a:latin typeface="Al-Arial"/>
                <a:ea typeface="MS Mincho"/>
              </a:rPr>
              <a:t> Day)</a:t>
            </a:r>
            <a:endParaRPr b="0" lang="en-US" sz="3000" spc="-1" strike="noStrike">
              <a:solidFill>
                <a:srgbClr val="000000"/>
              </a:solidFill>
              <a:latin typeface="Times New Roman"/>
            </a:endParaRPr>
          </a:p>
        </p:txBody>
      </p:sp>
      <p:sp>
        <p:nvSpPr>
          <p:cNvPr id="4" name="PlaceHolder 4"/>
          <p:cNvSpPr>
            <a:spLocks noGrp="1"/>
          </p:cNvSpPr>
          <p:nvPr>
            <p:ph type="ftr" idx="3"/>
          </p:nvPr>
        </p:nvSpPr>
        <p:spPr>
          <a:xfrm>
            <a:off x="0" y="6248520"/>
            <a:ext cx="91440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99"/>
                </a:solidFill>
                <a:latin typeface="Al-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l-Arial"/>
              </a:rPr>
              <a:t>&lt;footer&gt;</a:t>
            </a:r>
            <a:endParaRPr b="0" lang="en-US" sz="1400" spc="-1" strike="noStrike">
              <a:solidFill>
                <a:srgbClr val="000000"/>
              </a:solidFill>
              <a:latin typeface="Times New Roman"/>
            </a:endParaRPr>
          </a:p>
        </p:txBody>
      </p:sp>
      <p:sp>
        <p:nvSpPr>
          <p:cNvPr id="5"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l-Arial"/>
              </a:rPr>
              <a:t>Click to edit the title text format</a:t>
            </a:r>
            <a:endParaRPr b="1" lang="en-US" sz="3000" spc="-1" strike="noStrike">
              <a:solidFill>
                <a:srgbClr val="cc0000"/>
              </a:solidFill>
              <a:latin typeface="Al-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228600" y="1523880"/>
            <a:ext cx="8686800" cy="4572000"/>
          </a:xfrm>
          <a:prstGeom prst="rect">
            <a:avLst/>
          </a:prstGeom>
          <a:noFill/>
          <a:ln w="0">
            <a:noFill/>
          </a:ln>
        </p:spPr>
        <p:txBody>
          <a:bodyPr lIns="90000" rIns="90000" tIns="46800" bIns="4680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Èå×ãcáäoÂB ãÌÇåcáäoÂB ãÐäÃÂB ãÈåtãQ</a:t>
            </a:r>
            <a:endParaRPr b="0" lang="en-US" sz="44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In the name of Alláh the Beneficent, the Merciful.</a:t>
            </a: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Prepared by Tablígh Sub-Committee of ISIJ of Toronto and updated by SICM</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228600" y="809280"/>
            <a:ext cx="8686800" cy="6219720"/>
          </a:xfrm>
          <a:prstGeom prst="rect">
            <a:avLst/>
          </a:prstGeom>
          <a:noFill/>
          <a:ln w="0">
            <a:noFill/>
          </a:ln>
        </p:spPr>
        <p:txBody>
          <a:bodyPr lIns="90000" rIns="90000" tIns="46800" bIns="46800" anchor="t">
            <a:normAutofit fontScale="78000"/>
          </a:bodyPr>
          <a:p>
            <a:pPr marL="26748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Ìå×ãÇãMEáä|ÂB áÅCá×ã{ ãÐå×ã¶ ØãÆCá×ã{ åÄá¯å_B áäÈâÏäÃÂáB</a:t>
            </a:r>
            <a:endParaRPr b="0" lang="en-US" sz="4400" spc="-1" strike="noStrike">
              <a:solidFill>
                <a:srgbClr val="000000"/>
              </a:solidFill>
              <a:latin typeface="Times New Roman"/>
            </a:endParaRPr>
          </a:p>
          <a:p>
            <a:pPr marL="26748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Ìå×ãÇãMEá»åÂB áÅCá×ãº ãÐå×ã¶ ØãÆCá×ãº áÑ</a:t>
            </a:r>
            <a:endParaRPr b="0" lang="en-US" sz="4400" spc="-1" strike="noStrike">
              <a:solidFill>
                <a:srgbClr val="000000"/>
              </a:solidFill>
              <a:latin typeface="Times New Roman"/>
            </a:endParaRPr>
          </a:p>
          <a:p>
            <a:pPr marL="26748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Ìå×ãÃã¶Cá³åÂB ãUáÆåÒáÊ åÌá® ãÐå×ã¶ ØãËåÏãäRáÊ áÑ</a:t>
            </a:r>
            <a:endParaRPr b="0" lang="en-US" sz="4400" spc="-1" strike="noStrike">
              <a:solidFill>
                <a:srgbClr val="000000"/>
              </a:solidFill>
              <a:latin typeface="Times New Roman"/>
            </a:endParaRPr>
          </a:p>
          <a:p>
            <a:pPr marL="267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O Alláh, on this day, make my fasts the fasts of those who fast (sincerely), and my standing up in prayer of those who stand up in prayer (obediently), awaken me in it from the sleep of the heedless,</a:t>
            </a: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Prepared by Tablígh Sub-Committee of ISIJ of Toronto and updated by SICM</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228600" y="1268280"/>
            <a:ext cx="8686800" cy="4572000"/>
          </a:xfrm>
          <a:prstGeom prst="rect">
            <a:avLst/>
          </a:prstGeom>
          <a:noFill/>
          <a:ln w="0">
            <a:noFill/>
          </a:ln>
        </p:spPr>
        <p:txBody>
          <a:bodyPr lIns="90000" rIns="90000" tIns="46800" bIns="46800" anchor="t">
            <a:normAutofit fontScale="85000"/>
          </a:bodyPr>
          <a:p>
            <a:pPr marL="29160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Ìå×ãÇáÂCá¯åÂB áÐÂãB CáÖ ãÐå×ã¶ ØãÆåoâ_ ØãÂ åSáÎ áÑ</a:t>
            </a:r>
            <a:endParaRPr b="0" lang="en-US" sz="4400" spc="-1" strike="noStrike">
              <a:solidFill>
                <a:srgbClr val="000000"/>
              </a:solidFill>
              <a:latin typeface="Times New Roman"/>
            </a:endParaRPr>
          </a:p>
          <a:p>
            <a:pPr marL="29160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Ìå×ãÆãoå`âÇåÂB ãÌá® Cæ×ã¶Cá® CáÖ ØãäËá® â¸å®B áÑ</a:t>
            </a:r>
            <a:endParaRPr b="0" lang="en-US" sz="4400" spc="-1" strike="noStrike">
              <a:solidFill>
                <a:srgbClr val="000000"/>
              </a:solidFill>
              <a:latin typeface="Times New Roman"/>
            </a:endParaRPr>
          </a:p>
          <a:p>
            <a:pPr marL="291600" indent="0" algn="ctr">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916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and forgive me my sins, O God of the worlds, and forgive me, O one who forgives the sinners.</a:t>
            </a: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Prepared by Tablígh Sub-Committee of ISIJ of Toronto and updated by SICM</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10T17:49:06Z</dcterms:created>
  <dc:creator>Shia Ithna'asheri Community of Middlesex (Mahfi Ali)</dc:creator>
  <dc:description/>
  <dc:language>en-US</dc:language>
  <cp:lastModifiedBy>Kumail Versi</cp:lastModifiedBy>
  <dcterms:modified xsi:type="dcterms:W3CDTF">2007-09-09T12:05:50Z</dcterms:modified>
  <cp:revision>31</cp:revision>
  <dc:subject/>
  <dc:title>Daily Du`as for Ramadan - 1</dc:title>
</cp:coreProperties>
</file>