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2BEEA-4820-4CCE-9191-CBE3EDF5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A298-A7A4-46BE-B883-0B5A75DA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2998-A7C1-457E-9BF4-DFF5905C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A367-58A1-4F56-AA8A-439CD7A7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3C887-AC04-488C-A39B-407B84CE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29F21-3040-4E00-BA25-CF2D4E60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ED65-7904-4AC9-BD33-7E8F54CD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A01A9-4E41-45D7-AFDF-4EBB54F3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A534F-8360-46D2-8188-485DD2C9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E684F-3E5F-4443-85D8-1187FF09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C6156-D225-4BD5-89CD-520CC6EE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1C6E-ACFE-4D1B-87ED-3BEEFD3D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5A4D-EDBC-4051-A068-4803E3D1D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341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Xá×ã|å¯áÆ ã¡âäoá¯áXãÂ ãÐå×ã¶ ØãËåÂâmåháW áÙ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XáÇã»áÊ ã¥Cá×ãtãQ ØãËåQãoå£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do not let me abase myself by incurring Your disobedience, and do not strike me with the whip of Your punishmen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305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§áhás ãVCáRã_åÒâÆ åÌãÆ ãÐå×ã¶ ØãËåcãqåcáp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Rã²BáäoÂB ãUáRå²án ÔÏáXåËâÆ CáÖ áÀåÖãjCáÖáB áÑ áÀãäËáÇ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keep me away from the causes of Your anger, by Your kindness and Your power, O the ultimate wish of those who des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13T16:38:17Z</dcterms:modified>
  <cp:revision>35</cp:revision>
  <dc:subject/>
  <dc:title>Daily Du`as for Ramadan - 6</dc:title>
</cp:coreProperties>
</file>