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05A6-3FAC-4337-8414-93BC7570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9F2B-0613-4D15-9580-46F64E35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C541-6C91-459E-A87C-7BB5694F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B6C8-F5BA-4B19-85D0-1F19F3B9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5C70-2C1D-4162-B0FD-CFE3230F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BA83-1D34-4148-9563-C03B7CA7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8657-AF00-4CE6-BD46-466D0DF2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A190-860F-4F4B-B9BB-D45FD4D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1DFA-50DC-4653-A500-E954540A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BCAB-8D0B-4209-8BE3-1775E379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38CD-7F23-4D6F-9D98-B2F1C5D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7425-E28F-4D78-8EA8-BFC416C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0229-394A-4287-9359-50701D85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1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Ãá® áÌå×ãÃãä¾áÒáXâÇåÂB áÌãÆ ãÐå×ã¶ ØãËåÃá¯å_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ÖákáÂ áÌåÖãqãMEá·åÂB áÌãÆ ãÐå×ã¶ Øã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make me, among those who rely on You, from those who You consider successfu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Ìå×ãQáäoá»âÇåÂB áÌãÆ ãÐå×ã¶ Øã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RãÂCáä§ÂB áUáÖCá² CáÖ áÀãÊCátåcãC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e among those who are near to You, by Your favour, O goal of the seek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1:26Z</dcterms:modified>
  <cp:revision>36</cp:revision>
  <dc:subject/>
  <dc:title>Daily Du`as for Ramadan - 10</dc:title>
</cp:coreProperties>
</file>