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0AC5-DF79-4A35-AB4F-A3F66C02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4684-DC2D-4AB8-A597-31467C77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9409-7A66-4F07-B099-9EB43AD3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10A1-C345-4746-819B-8759C311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8AF4-7C67-404C-822A-E359819B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1DD2-E3BB-4787-BECD-DA8A65DB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4F5D-4412-4EFA-9FFF-D55E403A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42FE-9269-406D-BC92-5BFA267F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8399-04EE-4E65-A734-D30EE4C2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AE6B-55C0-40A3-8B02-E5F2637A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1855-4126-4DCC-ACEE-031DBC4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BC98-A4F8-41FD-8EB2-927FB472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8FC0-EFFD-4893-9D5B-869773BEE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1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ÍãnCádåsáB ãVCá¾áoáRãÂ ãÐå×ã¶ ØãËåÏãäRáÊ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ÍãnBáÒåÊáB ãAEá×ã£ãQ ØãRåÃáº ãÐå×ã¶ ånãäÒáÊ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awaken me with the blessings of its early mornings, illuminate my heart with the brightness of its ray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449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ÍãnCá[B ã­CáRãäXÂB ÔáÂãB ãAEá£å®áB ãäÄâ¿ãQ åmâg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¶ãnCá¯åÂB ãPåÒâÃâº ánãäÒáËâÆ CáÖ á½ãnåÒâË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let every part of my body follow its effects, by Your light, O the illuminator of the hearts of those who k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18:02Z</dcterms:modified>
  <cp:revision>45</cp:revision>
  <dc:subject/>
  <dc:title>Daily Du`as for Ramadan - 18</dc:title>
</cp:coreProperties>
</file>