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9F22-F0A1-482F-8DE9-178AB608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937E-044B-4EF7-8F64-6B295BD0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02B7-7B1F-4ABE-A31F-84267EEE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D7BB-B2FD-4E24-BEFE-4331D437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A642-BA7A-4C79-BABB-F0159BF5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A833-10B8-4C0F-8C0E-246D8A66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7214-06EB-40D2-B811-6C080577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2188-58DA-4B62-A893-58DF2EBD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C352-0DCB-459F-8AE3-F80A4388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E399-4145-4EE6-98DA-BE9B83AB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B801-BE89-4D6F-B4C4-A7E807EF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068D-87E8-485D-BC1C-E8A2C6E2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8CDD-DA64-4FA3-8D7D-852D79BC5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Ãå£á¶ áPBáÒåQáB ãÐå×ã¶ ØãÂ åeáXå¶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WCá¿áoáQ ãÐå×ã¶ áäØáÃá® åÁãqåÊ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WCá¢åoáÆ ãVCáRã_åÒâÇãÂ ãÐå×ã¶ ØãËå»ãä¶áÑ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open for me the doors of Your Grace, send down on me its blessings, help me towards the causes of Your merc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WCáäËá_ ãVCácåÒâRådâQ ãÐå×ã¶ ØãäËã¿ås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Öãäoá§å£âÇåÂB ãTáÒå®áj áSå×ã`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give me a place in the comforts of Paradise, O the one who answers the call of the distr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23:22Z</dcterms:modified>
  <cp:revision>49</cp:revision>
  <dc:subject/>
  <dc:title>Daily Du`as for Ramadan - 22</dc:title>
</cp:coreProperties>
</file>