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FFAA4-7F06-47F9-9F49-F70D5438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1293D-6334-4735-80DE-C707CD06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73B27-E527-48FF-ACF4-77646FBD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14B49-8D29-4A96-BB3A-D0D19178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C7592-A215-4450-8DB6-0CF717F7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54146-2D05-4A9B-926C-A28A2332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36F63-CCAF-4D79-BC3C-465033A6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14B10-C46C-4C7D-8205-E29D5402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A769-A096-4DAA-8D8A-604AAA4F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09A42-277C-4079-9897-CBF3EBAF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99D8A-F8E2-4C43-8846-56D5B698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C1824-BEF1-4CE4-997E-C6B83FEE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BC8C-CBE4-4F9F-807B-12F840D69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1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34136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BámåºáÛB áÑ ãuáÊáäkÂB áÌãÆ ãÐå×ã¶ ØãÊåoãäÏá¦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BákåºÛB ãVCáËãMCá¾ ÔÃá® ãÐå×ã¶ ØãÊåoãäRá{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purify me from uncleanliness and dirt, make me patient over events that are decre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305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BáoåQÛB ãUáRådâ{ áÑ Ô»âäXÃãÂ ãÐå×ã¶ ØãËå»ãä¶áÑ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¾CátáÇåÂB ãÌå×á® áTáäoâº CáÖ áÀãÊåÒá¯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rant me the ability to be pious, and keep company with the good, by Your help, O the beloved of the destit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13:04Z</dcterms:modified>
  <cp:revision>41</cp:revision>
  <dc:subject/>
  <dc:title>Daily Du`as for Ramadan - 13</dc:title>
</cp:coreProperties>
</file>