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4B77-DCFE-43B6-8F11-48120583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4077-8859-4AB3-B321-4FF6490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CDFD-FD34-40AF-BCFE-6FD64FE6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5EF2-EE3D-481E-82FE-A136FC34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F1BF-D1D6-4D1F-85DB-BD53C157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77E7-852E-4C81-8FD9-CBD5AEA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7665-8F18-4E15-A0FF-1CB721A7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2743-BAC9-4186-BECF-AF6B5D8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FCDC-BF10-4B05-BA72-F0ADFA5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B2F6-454E-4ED7-B1B5-7C4F2CE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909B-43A6-400C-95DA-3419976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D295-DAD2-4371-83D4-CF8D603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14A-69EE-4E11-B298-BEE8D1BE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á¯ãsBáÒåÂB áÀãXáÇåcán åÌãäÆ CæRå×ã|áÊ ãÐå×ã¶ ØãÂ åÄá¯å_B áäÈâÏäÃÂá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¯ã¦CáätÂB áÀãËå×ãÎBáoáRãÂ ãÐå×ã¶ ØãÊãkåÎ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grant me a share from Your mercy which is wide, guide me towards Your shining proof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¯ãÆCá`åÂB áÀãWCá¢åoáÆ ÔÂãB ØãXá×ã{CáËãQ åmâ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ºCáXåxâÇåÂB áÄáÆáB CáÖ áÀãXáäRádáÇ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lead me to Your all­encompassing pleasure, by Your love, O the hope of the desir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9:12Z</dcterms:modified>
  <cp:revision>36</cp:revision>
  <dc:subject/>
  <dc:title>Daily Du`as for Ramadan - 9</dc:title>
</cp:coreProperties>
</file>