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1CFD-49F8-4969-940F-6D46490E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E32F-486E-4A59-B1DC-EE05CD85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606A-0E1E-4499-9C71-79774CB2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7A27-1171-4E59-920F-6C5C20F8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5E893-71C2-41C0-B40F-0CCDC751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81DF4-0BB1-479C-80E7-3C3B8932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B7CAB-FFAD-4E37-AE03-578B69CA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1F085-B73D-49D8-AD2F-47D13C28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BCF51-A84A-4D00-B3A3-FB45ED64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6F8D-686E-47E3-B13F-1078A849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72F9-85A7-41FB-B1A4-94AE2402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E4FBD-C82C-492D-8F13-1BDCECE3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FD87-45CA-4CFA-8EDC-980C8EA75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1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268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CátåcÛB ãÐå×ã¶ áäØáÂãB åSãäRác áäÈâÏäÃÂáB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Cá×å|ã¯åÂB áÑ á¹åÒâtâ·åÂB ãÐå×ã¶ áäØÂãB åÍãäoá¾ áÑ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make me love goodness, and dislike corruption and disobedien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268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ÉBáoå×ãäËÂB áÑ á¨áháätÂB ãÐå×ã¶ áäØáÃá® åÅãäoác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\ã³áXåtâÇåÂB áZCá×ã² CáÖ áÀãÊåÒá¯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ar me from anger and the fire (of Hell), by Your help, O the helper of those who seek he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14:28Z</dcterms:modified>
  <cp:revision>39</cp:revision>
  <dc:subject/>
  <dc:title>Daily Du`as for Ramadan - 11</dc:title>
</cp:coreProperties>
</file>