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E2611-5CF3-4C73-AB5E-EA5C6778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EE7E7-6E2A-493E-B9B0-7F8E8497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F9F40-B9A4-4632-ADCB-E3E0AAE2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2F8F7-146D-4E4D-8BA4-AA99FDFB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844E3-CCFB-46B0-9C8D-46DF5024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0C8A4-F7A4-409F-A07D-E47829DC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73F17-3E2D-4C6A-BFE9-4F20BF06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B19BD-C76F-4643-9878-D0340AAD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2FC59-F5BF-4BD0-B717-3F9AF813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B0ED8-9D75-4AC7-874F-AAB3A010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030EA-993C-4F8D-93DE-A5D14031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57CA9-286A-4E72-96AF-08E074AE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9C36-7BF8-478A-994C-05BC89EC3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aily Du`ás for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 – (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Da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3413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WCá¢åoáÆ ÔÂãB ãÐå×ã¶ ØãËåQãäoáº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WCáÇã»áÊ áÑ áÀã§áhás åÌãÆ ãÐå×ã¶ ØãËåRãäËá_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n this day, take me closer towards Your pleasure, keep me away from Your anger and punishmen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41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WCáÖB ãUáMDáoã»ãÂ ãÐå×ã¶ ØãËå»ãä¶áÑ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ÇãcBáäoÂB áÈácånáB CáÖ áÀãXáÇåcáo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rant me the opportunity to recite Your verses (of the Qur’án), by Your mercy, O the most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repared by Tablígh Sub-Committee of ISIJ of Toronto and updated by SIC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Shia Ithna'asheri Community of Middlesex (Mahfi Ali)</dc:creator>
  <dc:description/>
  <dc:language>en-US</dc:language>
  <cp:lastModifiedBy>Kumail Versi</cp:lastModifiedBy>
  <dcterms:modified xsi:type="dcterms:W3CDTF">2007-09-09T12:07:57Z</dcterms:modified>
  <cp:revision>29</cp:revision>
  <dc:subject/>
  <dc:title>Daily Du`as for Ramadan - 2</dc:title>
</cp:coreProperties>
</file>