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EBF9-2B0D-4F9B-83DF-12BBA9B9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8F22-0F77-4E7E-A75E-6142790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1BB6-F3C3-442E-B0BE-FBEEB03D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C429-2411-498B-B121-BF8378AE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5008-4772-47A0-8177-F2504E2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2EAA-D72C-48BC-ACFF-D06DC2C9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B9AA-8402-4A95-9519-BCF8EE57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653D-3EA5-4A71-82F4-78FB438E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5A92-16ED-4F9F-9E15-416F6EFC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043E-8827-43FC-BDBD-8D2C2E5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0387-9121-49E1-806A-21FFFCA2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27F2-9DE8-43F8-92E8-501C935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E12-1C0F-4E4B-B543-F485EC94E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ã¢åoâÖ CáÆ ãÐå×ã¶ áÀâÃáNåsáB ØãäÊã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ÖãlåKâÖ CáäÇãÆ áÀãQ âlåÒâ®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I ask You for what pleases You, and I seek refuge in You from what displease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×ã|å®áB áÙ áÑ áÀâ¯å×ã¦âB åÉáÛ ãÐå×ã¶ á¼å×ã¶åÒáäXÂB áÀâÃáNås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ÃãMCáätÂB ájBáÒ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ask You to grant me the opportunity to obey You and not disobey You, O One who is generous with those who 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1:22Z</dcterms:modified>
  <cp:revision>51</cp:revision>
  <dc:subject/>
  <dc:title>Daily Du`as for Ramadan - 24</dc:title>
</cp:coreProperties>
</file>