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497D-9FFB-45BB-B69F-9A15DD78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74A2-20F9-471B-8A28-C086E68A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9792-38F0-4020-AAA5-4D1BD73D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618C-43F7-43EE-913C-0007FDC6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444F-0839-4F7A-B915-76C0ECF4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2D56-F7AE-4743-A57E-E088073D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2F97-09D1-4DB2-9C38-B694323E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749D-A5BA-4329-BE88-23431BB1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2682-51C7-4DB5-93EF-89AC2F4B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A50C-A5E0-4393-8D55-ECEF8BFB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BFDD-3D76-4312-9E42-DC6A7B1B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B00D-6F7F-45DB-B3A5-F3C9B3CD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0446-8499-471B-88ED-E72EE4BD6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05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ÆCá×ãº áÑ ãÐãÆCá×ã{ ÔÃá® ãÐå×ã¶ ØãäËã®á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ÆCá[B áÑ ãÐãWBáÒá·áÎ åÌãÆ ãÐå×ã¶ ØãËåRãäËá_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help me with its fasts and prayers, and keep me away from mistakes and sins of the da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ÆBáÑákãQ á½áoå¾ãl ãÐ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Ãã£âÇåÂB áÕãjCáÎ CáÖ áÀã»å×ã¶åÒáX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that I remember You continuously through the day, by Your assistance, O the Guide of those who st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10:20Z</dcterms:modified>
  <cp:revision>33</cp:revision>
  <dc:subject/>
  <dc:title>Daily Du`as for Ramadan - 7</dc:title>
</cp:coreProperties>
</file>