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A76-5FC7-4920-A8B0-FE8FA24E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5B8-3256-4C48-A470-5498F766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8D5-5AE4-43DC-88F0-0695B4DB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2DC-2CFD-43CE-971A-48C1C517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3E8-D547-4601-B5E2-6446B83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AA0-C1C2-45C7-B7CC-7D6EE7D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2AC-71C9-472B-BA1E-32EFC8FB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7FC-22C2-46E0-AD64-A83C6BC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7BA-91B3-4411-91B7-FEBE06AB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16A-77F3-4BFB-B7D6-4FD7881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71B-4981-4C49-973B-667676C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7FD-D411-47EA-B541-0E3A974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05C5-5236-4801-8644-E3C80E714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CáXåÖÛB áUáÇåcán ãÐå×ã¶ ØãËåºâpånB áäÈâÏäÃÂá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áAEáxå¶ãB áÑ ãÅCá¯áä§ÂB áÅCá¯å¦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let me have mercy on the orphans, and feed (the hungr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pread pe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Báoã¿åÂB áUáRådâ{ á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ÃãÆÛB Gá`åÃ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keep company with the noble­minded, O the shelter of the hop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09:46Z</dcterms:modified>
  <cp:revision>36</cp:revision>
  <dc:subject/>
  <dc:title>Daily Du`as for Ramadan - 8</dc:title>
</cp:coreProperties>
</file>