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0164-93F5-4270-892D-30241A49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B02E5-B69C-4A70-A6CF-B0E66669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8ABF9-6CC0-4CF3-B60A-8CDF8D28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B42A-1CEA-49F0-8BD9-2F54E9B6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D0F8-4C27-4732-97CC-AB5BE0F3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DAE8-A378-4E87-9769-157176C9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959E9-34CA-4D17-9A1B-46EACD1D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CD1D2-18FD-4D5D-A71A-79FE2215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94A7-D7F4-4F4D-9E37-FE18D7EE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89AA-08C5-455F-967B-6AC5DFB3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C60F-DD7F-42C1-9A15-05D89AD9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77AD-8063-4C8A-AE1C-1FA930CD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1152-98DC-42BC-ABED-CEA1DFFC2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41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ÇåcáäoÂCãQ ãÐå×ã¶ ØãËãäxá²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UáÇå|ã¯åÂB áÑ á¼å×ã¶åÒáäXÂB ãÐ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cover me with Your mercy, grant me in it success and protec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41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ÇåÏâXÂB ãSãÎCá×á² åÌãÆ ØãRåÃáº åoãäÏá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ËãÆåKâÇåÂB ãÍãjCáRã¯ãQ CæÇå×ãcán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urify my heart from the darkness of false accusations, O the Merciful to His believing serv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25:15Z</dcterms:modified>
  <cp:revision>56</cp:revision>
  <dc:subject/>
  <dc:title>Daily Du`as for Ramadan - 29</dc:title>
</cp:coreProperties>
</file>