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7A4419-3B12-4566-B29C-FA46B969DCA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91212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EFF773-CA52-4B5E-A139-EF8E7BF25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4EC067-EC20-48E8-8DFB-FBE4DF554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52388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52388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9121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9121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9121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979252-D81E-4506-B09F-3AECFCE9362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04AE9C-3C82-4E86-9CA9-812C0DC7E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F8AB7A-6AED-4784-A766-78085A0E4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0FA68B-497F-4B41-8DAC-12AB05B40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196265-38C1-4069-872F-04B3C8D90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2824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D66F12-FA2A-4B90-BCF7-A4D6F8683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393375-50BC-4D99-B7BA-69AB378C0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6F32E6-75AE-400D-892C-635CA29AB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91212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9770D1-A2E4-4881-8AEC-83352469F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l-Arial"/>
              </a:rPr>
              <a:t>Click to edit the title text format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37920-056E-409C-B692-B5397C6B4F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8088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aily Du`ás for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 – (28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Day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l-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Èå×ãcáäoÂB ãÌÇåcáäoÂB ãÐäÃÂB ãÈåtã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In the name of Alláh the Beneficent, the Mercifu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228600" y="141300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 algn="ctr">
              <a:lnSpc>
                <a:spcPct val="13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Äã¶BáÒáäËÂB áÌãÆ ãÐå×ã¶ Øãä«ác åoãä¶áÑ áäÈâÏäÃÂá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 algn="ctr">
              <a:lnSpc>
                <a:spcPct val="13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ÄãMEátáÇåÂB ãnCá£åcãCãQ ãÐå×ã¶ ØãËåÆãoå¿á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Alláh, on this day,grant me a share in its </a:t>
            </a:r>
            <a:r>
              <a:rPr b="1" i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nawáfil</a:t>
            </a: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 (recommended prayers), honour me by attending to my problem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228600" y="141300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0" algn="ctr">
              <a:lnSpc>
                <a:spcPct val="13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ÄãMEásáÒåÂB ãÌå×áQ åÌãÆ áÀå×áÂãB ØãXáÃå×ãsáÑ ãÐå×ã¶ åPãäoáº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 algn="ctr">
              <a:lnSpc>
                <a:spcPct val="13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Ìå×ãädãÃâÇåÂB âbCádåÂãB âÐâÃá³åxáÖ áÙ åÌáÆ Cá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make closer the means to approach You, from all the means, O One who is not preoccupied by the requests of the beseech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0T17:49:06Z</dcterms:created>
  <dc:creator>Shia Ithna'asheri Community of Middlesex (Mahfi Ali)</dc:creator>
  <dc:description/>
  <dc:language>en-US</dc:language>
  <cp:lastModifiedBy>Kumail Versi</cp:lastModifiedBy>
  <dcterms:modified xsi:type="dcterms:W3CDTF">2007-09-09T12:25:49Z</dcterms:modified>
  <cp:revision>55</cp:revision>
  <dc:subject/>
  <dc:title>Daily Du`as for Ramadan - 28</dc:title>
</cp:coreProperties>
</file>