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1968-1BD6-41D0-9D7C-19EBD8C35D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56D9-FF5C-4227-8B4F-C793330E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02A4B-73F5-46D3-AEE8-7C1FC5D7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0289-AA46-42F0-8F1D-BA1DF8481D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DA3AB-C323-49D4-B76C-B411E187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928E-402B-4513-9D75-83D0A409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EE148-2C88-4E08-BA7A-311CBD5D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ACDB1-DEAA-4768-B446-4AACEBC1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B2F84-8ECD-4A22-9B3C-35070A3A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478E5-0317-404B-BA2E-C1A6E04E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0E99C-7E89-4FAB-A7BD-F138C465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4C53D-37CC-4FC7-81FB-D97A3425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EC15-7128-49F2-BC98-347C7F140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Úå×ãÂáj áÀãWCá¢åoáÆ ÔÂãB ãÐå×ã¶ ØãÂ åÄá¯å_B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Úå×ãRás áäØÃá® ãÐå×ã¶ ãÉCá§å×áäxÃãÂ åÄá¯å`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show me the way to win Your pleasure, do not let Shay&gt;án have a means over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Úå×ã»áÆ áäÑ æÙãqåËáÆ ØãÂ áUáäËá`åÂB ãÄá¯å_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RãÂCáä§ÂB ãaãMBáÒác áØã¢Cáº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ake Paradise an abode and a resting place for me, O the One who fulfills the requests of the nee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23:48Z</dcterms:modified>
  <cp:revision>49</cp:revision>
  <dc:subject/>
  <dc:title>Daily Du`as for Ramadan - 21</dc:title>
</cp:coreProperties>
</file>