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A48C-BBCF-49E5-959A-B69244D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E87B-77B9-4672-8839-4EE3C75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3FF5C-E20C-49A0-A193-35C75420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9C96-79B0-4A2F-B883-4B948E33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A5DF-6491-412B-B7EE-2717B18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3862-D0F1-42F1-89A8-977CC78F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7742-FA4C-4D4D-BD61-B3713FC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2CCB-4828-4E47-9B38-EDD5B6D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7999-9048-40B1-B6B1-F3E947E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A33C-622F-4E68-B85F-8FADBD0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F501-C38B-47B7-80F1-14F6DD5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C1AC-B7AA-4306-82D2-A776F6B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6C9A-0775-4FC6-86D2-9B80CEA03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ÆáB ãUáÆCáºãB ÔÃá® ãÐå×ã¶ ØãÊãäÒáº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¾ãl áTáÑáÚác ãÐå×ã¶ ØãËåºãl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on this day, strengthen me in carrying out Your commands, let me taste the sweetness of Your remembr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Æáoá¿ãQ á½ãoå¿âw ãADájÛ ãÐå×ã¶ ØãËå®ãpåÑ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Xãs áÑ áÀã«å·ãdãQ ãÐå×ã¶ ØãËå«á·åc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oãªCáäËÂB áoá|åQ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, through Your graciousn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I give thanks to You. Protect me, with Your protection and cover, O the most discerning of those who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6:49Z</dcterms:modified>
  <cp:revision>31</cp:revision>
  <dc:subject/>
  <dc:title>Daily Du`as for Ramadan - 4</dc:title>
</cp:coreProperties>
</file>