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2BB1-767E-42B0-BF82-2920191C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DD06-4603-4C76-98A9-9D6C6B8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DD9E-B284-4819-B682-C4E99E1A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3F60-CAB3-40CA-B616-ABFB12AF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2EC1-F049-43B3-B1C7-030C27D4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603F-F389-4FCC-8AAC-0744DD7B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36D6-35EF-45B0-960B-AFB83A77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B6CF-7946-4C3F-AC82-65203C2E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2139-E8D0-4FE5-9A2D-C6100046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689A-1BCC-4AEA-99A7-C02E542C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1B3F-4368-4E2E-AC6F-0DDA3A9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11BF-D90D-496A-842D-498F7655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E58A-CDF2-45EF-8DF9-11327D254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Ðå×ãRåËáäXÂB áÑ áÌåÎãämÂB ãÐå×ã¶ ØãËåºâpån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ÖãÒåÇáäXÂB áÑ ãUáÎCá·áätÂB áÌãÆ ãÐå×ã¶ ØãÊåkã®Cá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grant me wisdom and awareness, keep me away from foolishness and pretens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ã¶ âÁãqåËâW èoå×ág ãäÄâ¾ åÌãÆ CæRå×ã|áÊ ØãÂ åÄ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ÖãjáÒå_ÛB ájáÒå_áB CáÖ á½ãjåÒâ`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a share in every blessing You send down, by You generosity, O the most Gener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07:26Z</dcterms:modified>
  <cp:revision>28</cp:revision>
  <dc:subject/>
  <dc:title>Daily Du`as for Ramadan - 3</dc:title>
</cp:coreProperties>
</file>