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8A00-FA95-401E-A75F-DD0A9D7CC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FFDB-14B6-4CF3-919B-FA661EB2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5A0C-BE83-4ADF-A15F-AA12FE3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919E-DE8C-4E4C-A70D-5E9132C00E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A259-7C5B-4899-BE40-92645972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0273-18A9-488E-B9BE-133F780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0F9B-F4EA-42D1-A444-22DAD8D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B398-5897-442C-BFC1-57ABC313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E067-53F2-40C1-AC43-FFC09A01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B836-84A1-426D-BA73-916B2A6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AB5F-1545-4ED8-B646-7C52F454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E159-CF89-4074-BEE5-40E7B37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1BF6-CDD8-4EC8-A087-A4BA06A44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oåQÛB ãUá»á¶BáÒâÇãÂ ãÐå×ã¶ ØãËå»ãä¶áÑ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oåwÛB ãUá»áWBáoâÆ ãÐå×ã¶ ØãËåRãäË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grant me compatibility with the good, keep me away from patching up with the evi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305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oá»åÂB ãnBáj ÔÂãB áÀãXáÇåcáoãQ ãÐå×ã¶ ØãÊãÑ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áÂCá¯åÂB áÐÂãB CáÖ áÀãXáä×ãÏÂãC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lead me in it, by Your mercy, to the permanent abode, by Your Lordship, O the Lord of the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20:20Z</dcterms:modified>
  <cp:revision>44</cp:revision>
  <dc:subject/>
  <dc:title>Daily Du`as for Ramadan - 16</dc:title>
</cp:coreProperties>
</file>