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91D9-60FF-4D91-B991-635A67D3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A797-98BD-498F-A72D-FB0822C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7823-2BF9-4D50-94D2-7BE5095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4E9C-69DC-41C5-8126-B00F295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0AF9-86C3-4B2F-9C22-EE26F23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2AE3-24DC-44F4-AD9F-835A627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36C1-B4E6-402C-A554-B394061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713E-0A82-4625-A48B-59BCCE78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5FDB-2A65-4D35-AF15-8082522A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D521-7623-4BE9-8DEC-94D761A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5A49-4617-41B6-9BA7-7F7FCE7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FEAD-2DB1-4AD5-BB3D-75C6D5E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92F3-65B9-42AE-AD0C-2463FBB68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Cá·á¯åÂB áÑ ãoåXãätÂCãQ ãÐå×ã¶ ØãËãäÖáp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Cá·á¯åÂB áÑ ã­åÒâËâ»åÂB ãrCáRãÃãQ ãÐå×ã¶ ØãÊåoâXås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beautify me with covering and chastity, cover me with the clothes of contentment and chast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058400"/>
            <a:ext cx="86868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Cá|åÊãÛB áÑ ãÁåká¯åÂB ÔÃá® ãÐå×ã¶ ØãËåÃãÇåc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µCágáB CáÆ ãäÄâ¾ åÌãÆ ãÐå×ã¶ ØãäËãÆ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·ãMEáhåÂB áUáÇå|ã® CáÖ áÀãXáÇå|ã¯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let me adhere to justice and fairness, and keep me safe from all that I fear, by Your protection, O the protector of the fright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3:46Z</dcterms:modified>
  <cp:revision>39</cp:revision>
  <dc:subject/>
  <dc:title>Daily Du`as for Ramadan - 12</dc:title>
</cp:coreProperties>
</file>