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09DD3-1595-43B1-880F-22986C5F4F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0A27B-CDB4-424D-8FF6-A49FF4B1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CE0E3-FCAE-4A71-946C-5B1369CC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7B835-BE8D-4587-B381-7FC498D60E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B446C-E5F7-4102-BD6A-55BAAF4F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E7FDA-6207-4B0D-8B61-7C27DDC4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D3028-514D-4D85-8798-DBEBAB29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68F6D-422A-42CA-BFAF-BC4E7FCC7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0D0AF-EA1A-4CD6-8C57-F4B68FF72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24E9A-6175-4F91-90CD-0E1B8C42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C0A6D-D4A9-4EAC-A213-2A7B1C00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B9721-6F46-4671-A0C2-581924AD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6AC6-077D-485B-B77A-2080FB514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aily Du`ás for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 – (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Da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134136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nåká»åÂB ãUáÃå×áÂ áÄå£á¶ ãÐå×ã¶ ØãËåºâpånB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ÕãoåÖãlCá¯áÆ åÄáRåºB áÑ ãoåtâ×åÂB ÔáÂãB ãoåtâ¯åÂB áÌãÆ ãÐå×ã¶ ãnåÒâÆâB åoãä×á{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n this day, bestow on me the blessings of the Night of Qadr, change my affairs from (being) difficult to (being) easy, accept my apologi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14842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nåpãÒåÂB áÑ áSåÊáämÂB ØãäËá® áä¨âc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dãÂCáä|ÂB ãÍãjCáRã¯ãQ Cæ¶âJán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decrease for me (my) sins and burdens, O the Compassionate with His righteous serv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Shia Ithna'asheri Community of Middlesex (Mahfi Ali)</dc:creator>
  <dc:description/>
  <dc:language>en-US</dc:language>
  <cp:lastModifiedBy>Kumail Versi</cp:lastModifiedBy>
  <dcterms:modified xsi:type="dcterms:W3CDTF">2007-09-09T12:26:53Z</dcterms:modified>
  <cp:revision>56</cp:revision>
  <dc:subject/>
  <dc:title>Daily Du`as for Ramadan - 27</dc:title>
</cp:coreProperties>
</file>