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823F-0E64-4CDE-976C-08396DC7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9424-32FA-464D-95AE-01A9E55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5367-AD6E-4C4E-A669-E4A17D3E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3EAD-31E2-456F-9549-09B73C77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9749-5E8F-43CF-A803-6CAED6AF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C1C2-E85A-46CF-AE69-F28AC323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9230-8B5B-4F18-A773-C83979C4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A8E3-52AB-47C3-AFB7-3009AFDD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3845-5D7F-43DB-A045-FF8C19EC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5ED6-EE6B-48F5-891B-8BDCBAEF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E2D0-0151-4777-AD75-C9B1E2B9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41A7-F7D6-4416-8190-129140BA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0875-0A5D-4E99-9F8B-056BCAD8B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1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980640"/>
            <a:ext cx="86868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ãwCáhåÂB áUá®Cá¦ ãÐå×ã¶ ØãËåºâpån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XãRåhâÇåÂB ãUáQCáÊãCãQ Õãnåká{ ãÐå×ã¶ åbáoå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·ãMEáhåÂB áÉCáÆáB CáÖ áÀãÊCáÆáC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grant me the obedience of the humble, expand my chest through the repentance of the humble, by Your security, O the shelter of the fear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4:57Z</dcterms:modified>
  <cp:revision>43</cp:revision>
  <dc:subject/>
  <dc:title>Daily Du`as for Ramadan - 15</dc:title>
</cp:coreProperties>
</file>