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24DE-4172-4C17-AB01-94BEA098C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AEA2-141E-4D62-A6DE-A4769545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3158-FB7F-4B6A-AE4E-396FBF69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D944-BD56-428E-A7F5-FD1B023B7D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5938-2767-4FFB-87D5-02425B19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0839-411D-4FBC-B939-C0C3485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161B-2D1D-40D5-B78E-F14E855E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B2B0-83AC-4114-BCFB-82617DFA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E732-A4B2-4009-92C1-8F832923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AE8A-10AC-469C-9E49-2F4F9157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51E0-6252-43A3-9201-CB8BEFF7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D4D4-C674-405C-891A-B54FD49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A79F-56EB-4D0D-AED0-2CBABE6DA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åÒâRâ»åÂB áÑ ãoå¿âäxÂCãQ ãÐå×ã¶ ØãÆCá×ã{ åÄá¯å_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ÁåÒâsáäoÂB âÍCá¢åoáÖ áÑ âÍCá¢åoáW CáÆ Ô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make my fasts worthy of appreciation and acceptance, according to what pleases You, and pleases the Messeng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åÒâ{âÜãQ âÐâ®åÑâoâ¶ æUáÇá¿ådâ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ÖãoãÎCáä§ÂB ãÐãÂB áäÑ èkáäÇádâÆ CáÊãkãä×ás ãä¼ád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ÇáÂCá¯åÂB ãäPán ãÐäÃãÂ âkåÇádåÂ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branches being strengthened by the roots, for the sake of our leader, Mu&lt;ammad, and his purified family. Praise be to Alláh, the Lord of the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7:30Z</dcterms:modified>
  <cp:revision>58</cp:revision>
  <dc:subject/>
  <dc:title>Daily Du`as for Ramadan - 30</dc:title>
</cp:coreProperties>
</file>