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884A-C729-4E57-8A70-CEB2CAABD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66A1-D43E-44BB-86AB-79D846C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66CE-F4AF-4D2A-9CCA-3260C57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ABCD-00EF-4D6F-9433-2C7BCE36F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42BD-CFD6-420E-84E6-E352BD09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A2BE-C660-444B-ADA4-0A4E0CE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5FB2-8DCB-4230-91DF-03F5FE9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8211-E444-4C35-A3FE-782DA25B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C1E3-4DD2-42B2-B592-5A1028AF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0680-292F-4846-8AA7-91B18390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9DD2-AE17-4E05-A985-49DD621F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DDD8-615D-4481-96E5-F0200749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04A-2D32-458B-A348-7FCD9A9D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49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MEá×ãÂåÑÛ æäCRãdâÆ ãÐå×ã¶ ØãËåÃá¯å_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MDákå®Û CæÖãjCá¯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make me among those who love Your friends, and hate Your enem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MEá×ãRåÊáB ãÈãWCág ãUáäËâtãQ æäCËáXåtâ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RáäËÂB ãPåÒâÃâº áÈã{C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llowing the way of Your last Prophet, O the Guardian of the hearts of the Proph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4:31Z</dcterms:modified>
  <cp:revision>54</cp:revision>
  <dc:subject/>
  <dc:title>Daily Du`as for Ramadan - 25</dc:title>
</cp:coreProperties>
</file>