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6D81-F2EC-42C1-9C90-8D342C9A18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FD11-1AFD-4AFA-BF70-D16E5BD6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455A1-1D70-4F45-BFC8-EA908FD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B0B6-AA48-4091-87A4-DA13BB378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CDC2-5D09-4EAD-BDD3-180FA0FA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DC54-2D25-441C-BED9-0204F9D8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9B54-E9EC-4372-AE22-E10E6EEA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C5C2-611E-45F6-98CE-4F86C060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F6AB-F1E3-41FB-9E51-82290337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8B95-B734-4E0C-AEB3-555B97EB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25DE-89A1-4135-A6D8-9F84D240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59C5-CBA3-486F-B2A3-29A58867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84F4-617C-41A9-9F59-7E7C1DF62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WCá¾áoáQ åÌãÆ Øãä«ác ãÐå×ã¶ åoãä¶áÑ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WBáoå×ág ÔÂãB ØãÃå×ãRás åÄãäÏás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multiply for me its blessings, and ease my path towards its bounti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WCáÊCátác áÁåÒâRáº ØãËåÆãoåd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Ìå×ãRâÇåÂB ãä¼ádåÂB ÔÂãB CæÖãjCá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do not deprive me of the acceptance of its good deeds, O the Guide towards the clear tr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7:03Z</dcterms:modified>
  <cp:revision>47</cp:revision>
  <dc:subject/>
  <dc:title>Daily Du`as for Ramadan - 19</dc:title>
</cp:coreProperties>
</file>