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A5E4-CE80-4926-B703-6644513C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9F2C-2846-4291-AAEF-91A4625C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3376-B2EB-4CB7-B70D-26940B38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B537-CB62-4B00-86E4-623F3558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5F73-C10B-40CC-B498-1BDC8308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0AFB-20B5-4EF4-B20D-1E004FB8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1E68-3894-4F11-8BAB-4158E3D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73BF-E3D4-436D-ABDF-DFDF7C0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796F-EBDA-45F6-81A6-F84EE174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A838-1FB7-4F9B-80DD-4F51C8CC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A746-4881-45D4-B6EE-9512938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B18D-53B8-438E-BBB6-DE19D68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2CF7-2BF8-468A-89C4-A2A55ACD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CáÇå®ÛB ãeãÂCá|ãÂ ãÐå×ã¶ ØãÊãkåÎ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CáÆÛB áÑ áaãMBáÒádåÂB ãÐå×ã¶ ØãÂ ã¤åº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guide me towards righteous actions, fulfill my needs and hop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BáKâtÂB áÑ ãoå×ãtå·áäXÂB ÔÂãB â^CáXådáÖ áÙ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áÂCá¯åÂB ãnåÑâkâ{ Øã¶ CáÇãQ CæÇãÂC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oãÎCáä§ÂB ãÐãÂ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One who does not need explanations nor questions, O One who knows what is in the chests of the (people of the) world. Bless Mu&lt;ammad and his family, the P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8:55Z</dcterms:modified>
  <cp:revision>43</cp:revision>
  <dc:subject/>
  <dc:title>Daily Du`as for Ramadan - 17</dc:title>
</cp:coreProperties>
</file>