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56145-1271-4FDC-BD42-96568BBFE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0D4DC-A5B9-4D16-8271-434CC5171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F40BD-0BA5-43B0-8BA9-F523DA22D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0CFCD-E87C-4CB6-87AB-37A0A6F21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E5E8E-C59B-4C45-9765-8D34B5556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D2821-2907-403B-8A33-A13388C43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17809-D441-48D2-A6BB-5D71D6F10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9D6F0-3958-45E6-A648-7A1684339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2824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D71BE-DBD6-408B-AD34-E8D967090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A6D7C-D4DA-41A8-8D41-E655F83BC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49B58-C786-47A0-AEE2-67FC5FB8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D939C-D8FC-4ECD-8C96-A3A160B89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l-Arial"/>
              </a:rPr>
              <a:t>Click to edit the title text format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5486B-FCDC-4CE5-962B-53C432C7FD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aily Du`ás for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 – (14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Day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99"/>
                </a:solidFill>
                <a:latin typeface="Al-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l-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Èå×ãcáäoÂB ãÌÇåcáäoÂB ãÐäÃÂB ãÈåtã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In the name of Alláh the Beneficent, the Mercifu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repared by Tablígh Sub-Committee of ISIJ of Toronto and updated by SICM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28600" y="14130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VBáoá\á¯åÂCãQ ãÐå×ã¶ ØãÊåmãgBááKâW áÙ áäÈâÏäÃÂ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VBáÒá·áÏåÂB áÑ CáÖCá§áhåÂB áÌãÆ ãÐå×ã¶ ØãËåÃãºá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on this day, do not condemn me for slips, make me decrease mistakes and error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repared by Tablígh Sub-Committee of ISIJ of Toronto and updated by SICM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28600" y="14130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VCá¶ÛB áÑ CáÖáÚáRåÃãÂ Cæ¢áoá² ãÐå×ã¶ ØãËåÃá¯å`áW áÙ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Ìå×ãÇãÃåtâÇåÂB áäqã® CáÖ áÀãWáäqã¯ã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do not make me a target for afflictions and troubles, by Your honor, O the honor of the Musli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repared by Tablígh Sub-Committee of ISIJ of Toronto and updated by SICM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0T17:49:06Z</dcterms:created>
  <dc:creator>Shia Ithna'asheri Community of Middlesex (Mahfi Ali)</dc:creator>
  <dc:description/>
  <dc:language>en-US</dc:language>
  <cp:lastModifiedBy>Kumail Versi</cp:lastModifiedBy>
  <dcterms:modified xsi:type="dcterms:W3CDTF">2007-09-09T12:12:12Z</dcterms:modified>
  <cp:revision>40</cp:revision>
  <dc:subject/>
  <dc:title>Daily Du`as for Ramadan - 14</dc:title>
</cp:coreProperties>
</file>