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7A8-C4F4-4A12-BC81-BE204C1C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079880"/>
            <a:ext cx="9144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8B3-0D7E-497C-9D66-D1202F8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48392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07988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07988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608-9D49-41F6-96EF-5BAE172A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29440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483920"/>
            <a:ext cx="29440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483920"/>
            <a:ext cx="29440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079880"/>
            <a:ext cx="29440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079880"/>
            <a:ext cx="29440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079880"/>
            <a:ext cx="29440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FA6-1FD4-46CF-A34D-91EBC1D7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E88-A145-4919-A633-8E40ABBC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F83-5EE7-4AA0-95EC-0E7B919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62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483920"/>
            <a:ext cx="4462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A31-188E-4F0C-82FA-49B7E84A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04C-2826-4430-A648-4CC965EA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6E2-117C-46A5-8DBC-5F852EFC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83920"/>
            <a:ext cx="4462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07988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68D-0286-4FE6-9693-624D4C95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62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8392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07988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CE3-0A6D-4177-9EF5-BCC78F2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483920"/>
            <a:ext cx="4462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079880"/>
            <a:ext cx="9144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FBA-6BA4-4FF6-BBA3-940FE8F4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Century"/>
              </a:rPr>
              <a:t>Click to edit the title text format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219240" indent="-219240" algn="ctr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2" marL="219240" indent="-21924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3" marL="219240" indent="-219240" algn="ctr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19240" indent="-21924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5" marL="219240" indent="-21924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6" marL="219240" indent="-21924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9280" y="6597360"/>
            <a:ext cx="2968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ujjat Imambara - Stan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D9D9-3F07-48DE-BDCF-B19EB945E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56720" y="5902200"/>
            <a:ext cx="118728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َللَّهُمَّ ارْزُقْنَا تَوْفِيْقَ الطَّاع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O Allah Bless us with success in obeying You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اغْضُضْ اَبْصَارَنَا عَنِ الْفُجُوْرِ وَالْخِيَانَةَ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Lower our eyes from immortality and breach of faith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اسْدُدْ اَسْمَاعَنَا عَنِ اللَّغْوِ وَالْغِيْب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Close our ears to nonsense talk and backbiting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تَفَضَّلْ عَلى عُلَمَآئِنَا بِالزُّهْدِ وَالنَّصِيْح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Oh Allah! Bless our scholars with piety and preaching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لْمُتَعَلِّمِيْنَ بِالْجُهْدِ وَالرَّغْب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students with the spirit of hard work and interest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لْمُسْتَمِعِيْنَ بِاْلأِتِّبَاعِ  وَالْمَوْعِظ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audience with power to follow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مَرْضَى الْمُسْلِمِيْنَ بِاشِّفَآءِ وَالرَّاح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sick Muslim with care and rest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مَوْتَاهُمْ بِالرَّافَةِ وَالرَّحْم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deceased Muslims with mercy and forgivenes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مَشَايِخِنَا بِالْوَقَارِ وَالسَّكِيْن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old with prestige and patienc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لشَّبَابِ بِاْلأِنَابَةِ وَالتَّوْب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young with obedience and repentance.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لنِّسَآءِ بِالْحَيَآءِ وَالْعِفّ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women with modesty and chastity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بُعْدَ الْمَعْصِي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And distance from sins;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ْلأغْنِيَآءِ بِالتَّوَاضُعِ وَالسَّع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rich with humbleness and generosity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لْفُقَرَآءِ بِالصَّبْرِ وَالْقَنَاع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poor with patience and satisfaction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لْغُزَاةِ  بِانَّصْرِ وَالْغَلَب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Muslims fight with help and victory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ْلأُسَرَآءِ بِالْخَلاَصِ وَالرَّاح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prisoners with freedom and comfort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ْلأُمَرَآءِ بِالْعَدْلِ وَالشَّفَق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rulers with justice and compassion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َلَى الرَّعِيَّةِ بِاْلأِنْصَافِ وَحُسْنِ السِّيْر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e citizens with equity and good tradition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بَارِكْ لِلْحُجَّاجِِ وَالزُّّوَارِ فِِى الزَّادِ وَالنَّفَق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And bless the pilgrims with means of travel and expens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ا قْضِ مَآ اَوْجَبْتَ عَلَيْهِمْ مِنَ الْحَجِّ وَالْعُمْر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And bestow upon them requirement Haj and Umra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ِفَضْلِكَ وَرَحْمَتِكَ يَآاَرْحَمَ الرَّاحِمِيْنَ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With your Graciousness and your Mercy Oh the most Merciful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 صِدْقَ النِّيّ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Sincerity in intention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عِرْفَانَ الْحُرْم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Awareness (understanding) of our limit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اَكْرِمْنَا  بِالْهُدَى وَاْلاِْسْتِقَامَةِ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And bless us with guidance and steadfastnes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سَدِّدْ اَلْسِنَتَنَا بِلصَّوَابِ وَالْحِكْم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uide our tongues to rightness and wisdom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امْلأَ قُلُوْبَنَا بِالْعِلْمِ وَالْمَعْرِف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Fill up our hearts with knowledge and awareness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طَهِّرْ بُطُوْنَنَا مِنَ الْحَرَامِ وَالشُّبْه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Purify our bellies from haram and doubtful things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99"/>
                </a:solidFill>
                <a:uFillTx/>
                <a:latin typeface="Century"/>
              </a:rPr>
              <a:t>Dua Taught by Imam Mahdi A.S.</a:t>
            </a:r>
            <a:endParaRPr b="0" lang="en-US" sz="4400" spc="-1" strike="noStrike" u="sng">
              <a:solidFill>
                <a:srgbClr val="ffff99"/>
              </a:solidFill>
              <a:uFillTx/>
              <a:latin typeface="Centur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وَاكْفُفْ اَيْدِيَنَا عَنِ الظُّلْمِ وَالسَّرِقَةِ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strain our hands from tyranny and theft.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5:16:56Z</dcterms:created>
  <dc:creator>Mahmood Rehemtulla</dc:creator>
  <dc:description/>
  <dc:language>en-US</dc:language>
  <cp:lastModifiedBy>name</cp:lastModifiedBy>
  <dcterms:modified xsi:type="dcterms:W3CDTF">2006-02-13T14:44:01Z</dcterms:modified>
  <cp:revision>5</cp:revision>
  <dc:subject/>
  <dc:title>Dua Taught by Imam Mahdi A.S.</dc:title>
</cp:coreProperties>
</file>