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903744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ua to bid farewell to Ramadhan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Taught by Imam Ja’far-as-Sadiq a.s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In then name of Allah, the Beneficent the Merciful.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O Allah, bless Muhammad and his family,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 Allah, accept it from us with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our most gracious acceptance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our overlooking (the faults)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our pardon, Your forgiveness and Your true pleasur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Untill You make us triumphant in it,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with every desired good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generous giving.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protect us in it from every feared thing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or drawn affliction or earned sin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, Allah, I beseech You of the greatest of what anyone of Your creation has beseeched You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om Your noble names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Your beautiful praise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Your special prayers,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less Muhammad and his family,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make this month of Ramadhan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he greatest month of Ramadhan ever passed for us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ince we came down to the world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in the protection of my religion,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sincerity of my soul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fulfilment of my wishe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completion of benefits on me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removal of evil on me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a garment of health on me,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make me, by Your mercy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om those for whom You hav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ept the night of Power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for whom You have made it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tter than a thousand nigh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rough great reward, stored magnanimity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gracious gratitude, and long life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continuous eas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O Allah, I beseech You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from Your mercy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Your power, Your pardon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Your favours, Your sublimity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Your favours and graces of old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not to let this be our last Ramadhan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until You make us reach the next [Ramadhan] in the best of condition.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make us know its crescent with those who witness it and recognise it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in the best of health from You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he best of Your bounties,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he most abundant of Your mercy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the best of reward in Your decree.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y Lord, He who is there is no Lord for me other than Him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 not let this farewell [of Ramadhan]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e the farewell of termination,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O Allah, You have said in Your revealed book, </a:t>
            </a:r>
            <a:br>
              <a:rPr sz="3600"/>
            </a:br>
            <a:r>
              <a:rPr b="0" i="1" lang="en-GB" sz="3600" spc="-1" strike="noStrike">
                <a:solidFill>
                  <a:srgbClr val="ffff00"/>
                </a:solidFill>
                <a:latin typeface="Times New Roman"/>
              </a:rPr>
              <a:t>month of  Ramadhan in which the Qur’an was revealed.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2:185)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now this month of Ramadhan, has completed,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nor the final covenant from me till the meeting [at death]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until You have shown me from the coming [Ramadhan]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hrough abundance of blessings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he best of hopes,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I am most loyal to You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urely You listen to the prayer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 Allah, hear my supplication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have mercy on my submissiveness, and my humbleness to You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my dependence and reliance on You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 am submissive to You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 do not hope for succes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cept through You and from You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o be generous to me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alted is Your praise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oly are Your names,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hrough the reaching of the month of Ramadhan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making me free of every disliked thing,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very danger, and all misfortunes.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ll praise is for Allah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ho helped us with the fasts of this month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the rising in it [for prayer]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til the last night from it has reached u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o I beseech You, by Your Noble Countenance, and Your perfect words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If there is any sin on me which You have not forgiven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or which You want to punish me for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or take me to account for,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I beseech You) to not let this night pass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nor this month be completed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xcept that You have forgiven me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O Most Merciful of the mercifuls.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O Allah for You is all praise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for all Your praiseworthy acts,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first of them, and the last of them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hat You have said of it for Yourself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what the creatures have said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praises, the strugglers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few, who have fulfilled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our remembrance and Your praise,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hose who You have helped to fulfil You right, among Your various creation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of the near angels, and the Prophets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the Messengers.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the various utterers and those who glorify You, from all of the worlds.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You have made the month of Ramadhan reach us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given us of Your bounties,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nd we have Your provision and Your favour, and You apparent blessing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o for that is ultimate praise for You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Praise which is) for ever, continuous, tranquil, infinitely eternal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hich does not finish for all times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alted be Your prais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ou helped us in it, until You fulfilled in it for u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s fasts and rising for prayers in it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whatever we did in it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good, gratitude and remembranc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3T22:34:07Z</dcterms:created>
  <dc:creator>Shia Ithna’sheri Community of Middlesex (Mahfil Ali)</dc:creator>
  <dc:description/>
  <dc:language>en-US</dc:language>
  <cp:lastModifiedBy>Asaria</cp:lastModifiedBy>
  <dcterms:modified xsi:type="dcterms:W3CDTF">2000-12-24T05:37:31Z</dcterms:modified>
  <cp:revision>2</cp:revision>
  <dc:subject/>
  <dc:title>Dua to bid farewell to Ramadhan (Taught by Imam Ja’far-as-Sadiq a.s)  In then name of Allah, the Beneficent the Merciful. O Allah, bless Muhammad and his family,</dc:title>
</cp:coreProperties>
</file>