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B15C01-0C7D-4CBD-98EC-FD2666DD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9"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49626A-6459-4A48-B053-907F36948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2"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088EAF-366C-4F1F-B3EF-77071B66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7"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5292FB-513C-44B0-A07B-F7EA8530F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8"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20AE46-4F3B-4CE7-AFC8-ED6DBBDB5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0"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B996F3-95CF-4353-AFFA-DC1A20148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2"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C2D9B6-FC1D-4DA4-B978-71D4120F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24B2EB-7272-43B8-A238-20DFC859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41389A-2561-47B1-9789-B9A19127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7"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22F0DA-7F59-405A-BCC1-F59BFAC8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9D2C1A-6262-4FC9-AF31-80BE01FA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5"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3194FF-1F70-4F20-A29F-EE7BCB400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3526-3F5D-45BE-AB18-A81FC1F3D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ftr" idx="3"/>
          </p:nvPr>
        </p:nvSpPr>
        <p:spPr>
          <a:xfrm>
            <a:off x="228240" y="6552720"/>
            <a:ext cx="8534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lt;footer&gt;</a:t>
            </a:r>
            <a:r>
              <a:rPr b="1" lang="en-US" sz="1400" spc="-1" strike="noStrike">
                <a:solidFill>
                  <a:srgbClr val="000099"/>
                </a:solidFill>
                <a:latin typeface="Al-Arial"/>
              </a:rPr>
              <a:t>Prepared by Tablígh Sub-committee of ISIJ of Toronto and updated by SICM</a:t>
            </a:r>
            <a:endParaRPr b="0" lang="en-US" sz="1400" spc="-1" strike="noStrike">
              <a:solidFill>
                <a:srgbClr val="000000"/>
              </a:solidFill>
              <a:latin typeface="Times New Roman"/>
            </a:endParaRPr>
          </a:p>
        </p:txBody>
      </p:sp>
      <p:sp>
        <p:nvSpPr>
          <p:cNvPr id="4"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rPr>
              <a:t>Du`á for Bidding Farewell to the Month of Rama_án</a:t>
            </a:r>
            <a:br>
              <a:rPr sz="3000"/>
            </a:br>
            <a:endParaRPr b="0" lang="en-US" sz="3000" spc="-1" strike="noStrike">
              <a:solidFill>
                <a:srgbClr val="000000"/>
              </a:solidFill>
              <a:latin typeface="Times New Roman"/>
            </a:endParaRPr>
          </a:p>
        </p:txBody>
      </p:sp>
      <p:sp>
        <p:nvSpPr>
          <p:cNvPr id="5" name=""/>
          <p:cNvSpPr/>
          <p:nvPr/>
        </p:nvSpPr>
        <p:spPr>
          <a:xfrm>
            <a:off x="0" y="4572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l-Arial"/>
              </a:rPr>
              <a:t>Supplication No. 45 from @a&lt;ífa al-Kámilah</a:t>
            </a:r>
            <a:endParaRPr b="0" lang="en-US" sz="2000" spc="-1" strike="noStrike">
              <a:solidFill>
                <a:srgbClr val="000000"/>
              </a:solidFill>
              <a:latin typeface="Times New Roman"/>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1447920"/>
            <a:ext cx="9144000" cy="4572000"/>
          </a:xfrm>
          <a:prstGeom prst="rect">
            <a:avLst/>
          </a:prstGeom>
          <a:noFill/>
          <a:ln w="0">
            <a:noFill/>
          </a:ln>
        </p:spPr>
        <p:txBody>
          <a:bodyPr lIns="90000" rIns="90000" tIns="46800" bIns="46800" anchor="t">
            <a:normAutofit fontScale="77000"/>
          </a:bodyPr>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ea typeface="Courier New"/>
              </a:rPr>
              <a:t>èkáäÇádâÆ ãÁB áÑ èkáäÇádâÆ ÔÃá® ãäÄá{ áäÈâÏäÃÂáB</a:t>
            </a:r>
            <a:endParaRPr b="0" lang="en-US" sz="4400" spc="-1" strike="noStrike">
              <a:solidFill>
                <a:srgbClr val="000000"/>
              </a:solidFill>
              <a:latin typeface="Times New Roman"/>
            </a:endParaRPr>
          </a:p>
          <a:p>
            <a:pPr marL="263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send Your blessings on Mu&lt;ammad</a:t>
            </a:r>
            <a:endParaRPr b="0" lang="en-US" sz="32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 family of Mu&lt;amm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066680"/>
            <a:ext cx="9144000" cy="556272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UáQåÒáäXÂB âÐáXå×áäÇásáÑ á½ãÒå·á® ÔáÂãH EæQCáQ á½ãjCáRã¯ãÂ áYådáXá¶ ÕãmáäÂB áYåÊáF</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BÒâäÃã£áÖ áÚáNãÂ áÀã×åcáÑ åÌãÆ æÚ×ãÂáj ãPCáRåÂB áÀãÂál ÔáÃá® áYåÃá¯á_ áÑ</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âÇåsB ½ánCáRáW áYåÃâ»á¶ âÐåËá®</a:t>
            </a:r>
            <a:endParaRPr b="0" lang="en-US" sz="4400" spc="-1" strike="noStrike">
              <a:solidFill>
                <a:srgbClr val="000000"/>
              </a:solidFill>
              <a:latin typeface="Times New Roman"/>
            </a:endParaRPr>
          </a:p>
          <a:p>
            <a:pPr marL="229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Arial"/>
                <a:ea typeface="MS Mincho"/>
              </a:rPr>
              <a:t>It is You who have opened for Your servants</a:t>
            </a:r>
            <a:br>
              <a:rPr sz="2800"/>
            </a:br>
            <a:r>
              <a:rPr b="1" lang="en-US" sz="2800" spc="-1" strike="noStrike">
                <a:solidFill>
                  <a:srgbClr val="000000"/>
                </a:solidFill>
                <a:latin typeface="Al-Arial"/>
                <a:ea typeface="MS Mincho"/>
              </a:rPr>
              <a:t>a door to Your pardon, which You have named ‘repentance’. You have placed upon that door a pointer from Your revelation, lest they stray from it: You have said (blessed are Your na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990720"/>
            <a:ext cx="9144000" cy="5486400"/>
          </a:xfrm>
          <a:prstGeom prst="rect">
            <a:avLst/>
          </a:prstGeom>
          <a:noFill/>
          <a:ln w="0">
            <a:noFill/>
          </a:ln>
        </p:spPr>
        <p:txBody>
          <a:bodyPr lIns="90000" rIns="90000" tIns="46800" bIns="46800" anchor="t">
            <a:normAutofit fontScale="76000"/>
          </a:bodyPr>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oãä·á¿âÖ åÉáF åÈâ¿âäQán Ôátá® CæcÒâ|áÊ æUáQåÒáW ãÐáäÃÂB ÔáÂãH DáÒâQÒâW</a:t>
            </a:r>
            <a:endParaRPr b="0" lang="en-US" sz="4400" spc="-1" strike="noStrike">
              <a:solidFill>
                <a:srgbClr val="000000"/>
              </a:solidFill>
              <a:latin typeface="Times New Roman"/>
            </a:endParaRPr>
          </a:p>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ãWCáNãä×ás åÈâ¿åËá® </a:t>
            </a:r>
            <a:endParaRPr b="0" lang="en-US" sz="4400" spc="-1" strike="noStrike">
              <a:solidFill>
                <a:srgbClr val="000000"/>
              </a:solidFill>
              <a:latin typeface="Times New Roman"/>
            </a:endParaRPr>
          </a:p>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nCáÏåÊáÛBB CáÏãXådáW åÌãÆ Õãoå`áW èVCáäËá_ åÈâ¿áÃãgåkâÖáÑ</a:t>
            </a:r>
            <a:endParaRPr b="0" lang="en-US" sz="4400" spc="-1" strike="noStrike">
              <a:solidFill>
                <a:srgbClr val="000000"/>
              </a:solidFill>
              <a:latin typeface="Times New Roman"/>
            </a:endParaRPr>
          </a:p>
          <a:p>
            <a:pPr marL="260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Arial"/>
                <a:ea typeface="MS Mincho"/>
              </a:rPr>
              <a:t>Repent toward God with unswerving repentance! It may be that Your Lord will acquit of your evil deeds and will admit you into gardens beneath which rivers f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1294920"/>
            <a:ext cx="9144000" cy="487692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áÆ BÒâËáÆD áÌÖãmáäÂB áÑ áäØãRáäËÂB âÐáäÃÂB ÕãqåhâÖ áÙ áÅåÒáÖ</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ãÏãÊCáÇåÖáGãQáÑ âÈãÏÖãkåÖáF áÌå×áQ Ôá¯åtáÖ åÈâÎânÒâÊ</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Arial"/>
                <a:ea typeface="MS Mincho"/>
              </a:rPr>
              <a:t>upon the day when God will not degrade the Prophet and those who have faith along with him, their light running before them and on their right hands,</a:t>
            </a:r>
            <a:endParaRPr b="0" lang="en-US" sz="32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4000"/>
          </a:bodyPr>
          <a:p>
            <a:pPr marL="2880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EáËáÂ åoã·å²BáÑ CáÊánÒâÊ CáËáÂ åÈãÇåWáF EáËáäQán áÉÒâÂÒâ»áÖ</a:t>
            </a:r>
            <a:endParaRPr b="0" lang="en-US" sz="4400" spc="-1" strike="noStrike">
              <a:solidFill>
                <a:srgbClr val="000000"/>
              </a:solidFill>
              <a:latin typeface="Times New Roman"/>
            </a:endParaRPr>
          </a:p>
          <a:p>
            <a:pPr marL="2880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oÖãkáº èAØáw ãäÄâ¾ ÔáÃá® áÀáäÊãH</a:t>
            </a:r>
            <a:endParaRPr b="0" lang="en-US" sz="4400" spc="-1" strike="noStrike">
              <a:solidFill>
                <a:srgbClr val="000000"/>
              </a:solidFill>
              <a:latin typeface="Times New Roman"/>
            </a:endParaRPr>
          </a:p>
          <a:p>
            <a:pPr marL="288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Arial"/>
                <a:ea typeface="MS Mincho"/>
              </a:rPr>
              <a:t>and they say: ‘Our Lord, complete for us our light, and forgive us! Surely You art powerful over everything</a:t>
            </a:r>
            <a:r>
              <a:rPr b="1" lang="en-US" sz="3200" spc="-1" strike="noStrike">
                <a:solidFill>
                  <a:srgbClr val="000000"/>
                </a:solidFill>
                <a:latin typeface="Al-Arial"/>
                <a:ea typeface="MS Mincho"/>
              </a:rPr>
              <a:t>.’ (66:8)</a:t>
            </a:r>
            <a:endParaRPr b="0" lang="en-US" sz="3200" spc="-1" strike="noStrike">
              <a:solidFill>
                <a:srgbClr val="000000"/>
              </a:solidFill>
              <a:latin typeface="Times New Roman"/>
            </a:endParaRPr>
          </a:p>
          <a:p>
            <a:pPr marL="288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1371600"/>
            <a:ext cx="86868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ÁãqåËáÇåÂB áÀãÂál áÁÒâgâj áÄá·å²áF åÌáÆ ânåmâ® CáÇá¶</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ãÂáäkÂB ãUáÆCáºãH áÑ ãPCáRåÂB ãeåXá¶ ákå¯áQ</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hat is the excuse of him who remains heedless of entering that house after the opening of the door and the setting up of the poi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914400"/>
            <a:ext cx="9144000" cy="632448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ãjCáRã¯ãÂ áÀãtå·áÊ ÔáÃá® ãÅåÒáätÂB Øã¶ áVåjãp ÕãmáäÂB áYåÊáF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áÂ åÈÏãWáoá_CáXâÆ Øã¶ åÈâÏádåQãn âkÖãoâW</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ËãÆ ãTájCáÖãäqÂBáÑ áÀå×áÃá® ãTájCá¶ãÒåÂCãQ åÈâÎápåÒá¶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t is You who have raised the price against Yourself to the advantage of Your servants, desiring their profit in their trade with You, their triumph through reaching You, and their increase on account of You, </a:t>
            </a:r>
            <a:br>
              <a:rPr sz="3200"/>
            </a:br>
            <a:r>
              <a:rPr b="1" lang="en-US" sz="3200" spc="-1" strike="noStrike">
                <a:solidFill>
                  <a:srgbClr val="000000"/>
                </a:solidFill>
                <a:latin typeface="Al-Arial"/>
                <a:ea typeface="MS Mincho"/>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914400"/>
            <a:ext cx="9144000" cy="556272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áÂCá¯áW áÑ áÀâÇåsB á½ánCáRáW áYåÃâ»á¶</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ãÂCá\åÆáF âoåxá® âÐáÃá¶ ãUáËátádåÂCãQ áAEá_ åÌáÆ</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áÃå\ãÆ áÙãH Óáqå`âÖ áÚá¶ ãUáNãä×áätÂCãQ áAEá_ åÌáÆáÑ</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or You have said (blessed is Your Name and high are You exalted), </a:t>
            </a:r>
            <a:r>
              <a:rPr b="1" i="1" lang="en-US" sz="3200" spc="-1" strike="noStrike">
                <a:solidFill>
                  <a:srgbClr val="000000"/>
                </a:solidFill>
                <a:latin typeface="Al-Arial"/>
                <a:ea typeface="MS Mincho"/>
              </a:rPr>
              <a:t>Whoso brings a good deed shall have ten the like of it, and whoso brings an evil deed shall only be recompensed the like of it</a:t>
            </a:r>
            <a:r>
              <a:rPr b="1" lang="en-US" sz="3200" spc="-1" strike="noStrike">
                <a:solidFill>
                  <a:srgbClr val="000000"/>
                </a:solidFill>
                <a:latin typeface="Al-Arial"/>
                <a:ea typeface="MS Mincho"/>
              </a:rPr>
              <a:t>. (6:16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914040"/>
            <a:ext cx="9144000" cy="5638680"/>
          </a:xfrm>
          <a:prstGeom prst="rect">
            <a:avLst/>
          </a:prstGeom>
          <a:noFill/>
          <a:ln w="0">
            <a:noFill/>
          </a:ln>
        </p:spPr>
        <p:txBody>
          <a:bodyPr lIns="90000" rIns="90000" tIns="46800" bIns="46800" anchor="t">
            <a:normAutofit fontScale="70000"/>
          </a:bodyPr>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áäÃÂB ãÄ×ãRás Øã¶ åÈâÏáÂBáÒåÆáF áÉÒâ»ã·åËâÖ áÌÖãmáäÂB âÄá\áÆ YåÃâº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ÄãQCáËás á°åRás åYáXáRåÊáF èUáäRác ãÄá\áÇá¾</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EáxáÖ åÌáÇãÂ â¸ã®Cá£âÖ âÐáäÃÂB áÑ èUáäRác âUáMCãÆ èUáÃâRåËâs ãäÄâ¾ Øã¶</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 have said, ‘</a:t>
            </a:r>
            <a:r>
              <a:rPr b="1" i="1" lang="en-US" sz="3200" spc="-1" strike="noStrike">
                <a:solidFill>
                  <a:srgbClr val="000000"/>
                </a:solidFill>
                <a:latin typeface="Al-Arial"/>
                <a:ea typeface="MS Mincho"/>
              </a:rPr>
              <a:t>The likeness of those who expend their wealth in the way of God is as the likeness of a grain of corn that sprouts seven ears, in every ear a hundred grains; so God multiplies unto whom He wills.’ </a:t>
            </a:r>
            <a:r>
              <a:rPr b="1" lang="en-US" sz="3200" spc="-1" strike="noStrike">
                <a:solidFill>
                  <a:srgbClr val="000000"/>
                </a:solidFill>
                <a:latin typeface="Al-Arial"/>
                <a:ea typeface="MS Mincho"/>
              </a:rPr>
              <a:t>(2:26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371240"/>
            <a:ext cx="9144000" cy="3962520"/>
          </a:xfrm>
          <a:prstGeom prst="rect">
            <a:avLst/>
          </a:prstGeom>
          <a:noFill/>
          <a:ln w="0">
            <a:noFill/>
          </a:ln>
        </p:spPr>
        <p:txBody>
          <a:bodyPr lIns="90000" rIns="90000" tIns="46800" bIns="46800" anchor="t">
            <a:normAutofit fontScale="81000"/>
          </a:bodyPr>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Ëátác Cæ¢åoáº áÐáäÃÂB â¡ãoå»âÖ ÕãmáäÂB Bál åÌáÆ YåÃâºáÑ</a:t>
            </a:r>
            <a:endParaRPr b="0" lang="en-US" sz="4400" spc="-1" strike="noStrike">
              <a:solidFill>
                <a:srgbClr val="000000"/>
              </a:solidFill>
              <a:latin typeface="Times New Roman"/>
            </a:endParaRPr>
          </a:p>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o×ã\á¾ Cæ¶Cá¯å¢áF âÐáÂ âÐá·ã®Cá£â×á¶</a:t>
            </a:r>
            <a:endParaRPr b="0" lang="en-US" sz="4400" spc="-1" strike="noStrike">
              <a:solidFill>
                <a:srgbClr val="000000"/>
              </a:solidFill>
              <a:latin typeface="Times New Roman"/>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 have said, ‘</a:t>
            </a:r>
            <a:r>
              <a:rPr b="1" i="1" lang="en-US" sz="3200" spc="-1" strike="noStrike">
                <a:solidFill>
                  <a:srgbClr val="000000"/>
                </a:solidFill>
                <a:latin typeface="Al-Arial"/>
                <a:ea typeface="MS Mincho"/>
              </a:rPr>
              <a:t>Who is he that will lend to God a good loan, and He will multiply it for him manifold?’ </a:t>
            </a:r>
            <a:r>
              <a:rPr b="1" lang="en-US" sz="3200" spc="-1" strike="noStrike">
                <a:solidFill>
                  <a:srgbClr val="000000"/>
                </a:solidFill>
                <a:latin typeface="Al-Arial"/>
                <a:ea typeface="MS Mincho"/>
              </a:rPr>
              <a:t> (2:245)</a:t>
            </a:r>
            <a:endParaRPr b="0" lang="en-US" sz="3200" spc="-1" strike="noStrike">
              <a:solidFill>
                <a:srgbClr val="000000"/>
              </a:solidFill>
              <a:latin typeface="Times New Roman"/>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320" y="1599840"/>
            <a:ext cx="9296640" cy="472428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CáËátádåÂB ¸×ã®Cá£áW åÌãÆ ãÉDåoâ»åÂB Øã¶ áäÌãÎãoãMEá«áÊ ÌãÆ áYåÂáqåÊáF EáÆ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Rå×á² åÌãÆ áÀãÂåÒá»ãQ åÈâÏáXåÃáÂáj ÕãmáäÂB áYåÊáF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have sent down in the Qur’án similar verses on the multiplying of good deeds. It is You who have pointed them through Your speech from Your Unseen</a:t>
            </a:r>
            <a:endParaRPr b="0" lang="en-US" sz="32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218960"/>
            <a:ext cx="8686800" cy="510516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qá`åÂB Øã¶ âSá²åoáÖ áÙ åÌáÆ CáÖ áäÈ~âÏ~áäÃÂB</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Eá§á¯åÂB ÔáÃá® âÅákåËáÖ áÙ åÌáÆ CáÖ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ÒáätÂB ÔáÃá® âÍákåRá® âOã¶Cá¿âÖ áÙ åÌáÆ CáÖ áÑ</a:t>
            </a:r>
            <a:endParaRPr b="0" lang="en-US" sz="4400" spc="-1" strike="noStrike">
              <a:solidFill>
                <a:srgbClr val="000000"/>
              </a:solidFill>
              <a:latin typeface="Times New Roman"/>
            </a:endParaRPr>
          </a:p>
          <a:p>
            <a:pPr marL="243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 He who desires no repayment! </a:t>
            </a:r>
            <a:endParaRPr b="0" lang="en-US" sz="3200" spc="-1" strike="noStrike">
              <a:solidFill>
                <a:srgbClr val="000000"/>
              </a:solidFill>
              <a:latin typeface="Times New Roman"/>
            </a:endParaRPr>
          </a:p>
          <a:p>
            <a:pPr marL="243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He who shows no remorse at bestowal!</a:t>
            </a:r>
            <a:endParaRPr b="0" lang="en-US" sz="3200" spc="-1" strike="noStrike">
              <a:solidFill>
                <a:srgbClr val="000000"/>
              </a:solidFill>
              <a:latin typeface="Times New Roman"/>
            </a:endParaRPr>
          </a:p>
          <a:p>
            <a:pPr marL="243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He who rewards not His servant tit for t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ÏåËá® âÐáWåoáXás åÒáÂ CáÆ ÔáÃá® åÈâÏâä«ác ãÐ×ã¶ ÕãmáäÂB áÀãR×ã²åoáW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Ïâ®CáÇåsáF ãÐã¯áW åÈáÂ áÑ åÈâÎânCá|åQáF âÐå¾ãnåkâW åÈáÂ</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ÏâÆCáÎåÑáF âÐå»ádåÃáW åÈáÂ áÑ</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r encouragement in which lies their good fortune toward that which - had You covered it from them - their eyes would not have perceived, their ears would not have heard, and their imaginations would not have grasp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85440"/>
            <a:ext cx="9144000" cy="6095880"/>
          </a:xfrm>
          <a:prstGeom prst="rect">
            <a:avLst/>
          </a:prstGeom>
          <a:noFill/>
          <a:ln w="0">
            <a:noFill/>
          </a:ln>
        </p:spPr>
        <p:txBody>
          <a:bodyPr lIns="90000" rIns="90000" tIns="46800" bIns="46800" anchor="t">
            <a:normAutofit fontScale="77000"/>
          </a:bodyPr>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Ñâoâ·å¿áW áÙ áÑ ØãÂ BÑâoâ¿åwB áÑ åÈâ¾åoâ¾åláF ØãÊÑâoâ¾ålB áYåÃâ»á¶</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Wåoá·á¾ åÌãNáÂáÑ åÈâ¿áäÊákÖãpáÙ åÈâWåoá¿áw åÌãNáÂ áYåÃâºáÑ</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kÖãkáxáÂ ØãQBámá® áäÉãH</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or You have said, ‘</a:t>
            </a:r>
            <a:r>
              <a:rPr b="1" i="1" lang="en-US" sz="3200" spc="-1" strike="noStrike">
                <a:solidFill>
                  <a:srgbClr val="000000"/>
                </a:solidFill>
                <a:latin typeface="Al-Arial"/>
                <a:ea typeface="MS Mincho"/>
              </a:rPr>
              <a:t>Remember Me and I will remember you, be thankful to Me, and be you not thankless towards Me!’ </a:t>
            </a:r>
            <a:r>
              <a:rPr b="1" lang="en-US" sz="3200" spc="-1" strike="noStrike">
                <a:solidFill>
                  <a:srgbClr val="000000"/>
                </a:solidFill>
                <a:latin typeface="Al-Arial"/>
                <a:ea typeface="MS Mincho"/>
              </a:rPr>
              <a:t> (2:152)                                You have said, ‘</a:t>
            </a:r>
            <a:r>
              <a:rPr b="1" i="1" lang="en-US" sz="3200" spc="-1" strike="noStrike">
                <a:solidFill>
                  <a:srgbClr val="000000"/>
                </a:solidFill>
                <a:latin typeface="Al-Arial"/>
                <a:ea typeface="MS Mincho"/>
              </a:rPr>
              <a:t>If you are thankful, surely I will increase you, but if you are thankless, My chastisement is surely terrible.’ </a:t>
            </a:r>
            <a:r>
              <a:rPr b="1" lang="en-US" sz="3200" spc="-1" strike="noStrike">
                <a:solidFill>
                  <a:srgbClr val="000000"/>
                </a:solidFill>
                <a:latin typeface="Al-Arial"/>
                <a:ea typeface="MS Mincho"/>
              </a:rPr>
              <a:t> (14: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698040"/>
            <a:ext cx="9144000" cy="617220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áÂ åSã`áXåsáF ØãÊÒâ®åjB áYåÃâº áÑ</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ÈáäËáÏá_ áÉÒâÃâgåká×ás ØãWájCáRã® åÌá® áÉÑâoãRå¿áXåtáÖ áÌÖãmáäÂB áäÉãH</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BænCáRå¿ãXåsB âÐá¾åoáW áÑ æTájCáRã® á½áAEá®âj áYå×áäÇátá¶ áÌÖãoãgBáj</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have said, ‘</a:t>
            </a:r>
            <a:r>
              <a:rPr b="1" i="1" lang="en-US" sz="3200" spc="-1" strike="noStrike">
                <a:solidFill>
                  <a:srgbClr val="000000"/>
                </a:solidFill>
                <a:latin typeface="Al-Arial"/>
                <a:ea typeface="MS Mincho"/>
              </a:rPr>
              <a:t>Supplicate Me and I will respond to you, surely those who wax too proud to worship Me shall enter Jahannam utterly abject</a:t>
            </a:r>
            <a:r>
              <a:rPr b="1" lang="en-US" sz="3200" spc="-1" strike="noStrike">
                <a:solidFill>
                  <a:srgbClr val="000000"/>
                </a:solidFill>
                <a:latin typeface="Al-Arial"/>
                <a:ea typeface="MS Mincho"/>
              </a:rPr>
              <a:t> .’ (40:60)                                                                       Hence You have named supplicating You ‘worship’ and refraining from it ‘waxing pro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723960"/>
            <a:ext cx="9144000" cy="632448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ÖãoãgBáj áÈáäËáÏá_ áÁÒâgâj ãÐã¾åoáW ÔáÃá® áVåkáä®áÒáW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Ãå£á·ãQ á½Ñâoá¿áw áÑ áÀãäËáÇãQ á½Ñâoá¾ámá¶</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½ãkÖãqáÇãÂ CæRáÃá¦ áÀáÂ BÒâºáäká|áW áÑ á½ãoåÆáGãQ á½åÒá®áj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have threatened that the refraining from it would yield entrance into </a:t>
            </a:r>
            <a:r>
              <a:rPr b="1" i="1" lang="en-US" sz="3200" spc="-1" strike="noStrike">
                <a:solidFill>
                  <a:srgbClr val="000000"/>
                </a:solidFill>
                <a:latin typeface="Al-Arial"/>
                <a:ea typeface="MS Mincho"/>
              </a:rPr>
              <a:t>Jahannam</a:t>
            </a:r>
            <a:r>
              <a:rPr b="1" lang="en-US" sz="3200" spc="-1" strike="noStrike">
                <a:solidFill>
                  <a:srgbClr val="000000"/>
                </a:solidFill>
                <a:latin typeface="Al-Arial"/>
                <a:ea typeface="MS Mincho"/>
              </a:rPr>
              <a:t> in utter abjection. So they remember You for Your kindness, they thank You for Your bounty, they supplicate You by Your command, and they donate for You in order to seek Your incre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914040"/>
            <a:ext cx="9144000" cy="563868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Cá¢ãoãQ åÈâÎâpåÒá¶ áÑ áÀãRá£á² åÌãÆ åÈâÏâWCá`áÊ åYáÊCá¾ CáÏ×ã¶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ÕãmáäÂB ãÄå\ãÆ ÔáÃá® ãÐãtå·áÊ åÌãÆ CæºÒâÃåháÆ ç¹ÒâÃåháÆ áäÁáj åÒáÂ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ËãÆ ½ájCáRã® ãÐå×áÃá® áYåÃáÂáj</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all this lies their deliverance from Your wrath and their triumph through Your good pleasure. Were any creature himself to direct another creature to the like of that to which You Yourself have directed Your serv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1066680"/>
            <a:ext cx="9144000" cy="548640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CáËãXåÆãÙCãQ CæWÒâ¯åËáÆ áÑ ãÉCátåcãåßCãQ Cæ¶Òâ{åÒáÆ áÉCá¾</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ÉCátãÂ ãäÄâ¿ãQ BæjÒâÇådáÆ áÑ</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SáÎåmáÆ á½ãkåÇác Øã¶ ákã_âÑ CáÆ âkåÇádåÂB áÀáÃá¶</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he would be described by beneficence, qualified by kindness, and praised by every tongue. So to You belongs praise as long as there is found a way to praise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8686800" cy="548640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ÂãH âµãoá|åËáÖ ÔæËå¯áÆ áÑ ãÐãQ âkáÇådâW ç¬å·áÂ ãkåÇádåÃãÂ Øã»áQ CáÆ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å£á·åÂB áÑ ãÉCátåcãåßCãQ ãÍãjCáRã® ÔáÂãH ákáäÇádáW åÌáÆ CáÖ</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s long as there remains for praising words by which You may be praised and meanings which may be spent in praise! O He who shows Himself praiseworthy to His servants through beneficence and boun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837720"/>
            <a:ext cx="9144000" cy="5867640"/>
          </a:xfrm>
          <a:prstGeom prst="rect">
            <a:avLst/>
          </a:prstGeom>
          <a:noFill/>
          <a:ln w="0">
            <a:noFill/>
          </a:ln>
        </p:spPr>
        <p:txBody>
          <a:bodyPr lIns="90000" rIns="90000" tIns="46800" bIns="46800" anchor="t">
            <a:normAutofit fontScale="70000"/>
          </a:bodyPr>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áXáÇå¯ãÊ CáË×ã¶ Ôáxå¶áF EáÆ ãÁåÒáä§ÂB áÑ ãäÌáÇåÂCãQ åÈâÎáoáÇá²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ãäoãRãQ CáËáä|ágáF áÑ áÀáXáäËãÆ CáËå×áÃá® á´áRåsáF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á·á§å{B ÕãmáäÂB áÀãËÖãkãÂ CáËáXåÖákáÎ</a:t>
            </a:r>
            <a:endParaRPr b="0" lang="en-US" sz="4400" spc="-1" strike="noStrike">
              <a:solidFill>
                <a:srgbClr val="000000"/>
              </a:solidFill>
              <a:latin typeface="Times New Roman"/>
            </a:endParaRPr>
          </a:p>
          <a:p>
            <a:pPr marL="240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looding them with kindness and graciousness! How much of Your favour has been spread about among us, Your kindness lavished upon us, and Your goodness singled out for us? You have guided us to Your religion which You have chos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8600" y="1066680"/>
            <a:ext cx="8686800" cy="5639040"/>
          </a:xfrm>
          <a:prstGeom prst="rect">
            <a:avLst/>
          </a:prstGeom>
          <a:noFill/>
          <a:ln w="0">
            <a:noFill/>
          </a:ln>
        </p:spPr>
        <p:txBody>
          <a:bodyPr lIns="90000" rIns="90000" tIns="46800" bIns="46800" anchor="t">
            <a:normAutofit fontScale="77000"/>
          </a:bodyPr>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á£áWånB Ø~ãXáäÂB áÀãXáäÃãÆ áÑ</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ÃáäÏás ÕãmáäÂB áÀãÃ×ãRás áÑ</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XáÆBáoá¾ ÔáÂãH áÁÒâ{âÒåÂB áÑ áÀåÖákáÂ áUá·åÂâäqÂB CáËáWåoáä|áQ áÑ</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r creed with which You are pleased, and Your path which You have made smooth, and You have shown us proximity to You and arrival at Your generos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28600" y="914040"/>
            <a:ext cx="8686800" cy="624852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ã¸ãMEáªáÒåÂB áÀåÃãW CáÖCá·á{ åÌãÆ áYåÃá¯á_ áYåÊáF áÑ áäÈ~âÏ~áäÃÂB</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Ñâoâ·åÂB áÀåÃãW ã}ãMEá|ág áÑ</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ÒâÏâäxÂB ãoãMEás åÌãÆ âÐáXå|á|áXågB ÕãmáäÂB áÉCá£áÆán áoåÏáw</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among the choicest of those duties and the most special of those obligations You have appointed the month of Ramadan,</a:t>
            </a:r>
            <a:br>
              <a:rPr sz="3200"/>
            </a:br>
            <a:r>
              <a:rPr b="1" lang="en-US" sz="3200" spc="-1" strike="noStrike">
                <a:solidFill>
                  <a:srgbClr val="000000"/>
                </a:solidFill>
                <a:latin typeface="Al-Arial"/>
                <a:ea typeface="MS Mincho"/>
              </a:rPr>
              <a:t>which You have singled out from other mont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812520"/>
            <a:ext cx="9144000" cy="609588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Áåká® áÀâXáQÒâ»â® áÑ çÄâä£á·áW á½âÒå·á® áÑ çADákãXåQB áÀâXáäËãÆ</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äÌáÇãQ á½áAEá§á® åSâxáW åÈáÂ áYå×á§å®áF åÉãH çTáoá×ãg á½âJEá£áº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Öãäká¯áW áÀâ¯åËáÆ åÌâ¿áÖ åÈáÂ áYå¯ËáÆ åÉãH áÑ</a:t>
            </a:r>
            <a:endParaRPr b="0" lang="en-US" sz="4400" spc="-1" strike="noStrike">
              <a:solidFill>
                <a:srgbClr val="000000"/>
              </a:solidFill>
              <a:latin typeface="Times New Roman"/>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r kindness is a new beginning, Your pardon gratuitous bounty, Your punishment justice, Your decree a choice for the best! If You bestow, You stain not Your bestowal with obligation, and if You withhold, You withhold not in transgre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8600" y="990360"/>
            <a:ext cx="8686800" cy="518148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ÒâÎâäkÂBáÑ ãUáËãÆåpáÛBB ã°×ãÇá_ åÌãÆ âÐáWåoáä×áháW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ÇãQ ãUáËáätÂB ãVCáºåÑáF ãäÄâ¾ ÔáÃá® âÐáWåoá[D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ÒâäËÂBáÑ ãÉDåoâ»åÂB áÌãÆ ãÐ×ã¶ áYåÂáqåÊáF</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chosen from among all periods and eras, and preferred over all times of the year through the Qur’án and the Light which You sent down within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600" y="990720"/>
            <a:ext cx="8686800" cy="548640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CáÇÖãåßB áÌãÆ ãÐ×ã¶ áYå·á®Cá¢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Cá×ãä|ÂB áÌãÆ ãÐ×ã¶ áYå¢áoá¶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Cá×ã»åÂB áÌãÆ ãÐ×ã¶ áYåRáä²án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faith which You multiplied by means of it, the fasting which You obligated therein, the standing in prayer which You encouraged at its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1066680"/>
            <a:ext cx="9144000" cy="563904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åká»åÂB ãUáÃå×áÂ åÌãÆ ãÐ×ã¶ áYåÃáÃå_áF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åÏáw ã¸åÂáF åÌãÆ çoå×ág áØãÎ Ø~ãXáäÂB</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áÆâåÛB ãoãMEás ÔáÃá® ãÐãQ CáËáWåoá[D áäÈâ[</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 Night of Decree which You magnified therein, the night which is </a:t>
            </a:r>
            <a:r>
              <a:rPr b="1" i="1" lang="en-US" sz="3200" spc="-1" strike="noStrike">
                <a:solidFill>
                  <a:srgbClr val="000000"/>
                </a:solidFill>
                <a:latin typeface="Al-Arial"/>
                <a:ea typeface="MS Mincho"/>
              </a:rPr>
              <a:t>better than a thousand months. </a:t>
            </a:r>
            <a:r>
              <a:rPr b="1" lang="en-US" sz="3200" spc="-1" strike="noStrike">
                <a:solidFill>
                  <a:srgbClr val="000000"/>
                </a:solidFill>
                <a:latin typeface="Al-Arial"/>
                <a:ea typeface="MS Mincho"/>
              </a:rPr>
              <a:t>(97:3) Through it You have preferred us over the other commun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990360"/>
            <a:ext cx="9144000" cy="5715000"/>
          </a:xfrm>
          <a:prstGeom prst="rect">
            <a:avLst/>
          </a:prstGeom>
          <a:noFill/>
          <a:ln w="0">
            <a:noFill/>
          </a:ln>
        </p:spPr>
        <p:txBody>
          <a:bodyPr lIns="90000" rIns="90000" tIns="46800" bIns="46800" anchor="t">
            <a:normAutofit fontScale="87000"/>
          </a:bodyPr>
          <a:p>
            <a:pPr marL="2984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áÃãÇåÂB ãÄåÎáF áÉÑâj ãÐãÃå£á·ãQ CáËáXå×á·á§å{B áÑ</a:t>
            </a:r>
            <a:endParaRPr b="0" lang="en-US" sz="4400" spc="-1" strike="noStrike">
              <a:solidFill>
                <a:srgbClr val="000000"/>
              </a:solidFill>
              <a:latin typeface="Times New Roman"/>
            </a:endParaRPr>
          </a:p>
          <a:p>
            <a:pPr marL="2984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ÍánCáÏáÊ á½ãoåÆáGãQ CáËåÇâ|á¶</a:t>
            </a:r>
            <a:endParaRPr b="0" lang="en-US" sz="4400" spc="-1" strike="noStrike">
              <a:solidFill>
                <a:srgbClr val="000000"/>
              </a:solidFill>
              <a:latin typeface="Times New Roman"/>
            </a:endParaRPr>
          </a:p>
          <a:p>
            <a:pPr marL="2984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Ãå×áÂ áÀãÊåÒá¯ãQ CáËåÇâº áÑ</a:t>
            </a:r>
            <a:endParaRPr b="0" lang="en-US" sz="4400" spc="-1" strike="noStrike">
              <a:solidFill>
                <a:srgbClr val="000000"/>
              </a:solidFill>
              <a:latin typeface="Times New Roman"/>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rough its excellence You have chosen us to the exclusion of the people of the creeds. We fasted by Your command in its daylight, we stood in prayer with Your help in its n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XáÇåcán åÌãÆ âÐáÂ CáËáXå¢áäoá® CáÇãÂ ãÐãÆCá×ãºáÑ ãÐãÆCá×ã|ãQ áÌ×ã¢ãäoá¯áXâÆ</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XáQåÒâ\áÆ åÌãÆ ãÐå×áÂãH EáËåRáäRátáW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resenting ourselves by its fasting and its standing to the mercy which You have held up before us, and we found through it the means to Your reward.</a:t>
            </a:r>
            <a:endParaRPr b="0" lang="en-US" sz="32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142640"/>
            <a:ext cx="8686800" cy="533412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H ãÐ×ã¶ áSã²ân CáÇãQ âAØãÃáÇåÂB áYåÊáF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Ãå£á¶ åÌãÆ áYåÃãNâs CáÇãQ âjBáÒá`åÂB</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áQåoâº áÁáÑCác åÌáÆ ÔáÂãH âSÖãoá»åÂB</a:t>
            </a:r>
            <a:endParaRPr b="0" lang="en-US" sz="4400" spc="-1" strike="noStrike">
              <a:solidFill>
                <a:srgbClr val="000000"/>
              </a:solidFill>
              <a:latin typeface="Times New Roman"/>
            </a:endParaRPr>
          </a:p>
          <a:p>
            <a:pPr marL="257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are full of what is sought from You,</a:t>
            </a:r>
            <a:endParaRPr b="0" lang="en-US" sz="3200" spc="-1" strike="noStrike">
              <a:solidFill>
                <a:srgbClr val="000000"/>
              </a:solidFill>
              <a:latin typeface="Times New Roman"/>
            </a:endParaRPr>
          </a:p>
          <a:p>
            <a:pPr marL="257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Munificent with what is asked of Your bounty,</a:t>
            </a:r>
            <a:endParaRPr b="0" lang="en-US" sz="3200" spc="-1" strike="noStrike">
              <a:solidFill>
                <a:srgbClr val="000000"/>
              </a:solidFill>
              <a:latin typeface="Times New Roman"/>
            </a:endParaRPr>
          </a:p>
          <a:p>
            <a:pPr marL="257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near to him who strives for Your near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4480" y="1066320"/>
            <a:ext cx="9296640" cy="5715000"/>
          </a:xfrm>
          <a:prstGeom prst="rect">
            <a:avLst/>
          </a:prstGeom>
          <a:noFill/>
          <a:ln w="0">
            <a:noFill/>
          </a:ln>
        </p:spPr>
        <p:txBody>
          <a:bodyPr lIns="90000" rIns="90000" tIns="46800" bIns="46800" anchor="t">
            <a:normAutofit fontScale="83000"/>
          </a:bodyPr>
          <a:p>
            <a:pPr marL="284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åÇác áÅCá»áÆ âoåÏáäxÂB BámáÎ CáË×ã¶ áÅCáºáF åkáº áÑ</a:t>
            </a:r>
            <a:endParaRPr b="0" lang="en-US" sz="4400" spc="-1" strike="noStrike">
              <a:solidFill>
                <a:srgbClr val="000000"/>
              </a:solidFill>
              <a:latin typeface="Times New Roman"/>
            </a:endParaRPr>
          </a:p>
          <a:p>
            <a:pPr marL="284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nÑâoåRáÆ áUáRådâ{ CáËáRãdá{ áÑ</a:t>
            </a:r>
            <a:endParaRPr b="0" lang="en-US" sz="4400" spc="-1" strike="noStrike">
              <a:solidFill>
                <a:srgbClr val="000000"/>
              </a:solidFill>
              <a:latin typeface="Times New Roman"/>
            </a:endParaRPr>
          </a:p>
          <a:p>
            <a:pPr marL="284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ÇáÂCá¯åÂB ãbCáQånáF áÄá£å¶áF EáËádáQånáF áÑ</a:t>
            </a:r>
            <a:endParaRPr b="0" lang="en-US" sz="4400" spc="-1" strike="noStrike">
              <a:solidFill>
                <a:srgbClr val="000000"/>
              </a:solidFill>
              <a:latin typeface="Times New Roman"/>
            </a:endParaRPr>
          </a:p>
          <a:p>
            <a:pPr marL="2844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is month stood among us in a standing place of praise, accompanied us with the companionship of one approved, and profited us with the most excellent profit of the world’s crea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28600" y="914040"/>
            <a:ext cx="8686800" cy="563868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WáäkâÆ ã­Cá§ã»åÊB áÑ ãÐãXåºáÑ ãÅCáÇáW ákåËã® CáËáºánCá¶ åkáº áäÈâ[</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BájáÑ âÍÒâ®ãäjáÒâÆ âÌådáËá¶ ãÍãjáká® ãAEá¶áÑ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Ëå×áÃá® âÐâºBáoã¶ áäqá® åÌáÆ</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n it parted from us at the completion of its time, the end of its term, and the fulfillment of its number. So we bid farewell to it with the farewell of one whose parting pains 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1143000"/>
            <a:ext cx="9144000" cy="5105520"/>
          </a:xfrm>
          <a:prstGeom prst="rect">
            <a:avLst/>
          </a:prstGeom>
          <a:noFill/>
          <a:ln w="0">
            <a:noFill/>
          </a:ln>
        </p:spPr>
        <p:txBody>
          <a:bodyPr lIns="90000" rIns="90000" tIns="46800" bIns="46800" anchor="t">
            <a:normAutofit fontScale="80000"/>
          </a:bodyPr>
          <a:p>
            <a:pPr marL="2743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äËá® âÐ¶Báoã|åÊB CáËáxácåÑáF áÑ CáËáäÇá² áÑ</a:t>
            </a:r>
            <a:endParaRPr b="0" lang="en-US" sz="4400" spc="-1" strike="noStrike">
              <a:solidFill>
                <a:srgbClr val="000000"/>
              </a:solidFill>
              <a:latin typeface="Times New Roman"/>
            </a:endParaRPr>
          </a:p>
          <a:p>
            <a:pPr marL="2743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Òâ·ådáÇåÂB âÅCáÆãämÂB âÐáÂ CáËáÆãqáÂ áÑ</a:t>
            </a:r>
            <a:endParaRPr b="0" lang="en-US" sz="4400" spc="-1" strike="noStrike">
              <a:solidFill>
                <a:srgbClr val="000000"/>
              </a:solidFill>
              <a:latin typeface="Times New Roman"/>
            </a:endParaRPr>
          </a:p>
          <a:p>
            <a:pPr marL="2743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äUáä×ã®åoáÇåÂB âUáÆåoâdåÂB áÑ</a:t>
            </a:r>
            <a:endParaRPr b="0" lang="en-US" sz="4400" spc="-1" strike="noStrike">
              <a:solidFill>
                <a:srgbClr val="000000"/>
              </a:solidFill>
              <a:latin typeface="Times New Roman"/>
            </a:endParaRPr>
          </a:p>
          <a:p>
            <a:pPr marL="2743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hose leaving fills us with gloom and loneliness, and to whom we have come to owe a safeguarded claim, an observed inviol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8600" y="1219320"/>
            <a:ext cx="8686800" cy="5029200"/>
          </a:xfrm>
          <a:prstGeom prst="rect">
            <a:avLst/>
          </a:prstGeom>
          <a:noFill/>
          <a:ln w="0">
            <a:noFill/>
          </a:ln>
        </p:spPr>
        <p:txBody>
          <a:bodyPr lIns="90000" rIns="90000" tIns="46800" bIns="46800" anchor="t">
            <a:normAutofit fontScale="81000"/>
          </a:bodyPr>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äØã£å»áÇåÂB âä¼ádåÂB áÑ</a:t>
            </a:r>
            <a:endParaRPr b="0" lang="en-US" sz="4400" spc="-1" strike="noStrike">
              <a:solidFill>
                <a:srgbClr val="000000"/>
              </a:solidFill>
              <a:latin typeface="Times New Roman"/>
            </a:endParaRPr>
          </a:p>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oáRå¾áÛBB ãÐáäÃÂB áoåÏáw CáÖ áÀ×ãÃá® âÅáÚáätÂB áÉÒâÃãMEáº âÌådáËá¶</a:t>
            </a:r>
            <a:endParaRPr b="0" lang="en-US" sz="4400" spc="-1" strike="noStrike">
              <a:solidFill>
                <a:srgbClr val="000000"/>
              </a:solidFill>
              <a:latin typeface="Times New Roman"/>
            </a:endParaRPr>
          </a:p>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MEá×ãÂåÑáF ák×ã® CáÖ áÑ</a:t>
            </a:r>
            <a:endParaRPr b="0" lang="en-US" sz="4400" spc="-1" strike="noStrike">
              <a:solidFill>
                <a:srgbClr val="000000"/>
              </a:solidFill>
              <a:latin typeface="Times New Roman"/>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 discharged right. We say: Peace be upon you, O greatest month of God! O festival of His fri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914040"/>
            <a:ext cx="8686800" cy="563868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áoå¿âw âÐáXåÇáÏåÂáF áYåÊáF áÑ á½áoá¿w åÌáÆ âoâ¿åxáW</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½ákåÇác âÐáXåÇáäÃá® áYåÊáF áÑ á½ákãÇác åÌáÆ âOã¶Cá¿âW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Xådá£á¶ áYåNãw åÒáÂ åÌáÆ ÔáÃá® âoâXåtáW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 show gratitude to him who thanks, while You have inspired him to thank You. You reward him who praises You, though You have taught him Your praise. You cover him whom, if You willed, You would expo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2000"/>
          </a:bodyPr>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CáºåÑáÛBB áÌãÆ èPÒâdå|áÆ áÅáoå¾áF EáÖ áÀå×áÃá® âÅáÚáätÂB</a:t>
            </a:r>
            <a:endParaRPr b="0" lang="en-US" sz="4400" spc="-1" strike="noStrike">
              <a:solidFill>
                <a:srgbClr val="000000"/>
              </a:solidFill>
              <a:latin typeface="Times New Roman"/>
            </a:endParaRPr>
          </a:p>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Cá®CáätÂBáÑ ãÅCáäÖáÛBB Øã¶ èoåÏáw áoå×ág CáÖ áÑ</a:t>
            </a:r>
            <a:endParaRPr b="0" lang="en-US" sz="44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O most noble of accompanying times! O best of months in days and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447920"/>
            <a:ext cx="91440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ÁCáÆåÝB ãÐ×ã¶ åYáQâoáº èoåÏáw åÌãÆ áÀå×áÃá® âÅáÚáätÂB</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ÁCáÇå®áÛBB ãÐ×ã¶ åVáoãxâÊ áÑ</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month in which expectations come near and good works are scattered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BæjÒâ_åÒáÆ âÍânåkáº áäÄá_ èÌÖãoáº åÌãÆ áÀå×áÃá® âÅáÚáätÂB</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ºBáoã¶ áÈáÂD èäÒâ_åoáÆ áÑ BæjÒâ»å·áÆ âÍâkå»á¶ á°á`å¶áF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comrade who is great in worth when found, and who torments through absence when lost, anticipated friend whose parting gives pain!</a:t>
            </a:r>
            <a:endParaRPr b="0" lang="en-US" sz="32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2000"/>
          </a:bodyPr>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äoátá¶ æÚãRå»âÆ áuáÊD è¸×ãÂáF åÌãÆ áÀå×áÃá® âÅáÚáätÂB</a:t>
            </a:r>
            <a:endParaRPr b="0" lang="en-US" sz="4400" spc="-1" strike="noStrike">
              <a:solidFill>
                <a:srgbClr val="000000"/>
              </a:solidFill>
              <a:latin typeface="Times New Roman"/>
            </a:endParaRPr>
          </a:p>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ä¤áÇá¶ Cá×ã£á»åËâÆ áyácåÑáF áÑ</a:t>
            </a:r>
            <a:endParaRPr b="0" lang="en-US" sz="44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familiar who brought comfort in coming, thus making happy, who left loneliness in going, thus giving angu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9000"/>
          </a:bodyPr>
          <a:p>
            <a:pPr marL="305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PÒâÃâ»åÂB ãÐ×ã¶ åYáäºán ènãÑCá`âÆ åÌãÆ áÀå×áÃá® âÅáÚáätÂB</a:t>
            </a:r>
            <a:endParaRPr b="0" lang="en-US" sz="4400" spc="-1" strike="noStrike">
              <a:solidFill>
                <a:srgbClr val="000000"/>
              </a:solidFill>
              <a:latin typeface="Times New Roman"/>
            </a:endParaRPr>
          </a:p>
          <a:p>
            <a:pPr marL="305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PÒâÊâämÂB ãÐ×ã¶ åYáäÃáº áÑ</a:t>
            </a:r>
            <a:endParaRPr b="0" lang="en-US" sz="4400" spc="-1" strike="noStrike">
              <a:solidFill>
                <a:srgbClr val="000000"/>
              </a:solidFill>
              <a:latin typeface="Times New Roman"/>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neighbour in whom hearts became tender and sins became f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Cá§å×áäxÂB ÔáÃá® áÉCá®áF èoã{CáÊ ÌãÆ áÀå×áÃá® âÅáÚáätÂB</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CátåcãåßB áÄâRâs áÄáäÏás èSãcCá{ áÑ</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helper who aided against Satan, companion who made easy the paths of good-d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 ãÐáäÃÂB áAEá»áXâ® áoá\å¾áF EáÆ áÀå×áÃá® âÅáÚáätÂB</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 </a:t>
            </a:r>
            <a:r>
              <a:rPr b="1" lang="en-US" sz="4400" spc="-1" strike="noStrike">
                <a:solidFill>
                  <a:srgbClr val="000000"/>
                </a:solidFill>
                <a:latin typeface="Karbala"/>
              </a:rPr>
              <a:t>áÀãQ áÀáXáÆåoâc Ôá®án åÌáÆ áká¯åsáF EáÆ áÑ</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 How many became freedmen of God within you!  How happy those who observed the respect due to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7000"/>
          </a:bodyPr>
          <a:p>
            <a:pPr marL="2984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PÒâÊâämÃãÂ á½CádåÆáF áÉCá¾ CáÆ áÀå×áÃá® âÅáÚáätÂB</a:t>
            </a:r>
            <a:endParaRPr b="0" lang="en-US" sz="4400" spc="-1" strike="noStrike">
              <a:solidFill>
                <a:srgbClr val="000000"/>
              </a:solidFill>
              <a:latin typeface="Times New Roman"/>
            </a:endParaRPr>
          </a:p>
          <a:p>
            <a:pPr marL="2984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PÒâ×â¯åÂB ã­BáÒåÊáãÛ á½áoáXåsáF áÑ</a:t>
            </a:r>
            <a:endParaRPr b="0" lang="en-US" sz="4400" spc="-1" strike="noStrike">
              <a:solidFill>
                <a:srgbClr val="000000"/>
              </a:solidFill>
              <a:latin typeface="Times New Roman"/>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 How many sins you erased! How many kinds of faults you covered 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Æãoå`âÇåÂB ÔáÃá® áÀáÂáÒå¦áF áÉCá¾ CáÆ áÀå×áÃá® âÅáÚáätÂB</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ËãÆåKâÇåÂB ãnÑâkâ{ Øã¶ áÀáRá×åÎáF áÑ</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 How drawn out were you for the sinners! How awesome were you in the hearts of the faithfu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914040"/>
            <a:ext cx="9144000" cy="655308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CáäÖáÛBB âÐâtã¶CáËâW áÙ èoåÏáw åÌãÆ áÀå×áÃá® âÅáÚáätÂB</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ÅáÚás èoåÆáF ãäÄâ¾ åÌãÆ áÒâÎ èoåÏáw åÌãÆ áÀå×áÃá® âÅáÚáätÂB</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táQáÚâÇåÂB ãÈ×ãÆál áÙ áÑ ãUáRácCá|âÇåÂB ãÐÖãoá¾ áoå×á² áÀå×áÃá® âÅáÚáätÂB</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month with which no days compete! Peace be upon you, month which is peace in all affairs! Peace be upon you,</a:t>
            </a:r>
            <a:br>
              <a:rPr sz="3200"/>
            </a:br>
            <a:r>
              <a:rPr b="1" lang="en-US" sz="3200" spc="-1" strike="noStrike">
                <a:solidFill>
                  <a:srgbClr val="000000"/>
                </a:solidFill>
                <a:latin typeface="Al-Arial"/>
                <a:ea typeface="MS Mincho"/>
              </a:rPr>
              <a:t>you whose companionship is not disliked,</a:t>
            </a:r>
            <a:br>
              <a:rPr sz="3200"/>
            </a:br>
            <a:r>
              <a:rPr b="1" lang="en-US" sz="3200" spc="-1" strike="noStrike">
                <a:solidFill>
                  <a:srgbClr val="000000"/>
                </a:solidFill>
                <a:latin typeface="Al-Arial"/>
                <a:ea typeface="MS Mincho"/>
              </a:rPr>
              <a:t>you whose friendly mixing is not bla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990360"/>
            <a:ext cx="8686800" cy="563868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Xå¯áËáÆ áYåNãw åÒáÂ åÌáÆ ÔáÃá® âjÒâ`áW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ËáÇåÂBáÑ ãUád×ã£á·åÃãÂ áÀåËãÆ çÄåÎáF EáÇâÎáÚã¾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âä£á·áäXÂB ÔáÃá® áÀáÂCá¯á¶áF áYå×áËáQ áÀáäÊáF áoå×á²</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are generous toward him from whom, if You willed, You would withhold. Both are worthy of Your exposure and withholding, but You have founded Your acts upon gratuitous boun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914040"/>
            <a:ext cx="8610480" cy="5715000"/>
          </a:xfrm>
          <a:prstGeom prst="rect">
            <a:avLst/>
          </a:prstGeom>
          <a:noFill/>
          <a:ln w="0">
            <a:noFill/>
          </a:ln>
        </p:spPr>
        <p:txBody>
          <a:bodyPr lIns="90000" rIns="90000" tIns="46800" bIns="46800" anchor="t">
            <a:normAutofit fontScale="66000"/>
          </a:bodyPr>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Cá¾áoáRåÂCãQ CáËå×áÃá® áVåká¶áÑ CáÇá¾ áÀå×áÃá® âÅáÚáätÂ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CáN×ã§áhåÂB áuáÊáj CáäËá® áYåÃátá² áÑ</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ÆáGás âÐâÆCá×ã{ è½ÑâoåXáÆ áÙ áÑ CæÆáoáQ è­áäjáÒâÆ áoå×á² áÀå×áÃá® âÅáÚáätÂB</a:t>
            </a:r>
            <a:endParaRPr b="0" lang="en-US" sz="4400" spc="-1" strike="noStrike">
              <a:solidFill>
                <a:srgbClr val="000000"/>
              </a:solidFill>
              <a:latin typeface="Times New Roman"/>
            </a:endParaRPr>
          </a:p>
          <a:p>
            <a:pPr marL="226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just as you have entered upon us with blessings and cleansed us of the defilement of offenses! Peace be upon you - you are not bid farewell in annoyance</a:t>
            </a:r>
            <a:br>
              <a:rPr sz="3200"/>
            </a:br>
            <a:r>
              <a:rPr b="1" lang="en-US" sz="3200" spc="-1" strike="noStrike">
                <a:solidFill>
                  <a:srgbClr val="000000"/>
                </a:solidFill>
                <a:latin typeface="Al-Arial"/>
                <a:ea typeface="MS Mincho"/>
              </a:rPr>
              <a:t>nor is your fasting left in weari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3720" y="914040"/>
            <a:ext cx="9296280" cy="5715000"/>
          </a:xfrm>
          <a:prstGeom prst="rect">
            <a:avLst/>
          </a:prstGeom>
          <a:noFill/>
          <a:ln w="0">
            <a:noFill/>
          </a:ln>
        </p:spPr>
        <p:txBody>
          <a:bodyPr lIns="90000" rIns="90000" tIns="46800" bIns="46800" anchor="t">
            <a:normAutofit fontScale="66000"/>
          </a:bodyPr>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WåÒá¶ áÄåRáº ãÐå×áÃá® èÉÑâqådáÆ áÑ ãÐãXåºáÑ áÄåRáº èPÒâÃå§áÆ åÌãÆ áÀå×áÃá® âÅáÚáätÂ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äËá® áÀãQ áµãoâ{ èAÒâs åÌãÆ åÈá¾ áÀå×áÃá® âÅáÚáätÂ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Ëå×áÃá® áÀãQ á¤×ã¶âF èoå×ág åÌãÆ åÈá¾ áÑ</a:t>
            </a:r>
            <a:endParaRPr b="0" lang="en-US" sz="4400" spc="-1" strike="noStrike">
              <a:solidFill>
                <a:srgbClr val="000000"/>
              </a:solidFill>
              <a:latin typeface="Times New Roman"/>
            </a:endParaRPr>
          </a:p>
          <a:p>
            <a:pPr marL="226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object of seeking before your time, object of sorrow before your passing! Peace be upon you - How much evil was turned away from us through you!  How much good flowed upon us because of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676520"/>
            <a:ext cx="9144000" cy="4572000"/>
          </a:xfrm>
          <a:prstGeom prst="rect">
            <a:avLst/>
          </a:prstGeom>
          <a:noFill/>
          <a:ln w="0">
            <a:noFill/>
          </a:ln>
        </p:spPr>
        <p:txBody>
          <a:bodyPr lIns="90000" rIns="90000" tIns="46800" bIns="46800" anchor="t">
            <a:normAutofit fontScale="89000"/>
          </a:bodyPr>
          <a:p>
            <a:pPr marL="305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oå×ág áØãÎ Ø~ãXáäÂB ãnåká»åÂB ãUáÃå×áÂ ÔáÃá®áÑ áÀå×áÃá® âÅáÚáätÂB</a:t>
            </a:r>
            <a:endParaRPr b="0" lang="en-US" sz="4400" spc="-1" strike="noStrike">
              <a:solidFill>
                <a:srgbClr val="000000"/>
              </a:solidFill>
              <a:latin typeface="Times New Roman"/>
            </a:endParaRPr>
          </a:p>
          <a:p>
            <a:pPr marL="305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åÏáw ã¸åÂáF åÌãÆ</a:t>
            </a:r>
            <a:endParaRPr b="0" lang="en-US" sz="4400" spc="-1" strike="noStrike">
              <a:solidFill>
                <a:srgbClr val="000000"/>
              </a:solidFill>
              <a:latin typeface="Times New Roman"/>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and upon the Night of Decree which is </a:t>
            </a:r>
            <a:r>
              <a:rPr b="1" i="1" lang="en-US" sz="3200" spc="-1" strike="noStrike">
                <a:solidFill>
                  <a:srgbClr val="000000"/>
                </a:solidFill>
                <a:latin typeface="Al-Arial"/>
                <a:ea typeface="MS Mincho"/>
              </a:rPr>
              <a:t>better than a thousand months! </a:t>
            </a:r>
            <a:r>
              <a:rPr b="1" lang="en-US" sz="3200" spc="-1" strike="noStrike">
                <a:solidFill>
                  <a:srgbClr val="000000"/>
                </a:solidFill>
                <a:latin typeface="Al-Arial"/>
                <a:ea typeface="MS Mincho"/>
              </a:rPr>
              <a:t> (97: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Ãá® ãuåÆáÛBCãQ CáËá{áoåcáF áÉCá¾ CáÆ áÀå×áÃá® âÅáÚáätÂB</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H Dæká² CáËáºåÒáw áäkáwáF áÑ</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 How much we craved you yesterday! How intensely we shall yearn for you tomorr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ÍCáËåÆãoâc ÕãmáäÂB áÀãÃå£á¶ ÔáÃá®áÑ áÀå×áÃá® âÅáÚáätÂB</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ÍCáËåRãÃâs áÀãWCá¾áoáQ åÌãÆ è¡CáÆ ÔáÃá®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upon you and upon your bounty which has now been made unlawful to us and upon your blessings gone by which have now been stripped away from 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9280" y="914400"/>
            <a:ext cx="9296280" cy="594360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Q CáËáXå¶áäoáw ÕãmáäÂB ãoåÏáäxÂB BámáÎ âÄåÎáF EáäÊãH áäÈ~âÏ~áäÃÂB</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XåºáÑ âAEá×ã»åwáÛBB áÄãÏá_ áÌ×ãc âÐáÂ áÀãäËáÇãQ CáËáXå»áä¶áÑ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Ãå£á¶ åÈãÏãMEá»áxãÂ BÒâÆãoâc áÑ</a:t>
            </a:r>
            <a:endParaRPr b="0" lang="en-US" sz="4400" spc="-1" strike="noStrike">
              <a:solidFill>
                <a:srgbClr val="000000"/>
              </a:solidFill>
              <a:latin typeface="Times New Roman"/>
            </a:endParaRPr>
          </a:p>
          <a:p>
            <a:pPr marL="257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we are the people of this month. Through it You have ennobled us and given us success because of Your kindness, while the wretched are ignorant of its time. Made unlawful to them is its bounty because of their wretched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1160" y="1447560"/>
            <a:ext cx="8915400" cy="5181480"/>
          </a:xfrm>
          <a:prstGeom prst="rect">
            <a:avLst/>
          </a:prstGeom>
          <a:noFill/>
          <a:ln w="0">
            <a:noFill/>
          </a:ln>
        </p:spPr>
        <p:txBody>
          <a:bodyPr lIns="90000" rIns="90000" tIns="46800" bIns="46800" anchor="t">
            <a:normAutofit fontScale="82000"/>
          </a:bodyPr>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Xá¶ãoå¯áÆ åÌãÆ ãÐãQ CáËáWåoá[D CáÆ âäØãÂáÑ áYåÊáF áÑ</a:t>
            </a:r>
            <a:endParaRPr b="0" lang="en-US" sz="4400" spc="-1" strike="noStrike">
              <a:solidFill>
                <a:srgbClr val="000000"/>
              </a:solidFill>
              <a:latin typeface="Times New Roman"/>
            </a:endParaRPr>
          </a:p>
          <a:p>
            <a:pPr marL="2811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XáäËâs åÌãÆ âÐáÂ CáËáXåÖákáÎ áÑ</a:t>
            </a:r>
            <a:endParaRPr b="0" lang="en-US" sz="44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 are the patron of the knowledge of it by which You have preferred us, and its prescribed practices to which You have guided us.</a:t>
            </a:r>
            <a:endParaRPr b="0" lang="en-US" sz="32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1371240"/>
            <a:ext cx="8686800" cy="525780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ã|å»áW ÔáÃá® âÐáÆCá×ãºáÑ âÐáÆCá×ã{ áÀã»×ã¶åÒáXãQ CáËå×áäÂáÒáW åkáº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ã\á¾ åÌãÆ æÚ×ãÃáº ãÐ×ã¶ CáËåÖáäjáF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e have undertaken, through Your giving success, its fasting and its standing in prayer, but with shortcomings, and we have performed little of mu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1447560"/>
            <a:ext cx="9144000" cy="5638680"/>
          </a:xfrm>
          <a:prstGeom prst="rect">
            <a:avLst/>
          </a:prstGeom>
          <a:noFill/>
          <a:ln w="0">
            <a:noFill/>
          </a:ln>
        </p:spPr>
        <p:txBody>
          <a:bodyPr lIns="90000" rIns="90000" tIns="46800" bIns="46800" anchor="t">
            <a:normAutofit fontScale="86000"/>
          </a:bodyPr>
          <a:p>
            <a:pPr marL="294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TáAEásãåßCãQ BænBáoåºãH âkåÇádåÂB áÀáÃá¶ áäÈ~âÏ~áäÃÂB</a:t>
            </a:r>
            <a:endParaRPr b="0" lang="en-US" sz="4400" spc="-1" strike="noStrike">
              <a:solidFill>
                <a:srgbClr val="000000"/>
              </a:solidFill>
              <a:latin typeface="Times New Roman"/>
            </a:endParaRPr>
          </a:p>
          <a:p>
            <a:pPr marL="294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káäËÂB âkå»á® CáËãQÒâÃâº åÌãÆ áÀáÂ áÑ ãUá®Cá¢ãåßCãQ Cæ¶BáoãXå®B áÑ</a:t>
            </a:r>
            <a:endParaRPr b="0" lang="en-US" sz="4400" spc="-1" strike="noStrike">
              <a:solidFill>
                <a:srgbClr val="000000"/>
              </a:solidFill>
              <a:latin typeface="Times New Roman"/>
            </a:endParaRPr>
          </a:p>
          <a:p>
            <a:pPr marL="294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so to You belongs praise, in admission of evil doing, and confession of negligence, and to You belongs remorse firmly knitted in our he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447920"/>
            <a:ext cx="8686800" cy="4572000"/>
          </a:xfrm>
          <a:prstGeom prst="rect">
            <a:avLst/>
          </a:prstGeom>
          <a:noFill/>
          <a:ln w="0">
            <a:noFill/>
          </a:ln>
        </p:spPr>
        <p:txBody>
          <a:bodyPr lIns="90000" rIns="90000" tIns="46800" bIns="46800" anchor="t">
            <a:normAutofit fontScale="81000"/>
          </a:bodyPr>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BámãXå®ãÙB â¹åkã{ CáËãXáËãtåÂáF åÌãÆ áÑ</a:t>
            </a:r>
            <a:endParaRPr b="0" lang="en-US" sz="4400" spc="-1" strike="noStrike">
              <a:solidFill>
                <a:srgbClr val="000000"/>
              </a:solidFill>
              <a:latin typeface="Times New Roman"/>
            </a:endParaRPr>
          </a:p>
          <a:p>
            <a:pPr marL="2775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Öãoå·áäXÂB áÌãÆ ãÐ×ã¶ CáËáQCá{F EáÆ ÔáÃá® CáÊåoâ_åGá¶</a:t>
            </a:r>
            <a:endParaRPr b="0" lang="en-US" sz="4400" spc="-1" strike="noStrike">
              <a:solidFill>
                <a:srgbClr val="000000"/>
              </a:solidFill>
              <a:latin typeface="Times New Roman"/>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seeking of pardon sincerely uttered by our tongues. Reward us, in spite of the neglect that befell us in this month,</a:t>
            </a:r>
            <a:endParaRPr b="0" lang="en-US" sz="3200" spc="-1" strike="noStrike">
              <a:solidFill>
                <a:srgbClr val="000000"/>
              </a:solidFill>
              <a:latin typeface="Times New Roman"/>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1066680"/>
            <a:ext cx="9144000" cy="563904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pÑCá`áäXÂB ÔáÃá® áÀáWánåkâº áYåÖáoå_áF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ãdåÂCãQ á½Cá|á® åÌáÆ áYå×áä»áÃáW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âä«ÂCãQ ãÐãtå·áËãÂ áká|áº åÌáÆ áYåÃáÏåÆáF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channelled Your power into forbearance, received him who disobeyed You with clemency, and disregarded him who intended wrongdoing against himself.</a:t>
            </a:r>
            <a:endParaRPr b="0" lang="en-US" sz="32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990360"/>
            <a:ext cx="8686800" cy="556236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 áPÒâ²åoáÇåÂB áÄå£á·åÂB ãÐãQ â½ãnåkáXåtáÊ Bæoå_F</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Ãá® ãzÑâoådáÇåÂB ãoågâämÂB ã­BáÒåÊáF åÌãÆ ãÐãQ â¡CáXå¯áÊ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ä»ác åÌãÆ ãÐ×ã¶ CáÊåoáä|áº CáÆ ÔáÃá® á½ánåmâ® CáËáÂ åSã_åÑáF áÑ</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ith a reward through which we may reach the bounty desired from it, and win the varieties of its craved stores! Make incumbent upon us Your pardon for our falling short of Your right in this mon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447560"/>
            <a:ext cx="8686800" cy="563868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ãRå»âÇåÂB áÉCá£áÆán ãoåÏáw åÌãÆ CáËÖãkåÖáF áÌå×áQ CáÆ CáÊãnCáÇå®áGãQ å´âÃåQB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TájCáRã¯åÂB áÌãÆ âÐâÃåÎáF áYåÊáF EáÆ ãÁâÑCáËáW ÔáÃá® CáäËã®áGá¶ âÍCáËáXå³áäÃáQ BálãIá¶</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ke our lives which lie before us reach the coming month of Rama_án! Once You have made us reach it, help us perform the worship of which You are wort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920" y="1142640"/>
            <a:ext cx="8610480" cy="5181480"/>
          </a:xfrm>
          <a:prstGeom prst="rect">
            <a:avLst/>
          </a:prstGeom>
          <a:noFill/>
          <a:ln w="0">
            <a:noFill/>
          </a:ln>
        </p:spPr>
        <p:txBody>
          <a:bodyPr lIns="90000" rIns="90000" tIns="46800" bIns="46800" anchor="t">
            <a:normAutofit fontScale="68000"/>
          </a:bodyPr>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Cáä§ÂB áÌãÆ âÐâä»ãdáXåtáÖ CáÇãQ ãÅCá×ã»åÂB ÔáÂãH EáÊãäjáF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ä»ádãÂ Cæ¾ánáj âÉÒ¿áÖ CáÆ ãÄáÇá¯åÂB ãeãÂCá{ åÌãÆ CáËáÂ ãoå_áF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oåÎáäkÂB ãnÒâÏâw åÌãÆ ãÌåÖáoåÏáäxÂB Øã¶</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cause us to undertake the obedience which You deserve, and grant us righteous works that we may fulfill Your right in these two months of the months of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523520"/>
            <a:ext cx="9144000" cy="4800600"/>
          </a:xfrm>
          <a:prstGeom prst="rect">
            <a:avLst/>
          </a:prstGeom>
          <a:noFill/>
          <a:ln w="0">
            <a:noFill/>
          </a:ln>
        </p:spPr>
        <p:txBody>
          <a:bodyPr lIns="90000" rIns="90000" tIns="46800" bIns="46800" anchor="t">
            <a:normAutofit fontScale="76000"/>
          </a:bodyPr>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Èå[ãH åÑáF èÈáÇáÂ åÌãÆ BámáÎ CáÊãoåÏáw Øã¶ ãÐãQ CáËåÇáÇåÂáF EáÆ áÑ áäÈ~âÏ~áäÃÂB</a:t>
            </a:r>
            <a:endParaRPr b="0" lang="en-US" sz="4400" spc="-1" strike="noStrike">
              <a:solidFill>
                <a:srgbClr val="000000"/>
              </a:solidFill>
              <a:latin typeface="Times New Roman"/>
            </a:endParaRPr>
          </a:p>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UáN×ã§ág åÌãÆ ãÐ×ã¶ CáËåRátáXå¾B áÑ èSåÊál åÌãÆ ãÐ×ã¶ CáËå¯áºBáÑ åÑáF</a:t>
            </a:r>
            <a:endParaRPr b="0" lang="en-US" sz="4400" spc="-1" strike="noStrike">
              <a:solidFill>
                <a:srgbClr val="000000"/>
              </a:solidFill>
              <a:latin typeface="Times New Roman"/>
            </a:endParaRPr>
          </a:p>
          <a:p>
            <a:pPr marL="260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as for the small and large sins which we have committed in this our month, the misdeeds into which we have fallen, and the offenses which we have ear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1142640"/>
            <a:ext cx="8686800" cy="5715000"/>
          </a:xfrm>
          <a:prstGeom prst="rect">
            <a:avLst/>
          </a:prstGeom>
          <a:noFill/>
          <a:ln w="0">
            <a:noFill/>
          </a:ln>
        </p:spPr>
        <p:txBody>
          <a:bodyPr lIns="90000" rIns="90000" tIns="46800" bIns="46800" anchor="t">
            <a:normAutofit fontScale="77000"/>
          </a:bodyPr>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Ëátâ·åÊáF ãÐ×ã¶ CáËåÇáÃáª èÉCá×åtãÊ ÔáÃá® åÑáF EáäËãÆ èkâäÇá¯áW ÔáÃá®</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ãoå×á² åÌãÆ æUáÆåoâc ãÐãQ CáËå¿áÏáXåÊB ãÑáF</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D áÑ èkáäÇádâÆ ÔáÃá® ãäÄá|á¶</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urposefully or in forgetfulness, wronging ourselves thereby or violating the respect due to others, bless Mu&lt;ammad and his Househo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1066680"/>
            <a:ext cx="9144000" cy="548640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½ãÒå·á¯ãQ CáäËá® â¸å®B áÑ á½ãoåXãtãQ CáÊåoâXåsB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XãÆCáäxÂB ãÌâ×å®áãÛ ãÐ×ã¶ CáËåRã|åËáW áÙ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Ëã®Cáä§ÂB áÌâtåÂáF ãÐ×ã¶ CáËå×áÃá® å¨âtåRáW áÙ áÑ</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cover us over with Your covering, pardon us through Your pardoning, place us not before the eyes of the gloaters because of that, stretch not toward us the tongues of the defa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761760"/>
            <a:ext cx="9144000" cy="6172200"/>
          </a:xfrm>
          <a:prstGeom prst="rect">
            <a:avLst/>
          </a:prstGeom>
          <a:noFill/>
          <a:ln w="0">
            <a:noFill/>
          </a:ln>
        </p:spPr>
        <p:txBody>
          <a:bodyPr lIns="90000" rIns="90000" tIns="46800" bIns="46800" anchor="t">
            <a:normAutofit fontScale="69000"/>
          </a:bodyPr>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 CáäËãÆ áVåoá¿åÊáF EáÇãÂ æTánCáä·á¾áÑ æUáä§ãc âÉÒâ¿áÖ CáÇãQ CáËåÃãÇå¯áXåsB áÑ</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ËáÖ áÙ ÕãmáäÂB áÀãÃå£á¶ áÑ âká·åËáW áÙ Ø~ãXáäÂB áÀãXá¶åFáoãQ</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D áÑ èkáäÇádâÆ ÔáÃá® ãäÄá{ áäÈ~âÏ~áäÃÂB</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employ us in that which will alleviate and expiate whatever You disapprove from us within it through Your clemency which does not run out, and Your bounty which does not diminish! O Alláh bless Mu&lt;ammad and his Househo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ãoå§ã¶áÑ CáÊãk×ã® ãÅåÒáÖ Øã¶ CáËáÂ å½ãnCáQ áÑ CáÊãoåÏáxãQ CáËáXáR×ã|âÆ åoâRå_B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Òå·á¯ãÂ ãÐãRáÃå_áF EáËå×áÃá® áäoáÆ èÅåÒáÖ ãoå×ág åÌãÆ âÐåÃá¯å_B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SåÊámãÂ âÍCádåÆáF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redress our being afflicted by our month, bless us in this day of our festival and our fast-breaking, make it one of the best of days that have passed over us, the greatest in attracting Your pardon, and the most effacing toward s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914040"/>
            <a:ext cx="8686800" cy="563868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áÃá® CáÆ áÑ CáËãQÒâÊâl åÌãÆ áØã·ág CáÆ CáËáÂ åoã·å²B áÑ</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CáÖCá§ág åÌãÆ ãoåÏáäxÂB BámáÎ ãfáÚãtåÊCãQ CáËåháÃåsB áäÈ~âÏ~áäÃÂB</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ËãWCáNãä×ás åÌãÆ ãÐã_ÑâoâhãQ CáËå_ãoågáF áÑ</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forgive us our sins, both the concealed and the public! O Alláh, with the passing of this month make us pass forth from our offenses, with its departure make us depart from our evil d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 CæÇåtãº åÈãÏãÂáqå_áF áÑ ãÐãQ ãÐãÃåÎáF ãká¯åsáF åÌãÆ CáËåÃá¯å_B áÑ</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åËãÆ Cæä«ác åÈãÎãoá¶åÑáF áÑ</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ppoint us thereby among its most felicitous people, the most plentiful of them in portion, and the fullest of them in sh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142640"/>
            <a:ext cx="9144000" cy="579132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QCáÊãåßB ÔáÂãH áÀãWCáÊáGãQ åÈâÎâoã«åËáXtáW</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QåÒáäXÂB ÔáÂãH åÈâÏáXáÃá_Cá¯âÆ â½âoåXáWÑ</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Ïâ¿ãÂCáÎ áÀå×áÃá® áÀãÃåÏáÖ áÚå×á¿ãÂ</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You await their turning back without haste and refrain from rushing them toward repentance, so that the perisher among them may not perish, because of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1160" y="939600"/>
            <a:ext cx="8915400" cy="563868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XáÖCá®ãn áä¼ác ãoåÏáäxÂB BámáÎ áä¼ác Ôá®án åÌáÆáÑ áäÈ~âÏ~áäÃÂB</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ã«å·ãc áä¼ác âÐáXáÆåoâc á¬ã·ác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ãÆCá×ãº áä¼ác ãÍãjÑâkâdãQ áÅCáº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when any person observes this month as it should be observed, safeguards its inviolability as it should be safeguarded, attends to its bounds as they should be attended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914040"/>
            <a:ext cx="8686800" cy="571500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ãWCá»âW áä¼ác âÐáQÒâÊâl Ôá»áäWB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Â á½Cá¢ãn åYáRá_åÑáF èUáQåoâ»ãQ áÀå×áÂãH áPáäoá»áW åÑáF</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Ãá® áÀáXáÇåcán åYá·á§á® áÑ</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ears its misdeeds as they should be feared, or seeks nearness to You with any act of nearness-seeking which makes incumbent upon him Your good pleasure and bends toward him Your mer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914040"/>
            <a:ext cx="9144000" cy="579132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Ãå£á¶ åÌãÆ âÐá¶Cá¯å¢áF EáËã§å®áF áÑ á½ãkå_Ñ åÌãÆ âÐáÃå\ãÆ CáËáÂ åSáÏá¶</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ã³áÖ áÙ áÀáÃå£á¶ áäÉãIá¶</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ã·áW åÄáQ â}â»åËáW áÙ áÀáËãMDáqág áäÉãH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give to us the like [of that] from Your wealth and bestow it upon us in multiples through Your bounty, for Your bounty does not diminish, Your treasuries do not decrease but overf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066680"/>
            <a:ext cx="9144000" cy="518184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áËå·áW áÙ áÀãÊCátåcãH áÉãjCá¯áÆ áäÉãH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äËáÏâÇåÂB âAEá§á¯åÃáÂ á½áAEá§á® áäÉãH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D áÑ èkáäÇádâÆ ÔáÃá® ãäÄá{ áäÈ~âÏ~áäÃÂB</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mines of Your beneficence are not exhausted, and Your bestowal is the bestowal full of delight! O Alláh bless Mu&lt;ammad and his Househo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680"/>
            <a:ext cx="8686800" cy="556272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 áÀáÂ ákáäRá¯áW åÑáF âÐáÆCá{ åÌáÆ ãnÒâ_âF áÄå\ãÆ CáËáÂ åSâXå¾B áÑ</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ÆCá×ã»åÂB ãÅåÒáÖ ÔáÂãH</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ãoå§ã¶ ãÅåÒáÖ Øã¶ áÀå×áÂãH âPÒâXáÊ CáäÊãH áäÈ~âÏ~áäÃÂB</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write for us the like of the wages of him who fasted in it or worshipped You within it</a:t>
            </a:r>
            <a:br>
              <a:rPr sz="3200"/>
            </a:br>
            <a:r>
              <a:rPr b="1" lang="en-US" sz="3200" spc="-1" strike="noStrike">
                <a:solidFill>
                  <a:srgbClr val="000000"/>
                </a:solidFill>
                <a:latin typeface="Al-Arial"/>
                <a:ea typeface="MS Mincho"/>
              </a:rPr>
              <a:t>until the Day of Resurrection! O Alláh, we repent to You in our day of fast-bre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600" y="990360"/>
            <a:ext cx="8686800" cy="563868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BænÑâoâsáÑ Bæk×ã® áÌ×ãËãÆåKâÇåÃãÂ âÐáXåÃá¯á_ ÕãmáäÂB</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BækáxáXådâÆáÑ Cæ¯áÇå`áÆ áÀãXáäÃãÆ ãÄåÎáãÛ áÑ</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ÍCáËå·áÃåsáF èAÒâs åÑáF âÍCáËåR~áÊåláF èSåÊál ãäÄâ¾ åÌãÆ</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hich You have appointed for the faithful a festival and a joy, and for the people of Your creed a time of assembly and gathering, from every misdeed we did, ill work we sent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28600" y="1143000"/>
            <a:ext cx="8686800" cy="548640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ÍCáÊåoáÇå¢áF èäoáw ãoã¦Cág åÑáF</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SåÊál ÔáÂãH è­Òâ_ân ÔáÃá® ÕãÒá§åËáÖ áÙ åÌáÆ áUáQåÒáW</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UáN×ã§ág Øã¶ CáÎákå¯áQ âjÒâ¯áÖ áÙ áÑ</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r evil thought we secretly conceived, the repentance of one who does not harbour a return to sin, and who afterwards will not go back to offe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990720"/>
            <a:ext cx="8686800" cy="579096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PCá×ãWånãÙBáÑ ãäÀáäxÂB áÌãÆ åYá|áÃág CæcÒâ|áÊ æUáQåÒáW</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å×áÃá® CáËåXãäR~á[ áÑ CáäËá® á¡ånB áÑ CáäËãÆ CáÏåÃáäRá»áXá¶</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k×ã®áÒåÂB ãPCá»ã® áµåÒág CáËåºâpånB áäÈ~âÏ~áäÃÂB</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 unswerving repentance rid of doubt and wavering. So accept it from us, be pleased with us, and fix us within it! O Alláh, provide us with fear of the threatened punish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1447560"/>
            <a:ext cx="8686800" cy="510516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Q á½Òâ®åkáÊ CáÆ áTáämáÂ ákã`áÊ ÔáäXác ãjÒâ®åÒáÇåÂB ãPBáÒá[ á¹åÒáw áÑ</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QBáäÒáäXÂB áÌãÆ á½ákåËã® CáËåÃá¯å_B áÑ âÐåËãÆ á½âo×ã`áXåtáÊ CáÆ áUáQåGá¾ áÑ</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earning for the promised reward, so that we may find the pleasure of that for which we supplicate You, and the sorrow of that from which we seek sanctuary in You! And place us with You among the repen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837720"/>
            <a:ext cx="9144000" cy="5867640"/>
          </a:xfrm>
          <a:prstGeom prst="rect">
            <a:avLst/>
          </a:prstGeom>
          <a:noFill/>
          <a:ln w="0">
            <a:noFill/>
          </a:ln>
        </p:spPr>
        <p:txBody>
          <a:bodyPr lIns="90000" rIns="90000" tIns="46800" bIns="46800" anchor="t">
            <a:normAutofit fontScale="69000"/>
          </a:bodyPr>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Xá®Cá¦ áUá¯á_BáoâÆ åÈâÏåËãÆ áYåÃãRáº áÑ áÀáXáäRádáÆ åÈâÏáÂ áYåRá_åÑáF áÌÖãmáäÂB</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ÂãjCá¯åÂB áÁákå®áF EáÖ</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ãÇá_ CáËãËÖãj ãÄåÎFáÑ CáËãWCáÏáäÆâFáÑ CáËãMEáQD åÌá® åpáÑCá`áW áäÈ~âÏ~áäÃÂB</a:t>
            </a:r>
            <a:endParaRPr b="0" lang="en-US" sz="4400" spc="-1" strike="noStrike">
              <a:solidFill>
                <a:srgbClr val="000000"/>
              </a:solidFill>
              <a:latin typeface="Times New Roman"/>
            </a:endParaRPr>
          </a:p>
          <a:p>
            <a:pPr marL="236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ose upon whom You have made Your love obligatory and from whom You have accepted the return to obeying You! O Most Just of the just! O Alláh, show forbearance toward our fathers and our mothers and all the people of our relig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520" y="1143000"/>
            <a:ext cx="8534520" cy="541008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ÈâÏâä×ã»áw áÀãXáÇå¯ãËãQ Ôá»åxáÖ áÙ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ÂãH ãnBámå®ãåßB ãÁÒâ¦ åÌá® áäÙãH</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Ãá® ãUáä`âdåÂB ãµâjBáoáW ákå¯áQ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 wretched may not be wretched through Your favour, but only after Your prolonged excusing him, and successive arguments against him,</a:t>
            </a:r>
            <a:endParaRPr b="0" lang="en-US" sz="32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600" y="914400"/>
            <a:ext cx="8686800" cy="6019920"/>
          </a:xfrm>
          <a:prstGeom prst="rect">
            <a:avLst/>
          </a:prstGeom>
          <a:noFill/>
          <a:ln w="0">
            <a:noFill/>
          </a:ln>
        </p:spPr>
        <p:txBody>
          <a:bodyPr lIns="90000" rIns="90000" tIns="46800" bIns="46800" anchor="t">
            <a:normAutofit fontScale="77000"/>
          </a:bodyPr>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ÆCá×ã»åÂB ãÅåÒáÖ ÔáÂãH áoáRá² åÌáÆáÑ åÈâÏåËãÆ á¸áÃás åÌáÆ</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D áÑ CáËãä×ãRáÊ èkáäÇádâÆ ÔáÃá® ãäÄá{ áäÈ~âÏ~áäÃÂB</a:t>
            </a:r>
            <a:endParaRPr b="0" lang="en-US" sz="4400" spc="-1" strike="noStrike">
              <a:solidFill>
                <a:srgbClr val="000000"/>
              </a:solidFill>
              <a:latin typeface="Times New Roman"/>
            </a:endParaRPr>
          </a:p>
          <a:p>
            <a:pPr marL="2638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Qáäoá»âÇåÂB áÀãXá¿ãMáÚáÆ ÔáÃá® áYå×áäÃá{ CáÇá¾</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ose who have gone and those who will pass by, until the Day of Resurrection! O Alláh bless our prophet Mu&lt;ammad and his Household, as You have blessed Your angels brought n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685800"/>
            <a:ext cx="9144000" cy="6019920"/>
          </a:xfrm>
          <a:prstGeom prst="rect">
            <a:avLst/>
          </a:prstGeom>
          <a:noFill/>
          <a:ln w="0">
            <a:noFill/>
          </a:ln>
        </p:spPr>
        <p:txBody>
          <a:bodyPr lIns="90000" rIns="90000" tIns="46800" bIns="46800" anchor="t">
            <a:normAutofit fontScale="62000"/>
          </a:bodyPr>
          <a:p>
            <a:pPr marL="212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ÃásåoâÇåÂB áÀãMEá×ãRåÊáF ÔáÃá® áYå×áäÃá{ CáÇá¾ ãÐãÂD áÑ ãÐå×áÃá® ãäÄá{ áÑ</a:t>
            </a:r>
            <a:endParaRPr b="0" lang="en-US" sz="4400" spc="-1" strike="noStrike">
              <a:solidFill>
                <a:srgbClr val="000000"/>
              </a:solidFill>
              <a:latin typeface="Times New Roman"/>
            </a:endParaRPr>
          </a:p>
          <a:p>
            <a:pPr marL="212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ãdãÂCáä|ÂB á½ãjCáRã® ÔáÃá® áYå×áäÃá{ CáÇá¾ ãÐãÂD áÑ ãÐå×áÃá® ãäÄá{ áÑ</a:t>
            </a:r>
            <a:endParaRPr b="0" lang="en-US" sz="4400" spc="-1" strike="noStrike">
              <a:solidFill>
                <a:srgbClr val="000000"/>
              </a:solidFill>
              <a:latin typeface="Times New Roman"/>
            </a:endParaRPr>
          </a:p>
          <a:p>
            <a:pPr marL="2124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ÏâXá¾áoáQ CáËâ³âÃåRáW æTáÚá{ áÌ×ãÇáÂCá¯åÂB áäPán CáÖ áÀãÂál åÌãÆ Äá£å¶áF áÑ</a:t>
            </a:r>
            <a:endParaRPr b="0" lang="en-US" sz="4400" spc="-1" strike="noStrike">
              <a:solidFill>
                <a:srgbClr val="000000"/>
              </a:solidFill>
              <a:latin typeface="Times New Roman"/>
            </a:endParaRPr>
          </a:p>
          <a:p>
            <a:pPr marL="2124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bless him and his Household, as You have blessed Your prophets sent out, bless him and his Household, as You have blessed Your righteous servants, - and better than that, O Lord of the worlds! - a blessing whose benediction will reach 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685440"/>
            <a:ext cx="9144000" cy="624852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âJEá®âj CáÏáÂ âPCá`áXåtâÖ áÑ CáÏâ¯å·áÊ CáËâÂCáËáÖ áÑ</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Ãá® áÄãä¾ÒâW åÌáÆ Ôá·å¾áF áÑ ãÐå×áÂãH áSã²ân åÌáÆ âÅáoå¾áF áÀáäÊãH</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Ãå£á¶ åÌãÆ áÄãNâs åÌáÆ Ôá§å®áF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hose benefit will attain to us, and through which our supplication may be granted! You are the most generous of those who are beseeched, the most sufficient of those in whom confidence is had, the most bestowing of those from whom bounty is ask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1188360" y="2133720"/>
            <a:ext cx="11824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oÖãkáº èAØáw ãäÄâ¾ ÔáÃá® áYåÊáF áÑ</a:t>
            </a:r>
            <a:endParaRPr b="0" lang="en-US" sz="4400" spc="-1" strike="noStrike">
              <a:solidFill>
                <a:srgbClr val="000000"/>
              </a:solidFill>
              <a:latin typeface="Times New Roman"/>
            </a:endParaRPr>
          </a:p>
        </p:txBody>
      </p:sp>
      <p:sp>
        <p:nvSpPr>
          <p:cNvPr id="127" name=""/>
          <p:cNvSpPr/>
          <p:nvPr/>
        </p:nvSpPr>
        <p:spPr>
          <a:xfrm>
            <a:off x="12240" y="3809880"/>
            <a:ext cx="9297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are powerful over everything!  (3:2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86000"/>
          </a:bodyPr>
          <a:p>
            <a:pPr marL="294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ÈÖãoá¾ CáÖ á½ãÒå·á® ÌãÆ CæÆáoá¾</a:t>
            </a:r>
            <a:endParaRPr b="0" lang="en-US" sz="4400" spc="-1" strike="noStrike">
              <a:solidFill>
                <a:srgbClr val="000000"/>
              </a:solidFill>
              <a:latin typeface="Times New Roman"/>
            </a:endParaRPr>
          </a:p>
          <a:p>
            <a:pPr marL="294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È×ãÃác CáÖ áÀã·å§á® åÌãÆ æTákãMEá® áÑ</a:t>
            </a:r>
            <a:endParaRPr b="0" lang="en-US" sz="4400" spc="-1" strike="noStrike">
              <a:solidFill>
                <a:srgbClr val="000000"/>
              </a:solidFill>
              <a:latin typeface="Times New Roman"/>
            </a:endParaRPr>
          </a:p>
          <a:p>
            <a:pPr marL="294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s an act of generosity through Your pardon, O Generous, and an act of kindliness through Your tenderness, O Clement!</a:t>
            </a:r>
            <a:endParaRPr b="0" lang="en-US" sz="3200" spc="-1" strike="noStrike">
              <a:solidFill>
                <a:srgbClr val="000000"/>
              </a:solidFill>
              <a:latin typeface="Times New Roman"/>
            </a:endParaRPr>
          </a:p>
          <a:p>
            <a:pPr marL="294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24T16:43:09Z</dcterms:modified>
  <cp:revision>242</cp:revision>
  <dc:subject/>
  <dc:title>Du`a for Bidding Farewell to Ramadan</dc:title>
</cp:coreProperties>
</file>