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EB02398-7171-4364-8B97-0D650C9216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3F9437-1D71-4252-B961-E36D9F8B21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036960C-25C0-464D-B3D7-EB797A1957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D125D79-263D-46E5-95A2-1663EDE79B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F4E057-DCFF-4A05-A95C-827EE914DF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CD7596D-E18E-4A52-81EF-2FE50F1031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B41788-1F41-423A-87E4-FC71DFD676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41E3BFE-4D7F-4AD5-A816-CCCC3D727D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0D6DA6-9302-4565-8FDF-A67D7AF04A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855E2C-1ED4-4CE2-8106-0164795D0C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D6FFA0-F515-431E-8A40-F6C0B7E282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0EF3C2-6504-4468-9D60-95051F9602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1CB6-1F8C-41C9-AA35-02072947D8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0" y="6553080"/>
            <a:ext cx="9144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9"/>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Times New Roman"/>
                <a:ea typeface="Times New Roman"/>
              </a:rPr>
              <a:t>&lt;footer&gt;</a:t>
            </a:r>
            <a:endParaRPr b="0" lang="en-US" sz="1400" spc="-1" strike="noStrike">
              <a:solidFill>
                <a:srgbClr val="000000"/>
              </a:solidFill>
              <a:latin typeface="Arial"/>
            </a:endParaRPr>
          </a:p>
        </p:txBody>
      </p:sp>
      <p:sp>
        <p:nvSpPr>
          <p:cNvPr id="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l-Arial"/>
                <a:ea typeface="Times New Roman"/>
              </a:rPr>
              <a:t>Du'á Nudba</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266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In the name of Alláh, the Beneficent, the Merciful</a:t>
            </a:r>
            <a:endParaRPr b="0" lang="en-US" sz="3200" spc="-1" strike="noStrike">
              <a:solidFill>
                <a:srgbClr val="000000"/>
              </a:solidFill>
              <a:latin typeface="Arial"/>
            </a:endParaRPr>
          </a:p>
        </p:txBody>
      </p:sp>
      <p:sp>
        <p:nvSpPr>
          <p:cNvPr id="42" name=""/>
          <p:cNvSpPr/>
          <p:nvPr/>
        </p:nvSpPr>
        <p:spPr>
          <a:xfrm>
            <a:off x="609480" y="1371600"/>
            <a:ext cx="762012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سْمِ ا اللّهِ الرَّحْمَانِ الرَّحِيْ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1911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to one of them, You spoke from a tree a speaking and appointed his brother his supporter and vizier and You did cause one of them to be born without a father </a:t>
            </a:r>
            <a:endParaRPr b="0" lang="en-US" sz="3200" spc="-1" strike="noStrike">
              <a:solidFill>
                <a:srgbClr val="000000"/>
              </a:solidFill>
              <a:latin typeface="Arial"/>
            </a:endParaRPr>
          </a:p>
        </p:txBody>
      </p:sp>
      <p:sp>
        <p:nvSpPr>
          <p:cNvPr id="60" name=""/>
          <p:cNvSpPr/>
          <p:nvPr/>
        </p:nvSpPr>
        <p:spPr>
          <a:xfrm>
            <a:off x="304920" y="74628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بَعْضٌ كَلَّمْتَهُ مِنْ شَخَرَةٍ تَكْلِيْمً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خَعَلْتَ لَهُ مِنْ اَخِيْهِ رِدْءًا وَوَزِيْرً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بَعْضٌ اَوْلَدْتًهُ مِنْ غَيْرِ اَبٍ</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495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 sweet, cool, clear, agreeable drink after which no thirst is felt, O Most Merciful of All.</a:t>
            </a:r>
            <a:endParaRPr b="0" lang="en-US" sz="3200" spc="-1" strike="noStrike">
              <a:solidFill>
                <a:srgbClr val="000000"/>
              </a:solidFill>
              <a:latin typeface="Arial"/>
            </a:endParaRPr>
          </a:p>
        </p:txBody>
      </p:sp>
      <p:sp>
        <p:nvSpPr>
          <p:cNvPr id="240" name=""/>
          <p:cNvSpPr/>
          <p:nvPr/>
        </p:nvSpPr>
        <p:spPr>
          <a:xfrm>
            <a:off x="304920" y="1370160"/>
            <a:ext cx="845820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رَيًّا رَوِيَّا هَنِئًا سَآئِغًا لاَظَمَاَ بَعْدَهُ يَا الرَّاحِمِيْ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You gave him the clear signs and supported him with the Holy Spirit, and for each one you did enact a religious law, and You assigned a path for him and you selected successors for him</a:t>
            </a:r>
            <a:endParaRPr b="0" lang="en-US" sz="3200" spc="-1" strike="noStrike">
              <a:solidFill>
                <a:srgbClr val="000000"/>
              </a:solidFill>
              <a:latin typeface="Arial"/>
            </a:endParaRPr>
          </a:p>
        </p:txBody>
      </p:sp>
      <p:sp>
        <p:nvSpPr>
          <p:cNvPr id="62" name=""/>
          <p:cNvSpPr/>
          <p:nvPr/>
        </p:nvSpPr>
        <p:spPr>
          <a:xfrm>
            <a:off x="304920" y="59364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آتَيْتَهُ الْبَيِّنَاتِ وَ اَيَّدْتَهُ بِرُوحِ الْقُدُسِ</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كُلٌ شَرَعْتَ لَهُ شَرِيْعَةً</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نَهَجْتَ لَهُمِنْهَاجًا وَ تَخَيَّرْتَ لَهُ اَوْصِيَآءَ</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419720"/>
            <a:ext cx="82296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 protector after a protector for a definite period for establishing Your religion and a proof upon Your servants</a:t>
            </a:r>
            <a:endParaRPr b="0" lang="en-US" sz="3200" spc="-1" strike="noStrike">
              <a:solidFill>
                <a:srgbClr val="000000"/>
              </a:solidFill>
              <a:latin typeface="Arial"/>
            </a:endParaRPr>
          </a:p>
        </p:txBody>
      </p:sp>
      <p:sp>
        <p:nvSpPr>
          <p:cNvPr id="64" name=""/>
          <p:cNvSpPr/>
          <p:nvPr/>
        </p:nvSpPr>
        <p:spPr>
          <a:xfrm>
            <a:off x="304920" y="112716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سْتَحْفِظًا بَعْدَ مُسْتَحْفِظٍ مِنْ مُدَّةٍ اِلَى مُدَّةٍ</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قَامَةً لِدِيْنِكَ وَ حُجَّةً عَلَى عِبَادِ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809520"/>
            <a:ext cx="82296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lest the truth wanes from its place and falsehood overpower his progeny and none can say: why had You not sent unto us a warning messenger</a:t>
            </a:r>
            <a:endParaRPr b="0" lang="en-US" sz="3200" spc="-1" strike="noStrike">
              <a:solidFill>
                <a:srgbClr val="000000"/>
              </a:solidFill>
              <a:latin typeface="Arial"/>
            </a:endParaRPr>
          </a:p>
        </p:txBody>
      </p:sp>
      <p:sp>
        <p:nvSpPr>
          <p:cNvPr id="66" name=""/>
          <p:cNvSpPr/>
          <p:nvPr/>
        </p:nvSpPr>
        <p:spPr>
          <a:xfrm>
            <a:off x="0" y="45720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لِئَلاَّ يَزُوْلَ الْخَضُّ عَنْ مُقَرِّهِ وَ يَغْلِبَ الْبَاطِلُ عَلَى اَهْلِهِ وَ لاَ يَقُوْلَ اَحَدٌ</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لَوْلاَ اَرْسَلْتَ اِلَيْنَا رَسُوْلاً مُنْذِرً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266720"/>
            <a:ext cx="8229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appointed for us a flag of guidance. Then, we would have followed Your signs before we suffered failure and disgrace</a:t>
            </a:r>
            <a:endParaRPr b="0" lang="en-US" sz="3200" spc="-1" strike="noStrike">
              <a:solidFill>
                <a:srgbClr val="000000"/>
              </a:solidFill>
              <a:latin typeface="Arial"/>
            </a:endParaRPr>
          </a:p>
        </p:txBody>
      </p:sp>
      <p:sp>
        <p:nvSpPr>
          <p:cNvPr id="68" name=""/>
          <p:cNvSpPr/>
          <p:nvPr/>
        </p:nvSpPr>
        <p:spPr>
          <a:xfrm>
            <a:off x="304920" y="1127160"/>
            <a:ext cx="8458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قَمْتَ لَنَا عَلَمًا هَادِيً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نَتَّبِعَ آيَاتِكَ مِنْ قَبْلِ اَنْ نَذْلَّ وَ نَخْزَ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886200"/>
            <a:ext cx="86868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ill You ended the affair towards Your beloved and Your noble Mu&lt;ammad, may the peace of Alláh be upon him and his progeny</a:t>
            </a:r>
            <a:endParaRPr b="0" lang="en-US" sz="3200" spc="-1" strike="noStrike">
              <a:solidFill>
                <a:srgbClr val="000000"/>
              </a:solidFill>
              <a:latin typeface="Arial"/>
            </a:endParaRPr>
          </a:p>
        </p:txBody>
      </p:sp>
      <p:sp>
        <p:nvSpPr>
          <p:cNvPr id="70" name=""/>
          <p:cNvSpPr/>
          <p:nvPr/>
        </p:nvSpPr>
        <p:spPr>
          <a:xfrm>
            <a:off x="228600" y="97488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ى اَنِ انْتَهَيْتَ بِالْاَمْرِ اِلَى حَبِيْبِكَ وَ نَجِيْبِكَ مُحَمَّدٍ صَلَّى اللَّهُ عَلَيْهِ وَ آ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809880"/>
            <a:ext cx="91440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n, he was as You had selected him leader of whom You have created him and the excellent one of Your selected one; and the best one whom You have selected him</a:t>
            </a:r>
            <a:endParaRPr b="0" lang="en-US" sz="3200" spc="-1" strike="noStrike">
              <a:solidFill>
                <a:srgbClr val="000000"/>
              </a:solidFill>
              <a:latin typeface="Arial"/>
            </a:endParaRPr>
          </a:p>
        </p:txBody>
      </p:sp>
      <p:sp>
        <p:nvSpPr>
          <p:cNvPr id="72" name=""/>
          <p:cNvSpPr/>
          <p:nvPr/>
        </p:nvSpPr>
        <p:spPr>
          <a:xfrm>
            <a:off x="0" y="105084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كَانَ كَمَا انْتَخَبْتَهُ سَيِّدَ مَنْ خَلَقْتَ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صَفْوَةَ مِنَ اصْطَفَيْتَهُ وَ اَفْضَلَ مَنِ اجْتَبَيْتَ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428640"/>
            <a:ext cx="822960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the most honored whom You have relied on him; You have him precedence upon Your prophets and sent to thaqalain (jinns and men) from (among) Your servants</a:t>
            </a:r>
            <a:endParaRPr b="0" lang="en-US" sz="3200" spc="-1" strike="noStrike">
              <a:solidFill>
                <a:srgbClr val="000000"/>
              </a:solidFill>
              <a:latin typeface="Arial"/>
            </a:endParaRPr>
          </a:p>
        </p:txBody>
      </p:sp>
      <p:sp>
        <p:nvSpPr>
          <p:cNvPr id="74" name=""/>
          <p:cNvSpPr/>
          <p:nvPr/>
        </p:nvSpPr>
        <p:spPr>
          <a:xfrm>
            <a:off x="304920" y="89856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كْرَمَ مَنِ اعْتَمَدْتَهُ قَدَّمْتَهُ عَلَى اَنْبِيَآئِ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بَعَثْتَهُ اِلَى الثَّقَلَيْنِ مِنْ عِبَادِ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40381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made Your East's and West's come under his feet; and harnessed for him the Buráq and did make him ascend (with his soul) towards your heavens</a:t>
            </a:r>
            <a:endParaRPr b="0" lang="en-US" sz="3200" spc="-1" strike="noStrike">
              <a:solidFill>
                <a:srgbClr val="000000"/>
              </a:solidFill>
              <a:latin typeface="Arial"/>
            </a:endParaRPr>
          </a:p>
        </p:txBody>
      </p:sp>
      <p:sp>
        <p:nvSpPr>
          <p:cNvPr id="76" name=""/>
          <p:cNvSpPr/>
          <p:nvPr/>
        </p:nvSpPr>
        <p:spPr>
          <a:xfrm>
            <a:off x="304920" y="83808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وْطَاتَهُ مُشَارِقَكَ وَمَغَارِبَكَ وَ سَخَّرْتَ لَهُ الْبُرَاقَ وَ عَرَجْتَ بِرُوْحِهِ اِلَى سَمَآئِ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4191120"/>
            <a:ext cx="82296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You entrusted in him the knowledge of the past and future till the end of your creation then You helped him with awe</a:t>
            </a:r>
            <a:endParaRPr b="0" lang="en-US" sz="3200" spc="-1" strike="noStrike">
              <a:solidFill>
                <a:srgbClr val="000000"/>
              </a:solidFill>
              <a:latin typeface="Arial"/>
            </a:endParaRPr>
          </a:p>
        </p:txBody>
      </p:sp>
      <p:sp>
        <p:nvSpPr>
          <p:cNvPr id="78" name=""/>
          <p:cNvSpPr/>
          <p:nvPr/>
        </p:nvSpPr>
        <p:spPr>
          <a:xfrm>
            <a:off x="304920" y="1066680"/>
            <a:ext cx="8458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وْدَعْتَهُ عِلْمَ مَاكَانَ وَ مَا يَكُوْنَ اِلَى انْقِضَآءِ خَلْقِكَ ثُمَّ نَصَرْتَهُ بِالرُّعْبِ</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114800"/>
            <a:ext cx="8610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Praise be to Alláh, the lord of the Worlds</a:t>
            </a:r>
            <a:br>
              <a:rPr sz="3200"/>
            </a:br>
            <a:r>
              <a:rPr b="1" lang="en-US" sz="3200" spc="-1" strike="noStrike">
                <a:solidFill>
                  <a:srgbClr val="000000"/>
                </a:solidFill>
                <a:latin typeface="Al-Arial"/>
                <a:ea typeface="Times New Roman"/>
              </a:rPr>
              <a:t> And Blessings of Alláh be upon our Master, Mu&lt;ammad (s.a.w) His Prophet and on his Progeny be greetings of Salutations.</a:t>
            </a:r>
            <a:endParaRPr b="0" lang="en-US" sz="3200" spc="-1" strike="noStrike">
              <a:solidFill>
                <a:srgbClr val="000000"/>
              </a:solidFill>
              <a:latin typeface="Arial"/>
            </a:endParaRPr>
          </a:p>
        </p:txBody>
      </p:sp>
      <p:sp>
        <p:nvSpPr>
          <p:cNvPr id="44" name=""/>
          <p:cNvSpPr/>
          <p:nvPr/>
        </p:nvSpPr>
        <p:spPr>
          <a:xfrm>
            <a:off x="762120" y="593640"/>
            <a:ext cx="761976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حَمْدُ لِلّهِ رَبِّ الْعَالَمِ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صَلَّى اللّهُ عَلي سَيِّدِنَا مُحَمَّدٍ</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نَبِيِّهِ وَ الِهِ وَ سَلَّمُو تَسْلِيْمً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733560"/>
            <a:ext cx="91440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You surrounded him with Jibráíl and Mikáíl and the distinguished angels and You promised him that You would make his religion triumphant over all the religions that the polytheist may be averse (to it)</a:t>
            </a:r>
            <a:endParaRPr b="0" lang="en-US" sz="3200" spc="-1" strike="noStrike">
              <a:solidFill>
                <a:srgbClr val="000000"/>
              </a:solidFill>
              <a:latin typeface="Arial"/>
            </a:endParaRPr>
          </a:p>
        </p:txBody>
      </p:sp>
      <p:sp>
        <p:nvSpPr>
          <p:cNvPr id="80" name=""/>
          <p:cNvSpPr/>
          <p:nvPr/>
        </p:nvSpPr>
        <p:spPr>
          <a:xfrm>
            <a:off x="304920" y="54612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حَفَفْتَهُ بِجَبْرَئِيْلَ وَ مِيْكَآئِيْلَ وَ الْمُسَوِّمِيْنَ مِنْ مَلآئِكَتِكَ وَ وَعَدْتَهُ اَنْ تُظْهِرَ</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دِيْنَهُ عَلَى الدِّيْنِ كُلِّهِ وَلَوْ كَرِهَ الْمُشْرِكُوْ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733560"/>
            <a:ext cx="9144000" cy="28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this is after You appointed some of his kindered as his successor and You appointed for him and them a first house which has been established for the mankind: The one which is at Mecca, a blessing and a guidance for the worlds</a:t>
            </a:r>
            <a:endParaRPr b="0" lang="en-US" sz="3200" spc="-1" strike="noStrike">
              <a:solidFill>
                <a:srgbClr val="000000"/>
              </a:solidFill>
              <a:latin typeface="Arial"/>
            </a:endParaRPr>
          </a:p>
        </p:txBody>
      </p:sp>
      <p:sp>
        <p:nvSpPr>
          <p:cNvPr id="82" name=""/>
          <p:cNvSpPr/>
          <p:nvPr/>
        </p:nvSpPr>
        <p:spPr>
          <a:xfrm>
            <a:off x="304920" y="53352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ذَلِكَ بَعْدَ اَنْ بَوَّئْتَهُ مُبَوَّءَ صِدْقٍ مِنْ اَهْلِ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جَعَلْتَ لَهُ وَ لَهُمْ اَوَّلَ بَيْتٍ وُضِعَ لِلنَّاسِ</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لَلَّذِىْ بِبَكَّةَ مُبَارَكًا وَهُدًى لِّلْعَالَمِيْ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809520"/>
            <a:ext cx="91440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In it (are) clear signs; place of Ibráhím; and whoever entered in it was safe and You did say: verily Alláh intends to keep off from you every kind of uncleanliness and to purify you people of the house, with a thorough purification</a:t>
            </a:r>
            <a:endParaRPr b="0" lang="en-US" sz="3200" spc="-1" strike="noStrike">
              <a:solidFill>
                <a:srgbClr val="000000"/>
              </a:solidFill>
              <a:latin typeface="Arial"/>
            </a:endParaRPr>
          </a:p>
        </p:txBody>
      </p:sp>
      <p:sp>
        <p:nvSpPr>
          <p:cNvPr id="84" name=""/>
          <p:cNvSpPr/>
          <p:nvPr/>
        </p:nvSpPr>
        <p:spPr>
          <a:xfrm>
            <a:off x="-152280" y="506520"/>
            <a:ext cx="93726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يْهِ آيَاتٌ بَيِّنَاتٌ مَقَامُ اِبْرَهِيْمَ وَ مَنْ دَخَلَهُ كَانَ آمِنًا وَ قُلْتَ اِنَّمَا يُرِيْدُ اللَّهُ لِيُذْهِبَ عَنْكُمُ الرِّجْسَ</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هْلَ الْبَيْتِ وَ يُطَهِّرَكُمْ تَطْهِيْرً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3657600"/>
            <a:ext cx="92203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n You assigned reward of Mu&lt;ammad, Your peace be upon him and his progeny (with) their love (the love of progeny) in Your book. Then You said, “Say I demand not, of you any reward for it (toils of preaching) except the love of my relations”</a:t>
            </a:r>
            <a:endParaRPr b="0" lang="en-US" sz="3200" spc="-1" strike="noStrike">
              <a:solidFill>
                <a:srgbClr val="000000"/>
              </a:solidFill>
              <a:latin typeface="Arial"/>
            </a:endParaRPr>
          </a:p>
        </p:txBody>
      </p:sp>
      <p:sp>
        <p:nvSpPr>
          <p:cNvPr id="86" name=""/>
          <p:cNvSpPr/>
          <p:nvPr/>
        </p:nvSpPr>
        <p:spPr>
          <a:xfrm>
            <a:off x="304920" y="48420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ثُمَّ خَعَلْتَ اَخْرَ مُحَمَّدٍ صَلَوَاتُكَ عَلَيْهِ وَ آلِهِ مَوَدَّتَهُمْ فِيْ كِتَابِكَ فَقُلْتَ قُلْ لاَ اَسْئَلَكُمْ</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عَلَيْهِ اَجْرًا اِلاَّ الْمَوَدَّةَ فِى الْقُرْبَ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419112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you said, “whatever reward I have asked you it is for your own”. And you said, “I ask you not any reward for it except that one who wishes, may adopt the path of his Lord”</a:t>
            </a:r>
            <a:endParaRPr b="0" lang="en-US" sz="3200" spc="-1" strike="noStrike">
              <a:solidFill>
                <a:srgbClr val="000000"/>
              </a:solidFill>
              <a:latin typeface="Arial"/>
            </a:endParaRPr>
          </a:p>
        </p:txBody>
      </p:sp>
      <p:sp>
        <p:nvSpPr>
          <p:cNvPr id="88" name=""/>
          <p:cNvSpPr/>
          <p:nvPr/>
        </p:nvSpPr>
        <p:spPr>
          <a:xfrm>
            <a:off x="304920" y="59364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قُلْتَ مَا سَئَلْتُكُمْ مِنْ اَجْرٍ فَهُوَ لَكُمْ</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قُلْتَ مَا اَسْئَلُكُمْ عَلَيْهِ مِنْ اَجْرٍ اِلاَّ مَنْ شَآءَ اَنْ يَتَّخِذَ اِلَى رَبِّهِ سَبِيْل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798360"/>
            <a:ext cx="91440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n they (Ahlul Bayt a.s) are the path toward You and the way towards Your satisfaction. When his (Holy Prophet) days passed, he appointed his successor 'Alí, son of Abu Talib as a Guide, Your peace be upon them and their progeny.</a:t>
            </a:r>
            <a:endParaRPr b="0" lang="en-US" sz="3200" spc="-1" strike="noStrike">
              <a:solidFill>
                <a:srgbClr val="000000"/>
              </a:solidFill>
              <a:latin typeface="Arial"/>
            </a:endParaRPr>
          </a:p>
        </p:txBody>
      </p:sp>
      <p:sp>
        <p:nvSpPr>
          <p:cNvPr id="90" name=""/>
          <p:cNvSpPr/>
          <p:nvPr/>
        </p:nvSpPr>
        <p:spPr>
          <a:xfrm>
            <a:off x="-139680" y="560520"/>
            <a:ext cx="93726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كَانُوْا هُمُ السَّبْيْلَ اِلَيْكَ وَ الْمَسْلَكَ اِلَى رِضْوَانِ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لَمَّ انْقَضَتْ اَيَّامُهُ اَقَامَ وَلِيَّهُ عَلَيَّ بْنَ اَبْيْطَالِبٍ صَلَوَاتُكَ عَلَيْهِمَا وَ آلِهِمَا هَادِيً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8620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s he was a Warner - and a guide for every nation. Then he (Holy Prophet) said before a huge gathering: “Whomsoever I am his master, then 'Alí, is his master”</a:t>
            </a:r>
            <a:endParaRPr b="0" lang="en-US" sz="3200" spc="-1" strike="noStrike">
              <a:solidFill>
                <a:srgbClr val="000000"/>
              </a:solidFill>
              <a:latin typeface="Arial"/>
            </a:endParaRPr>
          </a:p>
        </p:txBody>
      </p:sp>
      <p:sp>
        <p:nvSpPr>
          <p:cNvPr id="92" name=""/>
          <p:cNvSpPr/>
          <p:nvPr/>
        </p:nvSpPr>
        <p:spPr>
          <a:xfrm>
            <a:off x="0" y="101772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ذْ كَانَ هُوَ الْمُنْذِرَ وَلِكُلِّ قَوْمٍ هَادٍ فَقَالَ وَالْمَلاَءُ اِمَامَهُ مَنْ كُنْتُ مَوْلاَهُ فَعَلِيُّ مَوْلاَ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581280"/>
            <a:ext cx="91440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Alláh be a friend of one who is his friend and be the enemy of one who is his enemy: and help one who helps him and disgrace one who disgraces him. And he said, “Of whomsoever I am his Prophet, then 'Alí is his chief”</a:t>
            </a:r>
            <a:endParaRPr b="0" lang="en-US" sz="3200" spc="-1" strike="noStrike">
              <a:solidFill>
                <a:srgbClr val="000000"/>
              </a:solidFill>
              <a:latin typeface="Arial"/>
            </a:endParaRPr>
          </a:p>
        </p:txBody>
      </p:sp>
      <p:sp>
        <p:nvSpPr>
          <p:cNvPr id="94" name=""/>
          <p:cNvSpPr/>
          <p:nvPr/>
        </p:nvSpPr>
        <p:spPr>
          <a:xfrm>
            <a:off x="304920" y="51768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وَآلِ مَنْ وَ الاَهُ وَعَادِ مَنْعَادَاهُ وَانْصُرْ مَنْ نَصَرَهُ وَاخْذُلْ مَنْ خَذَلَ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قَالَ مَنْ كُنْتُ اَنَا نَبِيّّهُ فَعَلِيٌّ اَمِيْرُ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885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he said, “I and 'Alí are one and from the same tree; and the other people are from different trees.” And he placed him ('Alí a.s.) in a position, as Harún had with Músa</a:t>
            </a:r>
            <a:endParaRPr b="0" lang="en-US" sz="3200" spc="-1" strike="noStrike">
              <a:solidFill>
                <a:srgbClr val="000000"/>
              </a:solidFill>
              <a:latin typeface="Arial"/>
            </a:endParaRPr>
          </a:p>
        </p:txBody>
      </p:sp>
      <p:sp>
        <p:nvSpPr>
          <p:cNvPr id="96" name=""/>
          <p:cNvSpPr/>
          <p:nvPr/>
        </p:nvSpPr>
        <p:spPr>
          <a:xfrm>
            <a:off x="304920" y="63648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قَالَ اَنَا وَ عَلِيٌ مِنْ شَجَرَةٍ وَاحِدَةٍ وَ سَائِرُ النَّاسِ مِنْ شَخَرٍ شَتَّ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حَلَّهُ مَحَلَّ هَرُوْنَ مِنْ مُوْسَ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4038480"/>
            <a:ext cx="91440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n he said to him, “Your position to me is as Harún had with Músa, except that there will be no Prophet after me.” And get him married with his daughter, chief of the ladies of the worlds</a:t>
            </a:r>
            <a:endParaRPr b="0" lang="en-US" sz="3200" spc="-1" strike="noStrike">
              <a:solidFill>
                <a:srgbClr val="000000"/>
              </a:solidFill>
              <a:latin typeface="Arial"/>
            </a:endParaRPr>
          </a:p>
        </p:txBody>
      </p:sp>
      <p:sp>
        <p:nvSpPr>
          <p:cNvPr id="98" name=""/>
          <p:cNvSpPr/>
          <p:nvPr/>
        </p:nvSpPr>
        <p:spPr>
          <a:xfrm>
            <a:off x="304920" y="63648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قَالَ لَهُ اَنْتَ مِنِّىْ بِمَنْزِلَةِ هَرُوْنَ مِنْ مُوْسَى اِلاَّ اَنَّهُ لاَ نَبِىُّ بَعْدِ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زَوَّجَهُ ابْنَتَهُ سَيِّدَةِ نِسَآءِ الْعَآلَمِيْ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41911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Alláh (all) Praise is for You: for all the matters concerning which Your Decree was issued regarding Your friends, Those whom You have chosen for Yourself and for Your religion</a:t>
            </a:r>
            <a:endParaRPr b="0" lang="en-US" sz="3200" spc="-1" strike="noStrike">
              <a:solidFill>
                <a:srgbClr val="000000"/>
              </a:solidFill>
              <a:latin typeface="Arial"/>
            </a:endParaRPr>
          </a:p>
        </p:txBody>
      </p:sp>
      <p:sp>
        <p:nvSpPr>
          <p:cNvPr id="46" name=""/>
          <p:cNvSpPr/>
          <p:nvPr/>
        </p:nvSpPr>
        <p:spPr>
          <a:xfrm>
            <a:off x="152280" y="990720"/>
            <a:ext cx="89154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لَكَ الْحَمْدُ عَلي مَا جَرى بِه قَضَآؤُكَ فِي اَوْلِيَآئِكَ الَّذِيْنَ اسْتَخْلَصْتَهُمْ لِنَفْسِكَ وَدِيْنِ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429000"/>
            <a:ext cx="914400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he made for him lawful ('Alí a.s) whatever was lawful for himself in his mosque; and he closed all the doors (leading to the mosque) except the door of his house. Then he (Holy Prophet) entrusted to him his knowledge and his wisdom</a:t>
            </a:r>
            <a:endParaRPr b="0" lang="en-US" sz="3200" spc="-1" strike="noStrike">
              <a:solidFill>
                <a:srgbClr val="000000"/>
              </a:solidFill>
              <a:latin typeface="Arial"/>
            </a:endParaRPr>
          </a:p>
        </p:txBody>
      </p:sp>
      <p:sp>
        <p:nvSpPr>
          <p:cNvPr id="100" name=""/>
          <p:cNvSpPr/>
          <p:nvPr/>
        </p:nvSpPr>
        <p:spPr>
          <a:xfrm>
            <a:off x="304920" y="1079640"/>
            <a:ext cx="8458200" cy="41158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حَلَّ لَهُ مِنْ مَسْجِدِهِ مَآحَلَّ لَهُ وَ سَدَّ الْاَبْوَابَ اِلاَّ بَابَهُ</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ثَمَّ اَوْدَعَهُ عَلِمَهُ وَ حِكْمَتَ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809880"/>
            <a:ext cx="91440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 he said, “I am the city of knowledge and 'Alí is its gate Then, one who wishes to enter the city (of knowledge) and wisdom, then he should enter from its gate.” Then, he said, “You are my brother and successor and inheritor”</a:t>
            </a:r>
            <a:endParaRPr b="0" lang="en-US" sz="3200" spc="-1" strike="noStrike">
              <a:solidFill>
                <a:srgbClr val="000000"/>
              </a:solidFill>
              <a:latin typeface="Arial"/>
            </a:endParaRPr>
          </a:p>
        </p:txBody>
      </p:sp>
      <p:sp>
        <p:nvSpPr>
          <p:cNvPr id="102" name=""/>
          <p:cNvSpPr/>
          <p:nvPr/>
        </p:nvSpPr>
        <p:spPr>
          <a:xfrm>
            <a:off x="0" y="54612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قَالَ اَنَا مَدِيْنَةُ الْعِلْمِ وَ عَلِيٌّ بَابُهَ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مَنْ اَرَادَ الْمَدِيْنَةَ وَ الْحِكْمَةَ فَلْيَاتِهَا مِنْ بَابِهَ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ثُمَّ قَالَ اَنْتَ اَخِىْ وَ وَصِيِّىْ وَ وَارِثِ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96252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the faith is mixed with your flesh and your blood from my blood and peace with you is peace with me and fight with you is fight with me</a:t>
            </a:r>
            <a:endParaRPr b="0" lang="en-US" sz="3200" spc="-1" strike="noStrike">
              <a:solidFill>
                <a:srgbClr val="000000"/>
              </a:solidFill>
              <a:latin typeface="Arial"/>
            </a:endParaRPr>
          </a:p>
        </p:txBody>
      </p:sp>
      <p:sp>
        <p:nvSpPr>
          <p:cNvPr id="104" name=""/>
          <p:cNvSpPr/>
          <p:nvPr/>
        </p:nvSpPr>
        <p:spPr>
          <a:xfrm>
            <a:off x="304920" y="746280"/>
            <a:ext cx="8458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لَحْمُكَ مِنْ لَحْمِىْ وَ دَمُكَ مِنْ دَمِىْ وَ سِلْمُكَ سِلْمِىْ وَ حَرْبُكَ حَرْبِ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86200"/>
            <a:ext cx="91440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the faith is mixed with your flesh and your blood, and it is mixed with my flesh and my blood and tomorrow, you will be my successor at the Cistern kauthar pond (hú_ of kauthar)</a:t>
            </a:r>
            <a:endParaRPr b="0" lang="en-US" sz="3200" spc="-1" strike="noStrike">
              <a:solidFill>
                <a:srgbClr val="000000"/>
              </a:solidFill>
              <a:latin typeface="Arial"/>
            </a:endParaRPr>
          </a:p>
        </p:txBody>
      </p:sp>
      <p:sp>
        <p:nvSpPr>
          <p:cNvPr id="106" name=""/>
          <p:cNvSpPr/>
          <p:nvPr/>
        </p:nvSpPr>
        <p:spPr>
          <a:xfrm>
            <a:off x="304920" y="53352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لاِْمَانُ مُخَالِطٌ لَحْمَكَ وَ دَمَكَ كَمَا خَالَطَ لَحْمِىْ وَ دَمِىْ وَ اَنْتَ غَدًا</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عَلَى الْحَوْضِ خَلِيْفَتِ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733560"/>
            <a:ext cx="91440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you will pay my debt and you will fulfill my promises. And your Shias (followers) will be (sitting) on the pulpits of light; their with their bright faces surrounding me in the Heaven and they will be my neighbors</a:t>
            </a:r>
            <a:endParaRPr b="0" lang="en-US" sz="3200" spc="-1" strike="noStrike">
              <a:solidFill>
                <a:srgbClr val="000000"/>
              </a:solidFill>
              <a:latin typeface="Arial"/>
            </a:endParaRPr>
          </a:p>
        </p:txBody>
      </p:sp>
      <p:sp>
        <p:nvSpPr>
          <p:cNvPr id="108" name=""/>
          <p:cNvSpPr/>
          <p:nvPr/>
        </p:nvSpPr>
        <p:spPr>
          <a:xfrm>
            <a:off x="304920" y="56052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نْتَ تَقْضِىْ دِيْنِى وَ تُنْجِزُ عِدَاتِ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شِيْعَتُكَ عَلَى مَنَابِرَ مِنْ نُوْرٍ مُبْيَضَّةً وَجُوْهُهُمْ حَوْلِىْ فِيْ الْجَنَّةِ وَ حُمْ جِيْرَانِ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49568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he said), “O 'Alí had you not been there the believers would not have been recognized after me”</a:t>
            </a:r>
            <a:endParaRPr b="0" lang="en-US" sz="3200" spc="-1" strike="noStrike">
              <a:solidFill>
                <a:srgbClr val="000000"/>
              </a:solidFill>
              <a:latin typeface="Arial"/>
            </a:endParaRPr>
          </a:p>
        </p:txBody>
      </p:sp>
      <p:sp>
        <p:nvSpPr>
          <p:cNvPr id="110" name=""/>
          <p:cNvSpPr/>
          <p:nvPr/>
        </p:nvSpPr>
        <p:spPr>
          <a:xfrm>
            <a:off x="304920" y="974880"/>
            <a:ext cx="8458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لَوْ لاَ اَنْتَ يَا عَلِيُّ لَمْ يُعْرَفِ الْمُوْمِنُوْنَ بَعْدِ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8620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he was a guidance (to prevent people) from deviation after him (the Holy Prophet) and a light from the blindness and the strong rope of Alláh and his right path</a:t>
            </a:r>
            <a:endParaRPr b="0" lang="en-US" sz="3200" spc="-1" strike="noStrike">
              <a:solidFill>
                <a:srgbClr val="000000"/>
              </a:solidFill>
              <a:latin typeface="Arial"/>
            </a:endParaRPr>
          </a:p>
        </p:txBody>
      </p:sp>
      <p:sp>
        <p:nvSpPr>
          <p:cNvPr id="112" name=""/>
          <p:cNvSpPr/>
          <p:nvPr/>
        </p:nvSpPr>
        <p:spPr>
          <a:xfrm>
            <a:off x="304920" y="100332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كَانَ بَعْدَهُ هُدًى مِنَ الضَّلاَلِ وَ نُوْرًا مِنَ الْعَمَى وَحَبْلَ اللَّهِ الْمِتَيْنَ وَ صِرَاطَهُ الْمُسْتَقِيْ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581280"/>
            <a:ext cx="89917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Neither his proximity in the ties of relationship (with the Holy Prophet) can be proceeded (by anyone) nor his preceding in religion. And (no one) can overtake anyone virtues from amongst his (Prophets) virtues</a:t>
            </a:r>
            <a:endParaRPr b="0" lang="en-US" sz="3200" spc="-1" strike="noStrike">
              <a:solidFill>
                <a:srgbClr val="000000"/>
              </a:solidFill>
              <a:latin typeface="Arial"/>
            </a:endParaRPr>
          </a:p>
        </p:txBody>
      </p:sp>
      <p:sp>
        <p:nvSpPr>
          <p:cNvPr id="114" name=""/>
          <p:cNvSpPr/>
          <p:nvPr/>
        </p:nvSpPr>
        <p:spPr>
          <a:xfrm>
            <a:off x="0" y="74628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لاَ يُسْبَقُ بِقَرَابَةِ فِىْ رَحِمٍ وَ لاَ بِسَابِقَةٍ فِىْ دِ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لاَ يُلِحَقُ فِىْ مُنْقَبَةٍ مِنْ مَنَاقِبِ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09880"/>
            <a:ext cx="91440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He (Ali) follows the path of the messenger, may the blessings of Alláh be upon both of them and their progeny and he fights on (the basis of) interpretation, and he cares not any blame of any rebuker in the way of Alláh</a:t>
            </a:r>
            <a:endParaRPr b="0" lang="en-US" sz="3200" spc="-1" strike="noStrike">
              <a:solidFill>
                <a:srgbClr val="000000"/>
              </a:solidFill>
              <a:latin typeface="Arial"/>
            </a:endParaRPr>
          </a:p>
        </p:txBody>
      </p:sp>
      <p:sp>
        <p:nvSpPr>
          <p:cNvPr id="116" name=""/>
          <p:cNvSpPr/>
          <p:nvPr/>
        </p:nvSpPr>
        <p:spPr>
          <a:xfrm>
            <a:off x="0" y="56052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حْذُوْا حَذْوَ الرَّسُوْلِ صَلَّى اللَّهُ عَلَيْهِمَا وَ آلِهِمَا وَ يُقَاتِلُ عَلَى التَاوِيْلِ</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لاَ تَاخُذُهُ فِى اللَّهِ لَوْمَةِ لآئِ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57240"/>
            <a:ext cx="914400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Indeed, he has spilled the blood of the heroes of Arabia, and killed their valiant fighters and attacked their wolves. Then he filled the hearts of them (fighters) of Badr, Khaybar, Hunayn, and of others with a hatred and malice</a:t>
            </a:r>
            <a:endParaRPr b="0" lang="en-US" sz="3200" spc="-1" strike="noStrike">
              <a:solidFill>
                <a:srgbClr val="000000"/>
              </a:solidFill>
              <a:latin typeface="Arial"/>
            </a:endParaRPr>
          </a:p>
        </p:txBody>
      </p:sp>
      <p:sp>
        <p:nvSpPr>
          <p:cNvPr id="118" name=""/>
          <p:cNvSpPr/>
          <p:nvPr/>
        </p:nvSpPr>
        <p:spPr>
          <a:xfrm>
            <a:off x="0" y="4842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قَدْ وَتْرَ فِيْهِ صَنَادِيْدَ الْعَرَبِ وَ قَتَلَ اَبْطَالَهُمْ وَ نَاوَشَ ذُؤْبَانَهُمْ فَاَوْدَعَ قُلَوْبَهُمْ اَحْقَآدًا بَدْرِيَّةً</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خَيْبَرِيَّةً وَ حُنَيْنِيَّةً وَ غَيْرَهُ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962160"/>
            <a:ext cx="82296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since You have decided to bestow on them the choicest of Your everlasting favors which neither declines nor decreases</a:t>
            </a:r>
            <a:endParaRPr b="0" lang="en-US" sz="3200" spc="-1" strike="noStrike">
              <a:solidFill>
                <a:srgbClr val="000000"/>
              </a:solidFill>
              <a:latin typeface="Arial"/>
            </a:endParaRPr>
          </a:p>
        </p:txBody>
      </p:sp>
      <p:sp>
        <p:nvSpPr>
          <p:cNvPr id="48" name=""/>
          <p:cNvSpPr/>
          <p:nvPr/>
        </p:nvSpPr>
        <p:spPr>
          <a:xfrm>
            <a:off x="0" y="82224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ذِ اخْتَرْتَ لَهُمْ جَزِيْلَ مَا عِنْدَكَ مِنَ النَّعِيْمِ الَّذِىْ لاَ زَوَالَ لَهُ وَلاَ اضْمِحْلاَلََ</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الْمُقِيْمِ</a:t>
            </a:r>
            <a:r>
              <a:rPr b="1" lang="en-GB" sz="5500" spc="-1" strike="noStrike">
                <a:solidFill>
                  <a:srgbClr val="000000"/>
                </a:solidFill>
                <a:latin typeface="Times New Roman"/>
                <a:ea typeface="Traditional Arabic"/>
              </a:rPr>
              <a:t> </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504960"/>
            <a:ext cx="82296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n, (they) rose in enmity, against him, and they attacked to fight against him till (such time) that he killed the oath breakers of allegiance, the unjust and the (maareqeen) renegades</a:t>
            </a:r>
            <a:endParaRPr b="0" lang="en-US" sz="3200" spc="-1" strike="noStrike">
              <a:solidFill>
                <a:srgbClr val="000000"/>
              </a:solidFill>
              <a:latin typeface="Arial"/>
            </a:endParaRPr>
          </a:p>
        </p:txBody>
      </p:sp>
      <p:sp>
        <p:nvSpPr>
          <p:cNvPr id="120" name=""/>
          <p:cNvSpPr/>
          <p:nvPr/>
        </p:nvSpPr>
        <p:spPr>
          <a:xfrm>
            <a:off x="0" y="82224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اَضَبّضتْ عَلَى عَدَاوَتِهِ وَ اَكَبَّتْ عَلَى مُنَابَذَتِ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حَتَّى قَتَلَ النّآكِثِيْنَ وَ الْقَاسِطِيْنَ وَ الْمآرِقِي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29688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when his tongue of life expired, a wretched person among those of the last epoch, following the path of those of the earlier period killed him, (The) order of the messenger of Alláh, peace of Alláh be upon him and his progeny, was not obeyed about the leaders (Imams) one after the other</a:t>
            </a:r>
            <a:endParaRPr b="0" lang="en-US" sz="3200" spc="-1" strike="noStrike">
              <a:solidFill>
                <a:srgbClr val="000000"/>
              </a:solidFill>
              <a:latin typeface="Arial"/>
            </a:endParaRPr>
          </a:p>
        </p:txBody>
      </p:sp>
      <p:sp>
        <p:nvSpPr>
          <p:cNvPr id="122" name=""/>
          <p:cNvSpPr/>
          <p:nvPr/>
        </p:nvSpPr>
        <p:spPr>
          <a:xfrm>
            <a:off x="304920" y="48888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لَمَّا قَضَى نَحْبَهُ وَ قَتَلَهُ اَشْقَى الآخِرِينَ يَتْبَعُ اَشْقَى الاَوَّلِينَ لَمْ يِمْتَثَلْ اَمْرُ رَسُولْ</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 عَلَيْهِ وَ آلِهِ فِى الْهَادِينَ بَعْدَ الْهآدِي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200400"/>
            <a:ext cx="91440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the ummah was insistent on bearing enmity against him. They joined together to cut of his ties of relations (Holy Prophet) and throwing away his children (from successorship). Except a few from them (believers) who remained faithful in observing their rights</a:t>
            </a:r>
            <a:endParaRPr b="0" lang="en-US" sz="3200" spc="-1" strike="noStrike">
              <a:solidFill>
                <a:srgbClr val="000000"/>
              </a:solidFill>
              <a:latin typeface="Arial"/>
            </a:endParaRPr>
          </a:p>
        </p:txBody>
      </p:sp>
      <p:sp>
        <p:nvSpPr>
          <p:cNvPr id="124" name=""/>
          <p:cNvSpPr/>
          <p:nvPr/>
        </p:nvSpPr>
        <p:spPr>
          <a:xfrm>
            <a:off x="304920" y="50004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لْاُمَّةُ مُصِرَّةُ عَلَى مَقْتِ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جْتَمِعَةُ عَلَى قَطِيعَةِ رَحِمِهِ وَ اِقْصَآءِ وَلَدِ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اَّ الْقَلِيلَ مِمَّنْ وَ فِى لِرِعَايَةِ الْحَقِّ قِيهِ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9520"/>
            <a:ext cx="82296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n some of them were killed and some were taken into captivity and some were exiled and the decree was to pass for them; with this hope that the best reward is in it</a:t>
            </a:r>
            <a:endParaRPr b="0" lang="en-US" sz="3200" spc="-1" strike="noStrike">
              <a:solidFill>
                <a:srgbClr val="000000"/>
              </a:solidFill>
              <a:latin typeface="Arial"/>
            </a:endParaRPr>
          </a:p>
        </p:txBody>
      </p:sp>
      <p:sp>
        <p:nvSpPr>
          <p:cNvPr id="126" name=""/>
          <p:cNvSpPr/>
          <p:nvPr/>
        </p:nvSpPr>
        <p:spPr>
          <a:xfrm>
            <a:off x="304920" y="53352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قُتِلَ مَنْ قُتِلَ وَ سُبْيَ مَنْ سُبِيَ وَ اُقْصِىَ مَنْ اُقْصِىَ وَ جَرَى الْقَضَآءُ لَهُمْ بِمَآ</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رْجَى لَهُ حُسْنُ الْمَثُوبَةِ</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320" y="3428640"/>
            <a:ext cx="906768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Since the earth belong to Alláh. He gives to whomsoever he wishes from amongst his servants. And the end is (only) for those who guard against evil. And glorious is our lord, verily the promise of our lord is certainly to be fulfilled</a:t>
            </a:r>
            <a:endParaRPr b="0" lang="en-US" sz="3200" spc="-1" strike="noStrike">
              <a:solidFill>
                <a:srgbClr val="000000"/>
              </a:solidFill>
              <a:latin typeface="Arial"/>
            </a:endParaRPr>
          </a:p>
        </p:txBody>
      </p:sp>
      <p:sp>
        <p:nvSpPr>
          <p:cNvPr id="128" name=""/>
          <p:cNvSpPr/>
          <p:nvPr/>
        </p:nvSpPr>
        <p:spPr>
          <a:xfrm>
            <a:off x="304920" y="60948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ذْ كَانَتِ الْأَرْضُ لِلَّهِ يُورِثُهَآ مَنْ يَشَآءُ مِنْ عِبَآدِهِ وَالْعَآقِبَةُ لِلْمُتَّقِ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سُبْحَآنَ رَبَّنَا اِنْ كَانَ وَعْدُ رَبِّنَا لَمَفْعُول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276360"/>
            <a:ext cx="914400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Alláh never goes against his promise; and he is the almighty all wise. Then upon the purified ones of the purified ones of the progeny of Mu&lt;ammad and 'Alí may the peace of Alláh be upon both of them and their progeny</a:t>
            </a:r>
            <a:endParaRPr b="0" lang="en-US" sz="3200" spc="-1" strike="noStrike">
              <a:solidFill>
                <a:srgbClr val="000000"/>
              </a:solidFill>
              <a:latin typeface="Arial"/>
            </a:endParaRPr>
          </a:p>
        </p:txBody>
      </p:sp>
      <p:sp>
        <p:nvSpPr>
          <p:cNvPr id="130" name=""/>
          <p:cNvSpPr/>
          <p:nvPr/>
        </p:nvSpPr>
        <p:spPr>
          <a:xfrm>
            <a:off x="304920" y="54612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لَنْ يُخْلِفَ اللًّهُ وَعْدَهُ وَ هُوَ الْعَزِيزُ الْحَكِيمُ</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عَلَى الْاَطَآيِبِ مِنْ اَهْلِ بَيْتِ مُحَمَّدٍ وَ عَلِيٍّ صَلَّ اللَّهُ عَلَيْهِمَآ وَ آلِهِمَآ</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733560"/>
            <a:ext cx="91440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 bewailers should cry and wailers should wail upon them. And for such people like them, then the tears should flow, and clamourers should clamor and the mourners should mourn in the heart rending manner</a:t>
            </a:r>
            <a:endParaRPr b="0" lang="en-US" sz="3200" spc="-1" strike="noStrike">
              <a:solidFill>
                <a:srgbClr val="000000"/>
              </a:solidFill>
              <a:latin typeface="Arial"/>
            </a:endParaRPr>
          </a:p>
        </p:txBody>
      </p:sp>
      <p:sp>
        <p:nvSpPr>
          <p:cNvPr id="132" name=""/>
          <p:cNvSpPr/>
          <p:nvPr/>
        </p:nvSpPr>
        <p:spPr>
          <a:xfrm>
            <a:off x="0" y="69840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لْيَبْكِ الَبَآكُونَ وَ اَيَّآهُمْ فَلْيَنْدُبِ النَّآدِبُو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لِمِثْلِهِمْ فَلْتَذْرَفِ الدُّمُوعُ وَلْيَصْرُخِ الصَّآرِخُونَ وَ يَضِجَّ الضَّآجُونَ وَ يَعِجَّ الْعَآجُّو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57600"/>
            <a:ext cx="91440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asan? Where is \usayn? Where are the children's of \usayn? The righteous after righteous and truthful after truthful. Where is the path after the path (of righteousness)?</a:t>
            </a:r>
            <a:endParaRPr b="0" lang="en-US" sz="3200" spc="-1" strike="noStrike">
              <a:solidFill>
                <a:srgbClr val="000000"/>
              </a:solidFill>
              <a:latin typeface="Arial"/>
            </a:endParaRPr>
          </a:p>
        </p:txBody>
      </p:sp>
      <p:sp>
        <p:nvSpPr>
          <p:cNvPr id="134" name=""/>
          <p:cNvSpPr/>
          <p:nvPr/>
        </p:nvSpPr>
        <p:spPr>
          <a:xfrm>
            <a:off x="304920" y="54612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حَسَنُ اَيْنَ الْحُسَيْنُ اَيْنَ اَبْنَآءُ الْحُسَ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صَالِحٌ بَعْدَ صَالِحٍ وَ صَادِقٌ بَعْدَ صَادِقٍ</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سَّبِيْلُ بَعْدَ السَّبِيْلِ</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960" y="3504960"/>
            <a:ext cx="8915400" cy="29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are the virtuous people after the virtuous ones? Where are the rising suns? Where are the luminous moons? Where are the brilliant stars? Where are the emblems of the faith and the basis of knowledge?</a:t>
            </a:r>
            <a:endParaRPr b="0" lang="en-US" sz="3200" spc="-1" strike="noStrike">
              <a:solidFill>
                <a:srgbClr val="000000"/>
              </a:solidFill>
              <a:latin typeface="Arial"/>
            </a:endParaRPr>
          </a:p>
        </p:txBody>
      </p:sp>
      <p:sp>
        <p:nvSpPr>
          <p:cNvPr id="136" name=""/>
          <p:cNvSpPr/>
          <p:nvPr/>
        </p:nvSpPr>
        <p:spPr>
          <a:xfrm>
            <a:off x="304920" y="546120"/>
            <a:ext cx="8458200" cy="61268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خِيَرَةُ بَعْدَ الْخِيَرَةِ</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اَيْنَ الشُّمُوْسُ الطَّالِعَةُ</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اَقْمَارُ الْمُنِيْرَةُ اَيْنَ الْاَنْجُمُ الزَّاهِرَةُ</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عْلاَمُ الدِّيْنِ وَ قَوَاعِدُ الْعِلْ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352680"/>
            <a:ext cx="914400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Baqi-at-Alláh? Which (the world) cannot be devoid from (the presence of) guided progeny? Where is the one ready to annihilate the oppressors? Where is the awaited one for strengthening the crookedness and dishonesty?</a:t>
            </a:r>
            <a:endParaRPr b="0" lang="en-US" sz="3200" spc="-1" strike="noStrike">
              <a:solidFill>
                <a:srgbClr val="000000"/>
              </a:solidFill>
              <a:latin typeface="Arial"/>
            </a:endParaRPr>
          </a:p>
        </p:txBody>
      </p:sp>
      <p:sp>
        <p:nvSpPr>
          <p:cNvPr id="138" name=""/>
          <p:cNvSpPr/>
          <p:nvPr/>
        </p:nvSpPr>
        <p:spPr>
          <a:xfrm>
            <a:off x="304920" y="46980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بَقِيَّةُ اللَّهِ الَّتِى لاَ تَخْلُوْ مِنَ الْعِتْرَةِ الْهَادِيَةِ</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مُعَدُّ لِقَطْعِ دَابِرِ الظَّلَمَةِ</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مُنْتَظَرُ لِأَقَامَةِ الْاَمْتِ وَ الْعِوَجَ</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26672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fter You took promise from them to renounce all the stages of this despicable world and its superficial attractions and allurements</a:t>
            </a:r>
            <a:endParaRPr b="0" lang="en-US" sz="3200" spc="-1" strike="noStrike">
              <a:solidFill>
                <a:srgbClr val="000000"/>
              </a:solidFill>
              <a:latin typeface="Arial"/>
            </a:endParaRPr>
          </a:p>
        </p:txBody>
      </p:sp>
      <p:sp>
        <p:nvSpPr>
          <p:cNvPr id="50" name=""/>
          <p:cNvSpPr/>
          <p:nvPr/>
        </p:nvSpPr>
        <p:spPr>
          <a:xfrm>
            <a:off x="762120" y="593640"/>
            <a:ext cx="761976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عْدَ اَنْ شَرَطْتَ عَلَيْهِمُ الزُّهْدَ فِي دَرَجَاتِ هذِهِ الدُّنْيَا الدَّنِيَّةِ</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زُخُُرُفٍِهَا  وَزِبْرِجِهَ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124080"/>
            <a:ext cx="9144000" cy="381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the expected (Imam Mahdí) for abolishing the oppression and transgression? Where is the one stored for reviving the obligatory commands and the sunnah (of the Holy Prophet)? Where is the selected one for resuscitating (the reality) of the nation and the religion?</a:t>
            </a:r>
            <a:endParaRPr b="0" lang="en-US" sz="3200" spc="-1" strike="noStrike">
              <a:solidFill>
                <a:srgbClr val="000000"/>
              </a:solidFill>
              <a:latin typeface="Arial"/>
            </a:endParaRPr>
          </a:p>
        </p:txBody>
      </p:sp>
      <p:sp>
        <p:nvSpPr>
          <p:cNvPr id="140" name=""/>
          <p:cNvSpPr/>
          <p:nvPr/>
        </p:nvSpPr>
        <p:spPr>
          <a:xfrm>
            <a:off x="304920" y="46980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مُرْتَجَي لِأِزَالَةِ الْجَوْرِ وَ الْعُدْوَا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مُدَّخَح لِتَجْدِيْدَ الْفَرَآئِضِ وَ السُّنَ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مُتَخَيِّرُ لِاِ عَادَةِ الْمِلَّةِ وَ الشَرِّيْعَةِ</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809880"/>
            <a:ext cx="91440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the expected one for enlightening the book and its limits? Where is the enlivener of the fax of religion and its adherents? Where is the Breaker of the might of the transgressors?</a:t>
            </a:r>
            <a:endParaRPr b="0" lang="en-US" sz="3200" spc="-1" strike="noStrike">
              <a:solidFill>
                <a:srgbClr val="000000"/>
              </a:solidFill>
              <a:latin typeface="Arial"/>
            </a:endParaRPr>
          </a:p>
        </p:txBody>
      </p:sp>
      <p:sp>
        <p:nvSpPr>
          <p:cNvPr id="142" name=""/>
          <p:cNvSpPr/>
          <p:nvPr/>
        </p:nvSpPr>
        <p:spPr>
          <a:xfrm>
            <a:off x="304920" y="54612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مُؤَمَّلُ لِأِحْيَآءِ الْكِتَابِ وَ حُدُوْدِ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مُحْيِيْ مَعَالِمِ الدِّيْنِ وَ اَهْلِ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قَاصِمُ شَوْكَةِ الْمُعْتَدِيْ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733560"/>
            <a:ext cx="91440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the Demolisher of the edifices of Polytheism and hypocrisy? Where is the Destroyer of the followers of transgression disobedience and rebellion? Where is the Eradicator of branches of Errors and Disputes?</a:t>
            </a:r>
            <a:endParaRPr b="0" lang="en-US" sz="3200" spc="-1" strike="noStrike">
              <a:solidFill>
                <a:srgbClr val="000000"/>
              </a:solidFill>
              <a:latin typeface="Arial"/>
            </a:endParaRPr>
          </a:p>
        </p:txBody>
      </p:sp>
      <p:sp>
        <p:nvSpPr>
          <p:cNvPr id="144" name=""/>
          <p:cNvSpPr/>
          <p:nvPr/>
        </p:nvSpPr>
        <p:spPr>
          <a:xfrm>
            <a:off x="304920" y="54612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هَأدِمُ اَبْنِيَةِ الشِّرْكِ وَ النِّفَاقِ</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مُبِيْدُ اَهْلِ الْفُسُوْقِ وَ الْعِصْيَانِ وَ الطُّغْيَا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حَاصِدُ فُرُوْعِ الْغَيِّ وَ الشِّقَاقِ</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3580920"/>
            <a:ext cx="9067680" cy="29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the Destroyer of the signs of (Evil) diseases and egoistic tendencies? Where is the Severer of the cords of Falsehood and calumniation? Where is the Destroyer of the vicious and disobedient people?</a:t>
            </a:r>
            <a:endParaRPr b="0" lang="en-US" sz="3200" spc="-1" strike="noStrike">
              <a:solidFill>
                <a:srgbClr val="000000"/>
              </a:solidFill>
              <a:latin typeface="Arial"/>
            </a:endParaRPr>
          </a:p>
        </p:txBody>
      </p:sp>
      <p:sp>
        <p:nvSpPr>
          <p:cNvPr id="146" name=""/>
          <p:cNvSpPr/>
          <p:nvPr/>
        </p:nvSpPr>
        <p:spPr>
          <a:xfrm>
            <a:off x="304920" y="46980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طَامِسُ آثَارِ الزَّيْغِ وَ الْاَهْوَآ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قَاطِعُ حَبَآئِلِ الْكَذِبِ وَ الْاِفْتِرَآ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مُبِيْدُ الْعُتَاةِ وَ الْمَرَدَةِ</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57600"/>
            <a:ext cx="91440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the Eradicator of the follower of obstinacy and misguidance and the renegade? Where is the one who honors the friends and Debases the enemy? Where is the Accumulator of the words of piety?</a:t>
            </a:r>
            <a:endParaRPr b="0" lang="en-US" sz="3200" spc="-1" strike="noStrike">
              <a:solidFill>
                <a:srgbClr val="000000"/>
              </a:solidFill>
              <a:latin typeface="Arial"/>
            </a:endParaRPr>
          </a:p>
        </p:txBody>
      </p:sp>
      <p:sp>
        <p:nvSpPr>
          <p:cNvPr id="148" name=""/>
          <p:cNvSpPr/>
          <p:nvPr/>
        </p:nvSpPr>
        <p:spPr>
          <a:xfrm>
            <a:off x="76320" y="698400"/>
            <a:ext cx="883908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مُسْتَاصِلُ اَهْلِ الْعِنَادِ وَ التَّضْلِيْلِ وَ الْاِلْحَادِ</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مُعِزُّ الْاَوْلِيَآءِ وَ مُذِلُّ الْاَعْدَآ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جَامِعُ الْكَلِمَةِ عَلَي التَّقْوَ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3581280"/>
            <a:ext cx="906768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the Gate of Alláh through which all should enter? Where is the countenance of Alláh through which the friends attend towards him? Where is the means which is stretching from the earth to the sky?</a:t>
            </a:r>
            <a:endParaRPr b="0" lang="en-US" sz="3200" spc="-1" strike="noStrike">
              <a:solidFill>
                <a:srgbClr val="000000"/>
              </a:solidFill>
              <a:latin typeface="Arial"/>
            </a:endParaRPr>
          </a:p>
        </p:txBody>
      </p:sp>
      <p:sp>
        <p:nvSpPr>
          <p:cNvPr id="150" name=""/>
          <p:cNvSpPr/>
          <p:nvPr/>
        </p:nvSpPr>
        <p:spPr>
          <a:xfrm>
            <a:off x="380880" y="54612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بَابُ اللَّهِ الَّذِيْ مِنْهُ يُؤْتِ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وَجْهُ اللَّهِ الَّذِيْ اِلَيْهِ يَتَوَجَّهُ الْاَوْلِيَآ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سَّبَبُ الْمُتَصِّلُ بِيْنَ الْاَرْضِ وَ السَّمَآءِ</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57600"/>
            <a:ext cx="91440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the Master of the Day of victory and the one who will spread the flag of Guidance? Where is the uniter of the companions of virtue and divine pleasure? Where is the Avenger of the blood of Prophets and the children of the Prophets?</a:t>
            </a:r>
            <a:endParaRPr b="0" lang="en-US" sz="3200" spc="-1" strike="noStrike">
              <a:solidFill>
                <a:srgbClr val="000000"/>
              </a:solidFill>
              <a:latin typeface="Arial"/>
            </a:endParaRPr>
          </a:p>
        </p:txBody>
      </p:sp>
      <p:sp>
        <p:nvSpPr>
          <p:cNvPr id="152" name=""/>
          <p:cNvSpPr/>
          <p:nvPr/>
        </p:nvSpPr>
        <p:spPr>
          <a:xfrm>
            <a:off x="304920" y="46980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صَاحِبُ يَوْمَ الْفَتْحِ وَ نَاشِرُرَ آيَةَ الْْهُدَ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مُؤَلِّفُ شَمْلِ الصَّلاَحِ وَ الرِّضَ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طَّالِبُ بِذُحُوْلِ الْاَنْبِيَآءِ وَ اَبْنَآءِ الْاَنْبِيَآءِ</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40" y="3365640"/>
            <a:ext cx="876312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the seeker of revenge for the blood of the Martyred ones of Karbalá? Where is the Triumphant one (who will overcome) over one who transgressed against him and maligned him? Where is the distressed one who will be answered when he supplicates?</a:t>
            </a:r>
            <a:endParaRPr b="0" lang="en-US" sz="3200" spc="-1" strike="noStrike">
              <a:solidFill>
                <a:srgbClr val="000000"/>
              </a:solidFill>
              <a:latin typeface="Arial"/>
            </a:endParaRPr>
          </a:p>
        </p:txBody>
      </p:sp>
      <p:sp>
        <p:nvSpPr>
          <p:cNvPr id="154" name=""/>
          <p:cNvSpPr/>
          <p:nvPr/>
        </p:nvSpPr>
        <p:spPr>
          <a:xfrm>
            <a:off x="304920" y="53352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طَّالِبُ بِدَمِ الْمُقُتُوْلِ بِكَرْبَلآ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مُنْصُوْرُ عَلَى مَنِ اعْتَدَى عَلَيْهِ وَ افْتَرَ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لْمُضْطَرُّ الَّذِى يُجَّابُ اِذَا دَعَ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352680"/>
            <a:ext cx="914400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 is the President of all creatures, who is both the beneficent and God fearing? Where is the son of the chosen (Al Mustafa) Prophet and the son of 'Alí-Al-Murta_a? And the son of Khadijatul-Gharra (the Luminous) and the son of Fá&gt;imatul-Kubrá (the great)?</a:t>
            </a:r>
            <a:endParaRPr b="0" lang="en-US" sz="3200" spc="-1" strike="noStrike">
              <a:solidFill>
                <a:srgbClr val="000000"/>
              </a:solidFill>
              <a:latin typeface="Arial"/>
            </a:endParaRPr>
          </a:p>
        </p:txBody>
      </p:sp>
      <p:sp>
        <p:nvSpPr>
          <p:cNvPr id="156" name=""/>
          <p:cNvSpPr/>
          <p:nvPr/>
        </p:nvSpPr>
        <p:spPr>
          <a:xfrm>
            <a:off x="0" y="54612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صَدْرُ الْخَلآئِقِ ذُو الْبِرِّ وَ التَّقْوَ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ابْنَ النَّبِيِّ الْمُصْطَفَي وَ ابْنُ عَلِيٍ الْمُرْتَضَ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يْنَ خَدِيْجَةُ الْغَرَّآءِ وَ ابْنُ فَاطِمَةَ الْكُبْرَ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403440"/>
            <a:ext cx="914400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May my father and my mother and myself be sacrificed for your safety and protection. O son of the masters, the favorite ones, O son of the noble ones, the honored ones, O son of the guides and the divinely guided ones, O son of the preferred refined ones,</a:t>
            </a:r>
            <a:endParaRPr b="0" lang="en-US" sz="3200" spc="-1" strike="noStrike">
              <a:solidFill>
                <a:srgbClr val="000000"/>
              </a:solidFill>
              <a:latin typeface="Arial"/>
            </a:endParaRPr>
          </a:p>
        </p:txBody>
      </p:sp>
      <p:sp>
        <p:nvSpPr>
          <p:cNvPr id="158" name=""/>
          <p:cNvSpPr/>
          <p:nvPr/>
        </p:nvSpPr>
        <p:spPr>
          <a:xfrm>
            <a:off x="152280" y="546120"/>
            <a:ext cx="876312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اَبِيْ اَنْتَ وَ اُمِّي وَ نَفْسِ لَكَ الْوِقَآءُ وَ الْحِمَ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سَّادَةِ الْمُقَرَّبِيْنَ يَابْنَ النُّجَبَآءِ الْاَكْرَمِيْنَ</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هُدَاةِ الْمَهْدِيِّيْنَ</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يَابْنَ الْخِيَرَةِ الْمُهَذَّبِيْ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733920"/>
            <a:ext cx="883944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n they accepted the Promise and You did know their fulfillment towards it (promise). So, You accepted them and brought them near to Yourself and accorded for them the exalted remembrance and a glowing praise</a:t>
            </a:r>
            <a:endParaRPr b="0" lang="en-US" sz="3200" spc="-1" strike="noStrike">
              <a:solidFill>
                <a:srgbClr val="000000"/>
              </a:solidFill>
              <a:latin typeface="Arial"/>
            </a:endParaRPr>
          </a:p>
        </p:txBody>
      </p:sp>
      <p:sp>
        <p:nvSpPr>
          <p:cNvPr id="52" name=""/>
          <p:cNvSpPr/>
          <p:nvPr/>
        </p:nvSpPr>
        <p:spPr>
          <a:xfrm>
            <a:off x="304920" y="53352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شَرَ طُوْا لَكَ ذلِكَ وَ عَلِمْتَ مِنْهُمُ الْوَفَآءَبِ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قَبِلْتَهُمْ وَ قَرَّبْتَهُمْ وَ قَدَّمْتَ لَهُمُ الذِّكْرَ الْعَلِىَّ</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لثَّنَاءَ الْجَلِ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4266720"/>
            <a:ext cx="853452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son of the Magnanimous ones of the purest descent, O son of the most righteous, O son of the benevolent selected ones </a:t>
            </a:r>
            <a:endParaRPr b="0" lang="en-US" sz="3200" spc="-1" strike="noStrike">
              <a:solidFill>
                <a:srgbClr val="000000"/>
              </a:solidFill>
              <a:latin typeface="Arial"/>
            </a:endParaRPr>
          </a:p>
        </p:txBody>
      </p:sp>
      <p:sp>
        <p:nvSpPr>
          <p:cNvPr id="160" name=""/>
          <p:cNvSpPr/>
          <p:nvPr/>
        </p:nvSpPr>
        <p:spPr>
          <a:xfrm>
            <a:off x="304920" y="63648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غَطَرِفَةِ الْاَنْجِبَ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اَطَآئِبِ الْمُطَهَّرِ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خَضَارِمَةِ الْمُنْتَجَبِيْ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4038120"/>
            <a:ext cx="899172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son of the generous honored ones, O son of the luminous moons, O son of the shining lights, O son of the piercing meteors, O son of the bright stars, O son of the clear paths</a:t>
            </a:r>
            <a:endParaRPr b="0" lang="en-US" sz="3200" spc="-1" strike="noStrike">
              <a:solidFill>
                <a:srgbClr val="000000"/>
              </a:solidFill>
              <a:latin typeface="Arial"/>
            </a:endParaRPr>
          </a:p>
        </p:txBody>
      </p:sp>
      <p:sp>
        <p:nvSpPr>
          <p:cNvPr id="162" name=""/>
          <p:cNvSpPr/>
          <p:nvPr/>
        </p:nvSpPr>
        <p:spPr>
          <a:xfrm>
            <a:off x="304920" y="546120"/>
            <a:ext cx="8458200" cy="61268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قَمَاقِمَةِ الْاَكْرَمِيْنَ</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يَابْنَ البُدُوْرِ الْمُنِيْرَةِ</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يَابْنَ السُّرُجِ الْمُضِيئَةِ</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يَابْنَ الشُّهُبِ الشَّاقِبَةِ</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نَّجْمُ الزَّاهِرَةِ</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يَابْنَ السُّبُلِ الْوَاضِحَةِ</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57240"/>
            <a:ext cx="9144000" cy="29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son of the clear signs, O son of the perfect Knowledge, O son of the well known examples of conduct, O son of the recorded knowledge’s, O son of the living miracles</a:t>
            </a:r>
            <a:endParaRPr b="0" lang="en-US" sz="3200" spc="-1" strike="noStrike">
              <a:solidFill>
                <a:srgbClr val="000000"/>
              </a:solidFill>
              <a:latin typeface="Arial"/>
            </a:endParaRPr>
          </a:p>
        </p:txBody>
      </p:sp>
      <p:sp>
        <p:nvSpPr>
          <p:cNvPr id="164" name=""/>
          <p:cNvSpPr/>
          <p:nvPr/>
        </p:nvSpPr>
        <p:spPr>
          <a:xfrm>
            <a:off x="304920" y="546120"/>
            <a:ext cx="8458200" cy="512136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اَعْلاَمِ الاَّئِحَةِ</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يَابْنَ الْعُلٌوْمِ الْكَامِلَةِ</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سُّنَنِ الْمُشُهُوْرَةِ يَابْنَ الْمَعَالِمِ الْمَاثُوْرَةِ</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مُعْجِزَاتِ الْمَوْجُوْدَةِ</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886200"/>
            <a:ext cx="91440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son of the obvious proofs, O son of the straight path, O son of the mighty tidings, O son of the one who is pronounced the most exalted, the most wise in Ummul Kitáb by Alláh</a:t>
            </a:r>
            <a:endParaRPr b="0" lang="en-US" sz="3200" spc="-1" strike="noStrike">
              <a:solidFill>
                <a:srgbClr val="000000"/>
              </a:solidFill>
              <a:latin typeface="Arial"/>
            </a:endParaRPr>
          </a:p>
        </p:txBody>
      </p:sp>
      <p:sp>
        <p:nvSpPr>
          <p:cNvPr id="166" name=""/>
          <p:cNvSpPr/>
          <p:nvPr/>
        </p:nvSpPr>
        <p:spPr>
          <a:xfrm>
            <a:off x="152280" y="698400"/>
            <a:ext cx="883944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دَّلآئِلِ الْمَشْهُوْدَةِ يَابْنَ الصِّرَاطِ الْمُسْتَقِيْمِ</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نَّبَاِ الْعَظِيْمِ يَابْنَ مَنْ هُوَ فِيْ اُمِّ الْكِتَابِ</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لَدَىَ اللَّهِ عَلِىٌّ حَكِيْ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266720"/>
            <a:ext cx="91440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son of the signs and the clear proofs, O son of apparent proofs, O son of brilliant and clear proofs, O son of the conclusive evidences, O son of abundant bounties</a:t>
            </a:r>
            <a:endParaRPr b="0" lang="en-US" sz="3200" spc="-1" strike="noStrike">
              <a:solidFill>
                <a:srgbClr val="000000"/>
              </a:solidFill>
              <a:latin typeface="Arial"/>
            </a:endParaRPr>
          </a:p>
        </p:txBody>
      </p:sp>
      <p:sp>
        <p:nvSpPr>
          <p:cNvPr id="168" name=""/>
          <p:cNvSpPr/>
          <p:nvPr/>
        </p:nvSpPr>
        <p:spPr>
          <a:xfrm>
            <a:off x="228600" y="698400"/>
            <a:ext cx="883908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آيَاتِ وَ الْبَيِّنَاتِ يَابْنَ الدَّلآئِلِ الظَّاهِرَاتِ</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بَرَاهِيْنَ الْوَاضِحَاتِ الْبَاهِرَاتِ</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الْحُجَجِ الْبَالِغَاتِ يَابْنَ النِّعَمِ السَّابِغَاتِ</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886200"/>
            <a:ext cx="914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son of Ta-Ha and the clear verses, O son of Ya-Sin (Holy Prophet and his infallible progeny) and Dháriyat (the Scatters), O son of the Túr (mount) and 'Ádiyat (the charger)</a:t>
            </a:r>
            <a:endParaRPr b="0" lang="en-US" sz="3200" spc="-1" strike="noStrike">
              <a:solidFill>
                <a:srgbClr val="000000"/>
              </a:solidFill>
              <a:latin typeface="Arial"/>
            </a:endParaRPr>
          </a:p>
        </p:txBody>
      </p:sp>
      <p:sp>
        <p:nvSpPr>
          <p:cNvPr id="170" name=""/>
          <p:cNvSpPr/>
          <p:nvPr/>
        </p:nvSpPr>
        <p:spPr>
          <a:xfrm>
            <a:off x="304920" y="1079640"/>
            <a:ext cx="8458200" cy="311040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طهَ وَ الْمُحْكَمَاتِ</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يَابْنَ يس وَ الذَّارِيَاتِ</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طُّوْرِ وَ الْعَادِيَاتِ</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320" y="3657240"/>
            <a:ext cx="906768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son of the one who drew near, then he suspended, so he was the measure of two bows or closer still. This is the most nearest position to the All-Highest. Would I know where your state of being far is settled</a:t>
            </a:r>
            <a:endParaRPr b="0" lang="en-US" sz="3200" spc="-1" strike="noStrike">
              <a:solidFill>
                <a:srgbClr val="000000"/>
              </a:solidFill>
              <a:latin typeface="Arial"/>
            </a:endParaRPr>
          </a:p>
        </p:txBody>
      </p:sp>
      <p:sp>
        <p:nvSpPr>
          <p:cNvPr id="172" name=""/>
          <p:cNvSpPr/>
          <p:nvPr/>
        </p:nvSpPr>
        <p:spPr>
          <a:xfrm>
            <a:off x="304920" y="62244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بْنَ مَنْ دَنَى فَتَدَلَّى فَكَانَ قَابَ قَوْسَيْنِ اَوْ اَدْنَى دُنُوًّا وَقْتِرَابًا مِنَ الْعَلِيِّ الْاَعْلَ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لَيْتَ شِعْرِيْ اَيْنَ اسْتَقَرَّتْ بِكَ النَّوَ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962160"/>
            <a:ext cx="9144000" cy="23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r which, earth of soil has embraced you; is it in the mountain of Ra_wa or the other (mountain) or in Dhí-Too? It is intolerable for me that I see the people but do not see you</a:t>
            </a:r>
            <a:endParaRPr b="0" lang="en-US" sz="3200" spc="-1" strike="noStrike">
              <a:solidFill>
                <a:srgbClr val="000000"/>
              </a:solidFill>
              <a:latin typeface="Arial"/>
            </a:endParaRPr>
          </a:p>
        </p:txBody>
      </p:sp>
      <p:sp>
        <p:nvSpPr>
          <p:cNvPr id="174" name=""/>
          <p:cNvSpPr/>
          <p:nvPr/>
        </p:nvSpPr>
        <p:spPr>
          <a:xfrm>
            <a:off x="304920" y="69840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لْ اَىُّ اَرْضٍ تُقِلَّكَ اَوْ ثَرَى اَبِرَضْوَي اَوْ غَرِهَا اَمْذِيْ طُوَ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عَزِيْزٌ عَلَيَّ اَنْ اَرَي الْخَلْقَ وَ لاَ تُرَ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657600"/>
            <a:ext cx="82296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neither do I hear a sign of breath nor (any) whispering from you. It is intolerable for me that you are surrounded by calamities and that, neither my plaintive cry nor my complaint reaches you</a:t>
            </a:r>
            <a:endParaRPr b="0" lang="en-US" sz="3200" spc="-1" strike="noStrike">
              <a:solidFill>
                <a:srgbClr val="000000"/>
              </a:solidFill>
              <a:latin typeface="Arial"/>
            </a:endParaRPr>
          </a:p>
        </p:txBody>
      </p:sp>
      <p:sp>
        <p:nvSpPr>
          <p:cNvPr id="176" name=""/>
          <p:cNvSpPr/>
          <p:nvPr/>
        </p:nvSpPr>
        <p:spPr>
          <a:xfrm>
            <a:off x="304920" y="46980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لاَ اَسْمَعُ لَكَ حَسِيْسً وَ لاَ نَجْوَ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عَزِيْزً عَلَيَّ اَنْ تُحِيْطَ بِكَ دُوْنِيَ الْبَلُوَي وَ لاَ يَنَالُكَ مِنِّي ضَجِيْجٌ وَ لاَ شَكْوَ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504960"/>
            <a:ext cx="82296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May (I) myself be sacrificed for you who seems to be concealed (physically), but not away from us. May (I) myself be sacrificed for you who seems to be emigrant (but) not far from us</a:t>
            </a:r>
            <a:endParaRPr b="0" lang="en-US" sz="3200" spc="-1" strike="noStrike">
              <a:solidFill>
                <a:srgbClr val="000000"/>
              </a:solidFill>
              <a:latin typeface="Arial"/>
            </a:endParaRPr>
          </a:p>
        </p:txBody>
      </p:sp>
      <p:sp>
        <p:nvSpPr>
          <p:cNvPr id="178" name=""/>
          <p:cNvSpPr/>
          <p:nvPr/>
        </p:nvSpPr>
        <p:spPr>
          <a:xfrm>
            <a:off x="304920" y="86688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نَفْسِي اَنْتَ مِنْ مُغَيِّبٍ لَمْ يَخْلُ مِنَّ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نَفْسِيْ اَنْتَ مِنْ نَازِحٍ مَانَزَحَ عَنَّ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733560"/>
            <a:ext cx="91440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You send down Your angels on them: and honor them by Your inspirations and help them with Your knowledge and appointed them as the means of approach to You, and the means towards Your satisfaction</a:t>
            </a:r>
            <a:endParaRPr b="0" lang="en-US" sz="3200" spc="-1" strike="noStrike">
              <a:solidFill>
                <a:srgbClr val="000000"/>
              </a:solidFill>
              <a:latin typeface="Arial"/>
            </a:endParaRPr>
          </a:p>
        </p:txBody>
      </p:sp>
      <p:sp>
        <p:nvSpPr>
          <p:cNvPr id="54" name=""/>
          <p:cNvSpPr/>
          <p:nvPr/>
        </p:nvSpPr>
        <p:spPr>
          <a:xfrm>
            <a:off x="152280" y="365040"/>
            <a:ext cx="883944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هْبَطْتَ عَلَيْهِمْ مَلآئِكَتَكَ وَ كَرَّمْتَهُمْ بِوَحْيِ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رَفَدْتَهُمْ بِعِلْمِكَ وَ جَعَلْتَهُمُ الذَّرِيْعَةَ اِلَيْكَ وَ الْوَسِيْلَتَ اِلى رِضْوَانِ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034800"/>
            <a:ext cx="914400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May (I) myself be sacrificed for you who is the goal and aspirations of every faithful man and woman who desires you, remembers you and mourns for you. May (I) myself be sacrificed for you who is bound to lofty honor which can never be reached (by anyone)</a:t>
            </a:r>
            <a:endParaRPr b="0" lang="en-US" sz="3200" spc="-1" strike="noStrike">
              <a:solidFill>
                <a:srgbClr val="000000"/>
              </a:solidFill>
              <a:latin typeface="Arial"/>
            </a:endParaRPr>
          </a:p>
        </p:txBody>
      </p:sp>
      <p:sp>
        <p:nvSpPr>
          <p:cNvPr id="180" name=""/>
          <p:cNvSpPr/>
          <p:nvPr/>
        </p:nvSpPr>
        <p:spPr>
          <a:xfrm>
            <a:off x="0" y="79056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نَفْسِيْ اَنْتَ اُمْنِيَّةُ شَائِقٍ يَتَمَنَّى مِنْ مُؤْمِنٍ وَ مُؤْمِنَةٍ ذِكَرَا فَحَنَّا بِنَفْسِيْ اَنْتَ مِنْ عَقِيْدِ عِزٍّ لاَ يُسَامِ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200040"/>
            <a:ext cx="9144000" cy="350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May (I) myself be sacrificed for you whose original eminence cannot be equaled. May (I) myself be sacrificed for you who is the ancestral bounty which cannot be resembled. May (I) myself be sacrificed for you, the partaker of nobility, the like of which is not possible.</a:t>
            </a:r>
            <a:endParaRPr b="0" lang="en-US" sz="3200" spc="-1" strike="noStrike">
              <a:solidFill>
                <a:srgbClr val="000000"/>
              </a:solidFill>
              <a:latin typeface="Arial"/>
            </a:endParaRPr>
          </a:p>
        </p:txBody>
      </p:sp>
      <p:sp>
        <p:nvSpPr>
          <p:cNvPr id="182" name=""/>
          <p:cNvSpPr/>
          <p:nvPr/>
        </p:nvSpPr>
        <p:spPr>
          <a:xfrm>
            <a:off x="304920" y="46980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نَفْسِيْ اَنْتَ مِنْ اَثِيْلِ مَجْدٍ لاَ يُجَارَ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نَفْسِيْ اَنْتَ مِنْ تِلاَدِنِعَمٍ لاَتُضَاهَ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نَفْسِيْ اَنْتَ مِنْ نَصِيْفِ شَرَفٍ لاَ يُسَاوَ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57240"/>
            <a:ext cx="9144000" cy="29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How long am I to bewail for you, O my master! And how long and with which word should I praise you, and what secret talk (should I adopt with you). It is intolerable for me to talk and receive a reply from persons than you</a:t>
            </a:r>
            <a:endParaRPr b="0" lang="en-US" sz="3200" spc="-1" strike="noStrike">
              <a:solidFill>
                <a:srgbClr val="000000"/>
              </a:solidFill>
              <a:latin typeface="Arial"/>
            </a:endParaRPr>
          </a:p>
        </p:txBody>
      </p:sp>
      <p:sp>
        <p:nvSpPr>
          <p:cNvPr id="184" name=""/>
          <p:cNvSpPr/>
          <p:nvPr/>
        </p:nvSpPr>
        <p:spPr>
          <a:xfrm>
            <a:off x="304920" y="54612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ى مَتَي اَحَارُ فِيْكَ يَامَوْلاَيَ وَالِي مَتَي وَ اَيَّ خِطَابٍ اَصِفُ فِيْكَ وَ اَيَّ نَجْوَ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عَزِيْزٌ عَلَيَّ اَنْ اُجَابَ دُوْنَكَ وَ اُنَاغَ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733920"/>
            <a:ext cx="91440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It is intolerable for me to that I cry for you while others forsake you. It is intolerable for me that this (isolation) befalls you instead of befalling others. Is there any helper with whom I may prolong my lamentation and weeping.</a:t>
            </a:r>
            <a:endParaRPr b="0" lang="en-US" sz="3200" spc="-1" strike="noStrike">
              <a:solidFill>
                <a:srgbClr val="000000"/>
              </a:solidFill>
              <a:latin typeface="Arial"/>
            </a:endParaRPr>
          </a:p>
        </p:txBody>
      </p:sp>
      <p:sp>
        <p:nvSpPr>
          <p:cNvPr id="186" name=""/>
          <p:cNvSpPr/>
          <p:nvPr/>
        </p:nvSpPr>
        <p:spPr>
          <a:xfrm>
            <a:off x="304920" y="62244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عَزِيْزٌ عَلَيَّ اَنْ اَبْكِيْكَ وَ يَخْذُلَكَ الْوَرَ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عَزِيْزٌ عَلَيَّ اَنْ يَحْبِرَى عَلَيْكَ دُوْنَهُمْ مَاجَرَ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هَلْ مِنْ مُعِيْنٍ فَاطِيْلَ مَعَهُ الْعَوِيْلَ وَ الْبُكَآءَ</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429000"/>
            <a:ext cx="914400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Is there any mourner with whom I may join when he mourns alone. Is there any eye weeping of a thorn, that my eye may sympathise with it. O the son of Ahmad! is there a way through which you may be met</a:t>
            </a:r>
            <a:endParaRPr b="0" lang="en-US" sz="3200" spc="-1" strike="noStrike">
              <a:solidFill>
                <a:srgbClr val="000000"/>
              </a:solidFill>
              <a:latin typeface="Arial"/>
            </a:endParaRPr>
          </a:p>
        </p:txBody>
      </p:sp>
      <p:sp>
        <p:nvSpPr>
          <p:cNvPr id="188" name=""/>
          <p:cNvSpPr/>
          <p:nvPr/>
        </p:nvSpPr>
        <p:spPr>
          <a:xfrm>
            <a:off x="304920" y="546120"/>
            <a:ext cx="84582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هَلْ مِنْ جَزُوعٍ فَاُسَآعِدَ جَزَعَهُ اِذَا خَل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هَلْ قُذِيَتْ عَيْنُ فَسَاعَدَتَهَا عَيْنى عَلَى الْقَذَ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هَلْ اِلَيْكَ يَابْنَ اَحْمَدَ سَبِيْلُ فَتُلْقَ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31452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May our day (of separation) joins the day of reappearance by which we enjoy? When shall we arrive at your streams for drink, with which to quench our thirst for you? When shall we get benefit of your sweet water, for already the thirst has lasted too long?</a:t>
            </a:r>
            <a:endParaRPr b="0" lang="en-US" sz="3200" spc="-1" strike="noStrike">
              <a:solidFill>
                <a:srgbClr val="000000"/>
              </a:solidFill>
              <a:latin typeface="Arial"/>
            </a:endParaRPr>
          </a:p>
        </p:txBody>
      </p:sp>
      <p:sp>
        <p:nvSpPr>
          <p:cNvPr id="190" name=""/>
          <p:cNvSpPr/>
          <p:nvPr/>
        </p:nvSpPr>
        <p:spPr>
          <a:xfrm>
            <a:off x="304920" y="46980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هَلْ يَتَّصِلُ يَوْمُنَا مِنْكَ بِغَده فَنَحْظَ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تَى نَرِدُ مَنَاهِلَكَ الرَّوِيَّةَ فَنَرْوَ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تَى نَنْتَقِعُ مِنْ عَذْبِ مَآئِكَ فَقَدْ طَالَ الصَّد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352680"/>
            <a:ext cx="914400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n shall we spend morning and evening with you to delight our eyes with a glance (at you)? When shall you see us and we shall see you; then you shall be seen unfurling the flag of victory. Will you see us gathered around you and you are leading all the people?</a:t>
            </a:r>
            <a:endParaRPr b="0" lang="en-US" sz="3200" spc="-1" strike="noStrike">
              <a:solidFill>
                <a:srgbClr val="000000"/>
              </a:solidFill>
              <a:latin typeface="Arial"/>
            </a:endParaRPr>
          </a:p>
        </p:txBody>
      </p:sp>
      <p:sp>
        <p:nvSpPr>
          <p:cNvPr id="192" name=""/>
          <p:cNvSpPr/>
          <p:nvPr/>
        </p:nvSpPr>
        <p:spPr>
          <a:xfrm>
            <a:off x="304920" y="546120"/>
            <a:ext cx="84582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تَى نُغَادِيْكَ وَ نُرَاوِحُكَ فَنُقِرُّ عَيْنًا مَتَى تَرَينَا</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نَريكَ وَ قَدْ نَشَرْتَ لِوآءَ النَّصْرِ تُر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تَرَانَا نَحُفُّ بِكَ وَ اَنْتَ تَامُّ الْمَلأ</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504960"/>
            <a:ext cx="8229600" cy="28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n already you have filled the earth with justice and have made you enemies taste the disgrace (of defeat) and retribution. And you have destroyed rebels and deniers of the truth</a:t>
            </a:r>
            <a:endParaRPr b="0" lang="en-US" sz="3200" spc="-1" strike="noStrike">
              <a:solidFill>
                <a:srgbClr val="000000"/>
              </a:solidFill>
              <a:latin typeface="Arial"/>
            </a:endParaRPr>
          </a:p>
        </p:txBody>
      </p:sp>
      <p:sp>
        <p:nvSpPr>
          <p:cNvPr id="194" name=""/>
          <p:cNvSpPr/>
          <p:nvPr/>
        </p:nvSpPr>
        <p:spPr>
          <a:xfrm>
            <a:off x="304920" y="86688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قَدْ مَلأت الْاَرْضَ عَدْلاً وَ اَذَقْتَ اَعْدَاءَكَ هَوَانًا وَ عِقَابًا وَ اَبَرْتَ الْعُتَاةَ وَ جَحَدَةَ الْحَقِّ</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73392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you have annihilated the last remains of the arrogance and uprooted the foundation of the unjust people. Then we say: Praise be to Alláh, Lord of the Worlds</a:t>
            </a:r>
            <a:endParaRPr b="0" lang="en-US" sz="3200" spc="-1" strike="noStrike">
              <a:solidFill>
                <a:srgbClr val="000000"/>
              </a:solidFill>
              <a:latin typeface="Arial"/>
            </a:endParaRPr>
          </a:p>
        </p:txBody>
      </p:sp>
      <p:sp>
        <p:nvSpPr>
          <p:cNvPr id="196" name=""/>
          <p:cNvSpPr/>
          <p:nvPr/>
        </p:nvSpPr>
        <p:spPr>
          <a:xfrm>
            <a:off x="76320" y="914400"/>
            <a:ext cx="899136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قَطَعْتَ دَابِرَ الْمُتَكَبِّرِيْنَ وَ اخْتَثَثْتَ اُصُوْلَ الظَّالِمِيْنَ وَ نَحْنُ نَقُوْلُ الْحَمْدُ لِلَّهِ رَبِّ الْعَالَمِيْ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19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Alláh You are the Remover of agonies and calamities, and You are the one from whom I seek help; then which You is the sanctuary</a:t>
            </a:r>
            <a:endParaRPr b="0" lang="en-US" sz="3200" spc="-1" strike="noStrike">
              <a:solidFill>
                <a:srgbClr val="000000"/>
              </a:solidFill>
              <a:latin typeface="Arial"/>
            </a:endParaRPr>
          </a:p>
        </p:txBody>
      </p:sp>
      <p:sp>
        <p:nvSpPr>
          <p:cNvPr id="198" name=""/>
          <p:cNvSpPr/>
          <p:nvPr/>
        </p:nvSpPr>
        <p:spPr>
          <a:xfrm>
            <a:off x="304920" y="942840"/>
            <a:ext cx="8458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نْتَ كَشَّافُ الْكَرْبِ وَ الْبَلْوى وَ اِلَيْكَ اَسْتَعْدِي فَعِنْدَكَ العدو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3580920"/>
            <a:ext cx="899136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hen You made some of them dwell in Your Garden; until You send them out there from and You carried one of them in Your Ark And rescued him and one who believed with him, by Your Mercy, from destruction</a:t>
            </a:r>
            <a:endParaRPr b="0" lang="en-US" sz="3200" spc="-1" strike="noStrike">
              <a:solidFill>
                <a:srgbClr val="000000"/>
              </a:solidFill>
              <a:latin typeface="Arial"/>
            </a:endParaRPr>
          </a:p>
        </p:txBody>
      </p:sp>
      <p:sp>
        <p:nvSpPr>
          <p:cNvPr id="56" name=""/>
          <p:cNvSpPr/>
          <p:nvPr/>
        </p:nvSpPr>
        <p:spPr>
          <a:xfrm>
            <a:off x="152280" y="609480"/>
            <a:ext cx="883944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بَعْضٌ اَسْكَنْتَهُ جَنَّتّكَالى اَنْ اَخْْرَجْتَهُ مِنْهَ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بَعْضٌ حَمَلْتَهُ فِى فُلْكِكَ وَ نَجَيَّتَهُ</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مَنْ آمَنَ مَعَهُ مِنَ الْهَلَكَةِ بِرَحْمَتِ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19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You are Lord of Hereafter and this world; so help O helper of those who seek help, You poor afflicted servant</a:t>
            </a:r>
            <a:endParaRPr b="0" lang="en-US" sz="3200" spc="-1" strike="noStrike">
              <a:solidFill>
                <a:srgbClr val="000000"/>
              </a:solidFill>
              <a:latin typeface="Arial"/>
            </a:endParaRPr>
          </a:p>
        </p:txBody>
      </p:sp>
      <p:sp>
        <p:nvSpPr>
          <p:cNvPr id="200" name=""/>
          <p:cNvSpPr/>
          <p:nvPr/>
        </p:nvSpPr>
        <p:spPr>
          <a:xfrm>
            <a:off x="304920" y="101916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نْتَ رَبُّ الآخِرَةِ وَ الدُّنْيَا فَاَغِثْ يَاغِيَاثَ الْمُسْتَغَيْثِيْنَ عُبَيْدَكَ الْمُبْتَلَى</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419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show him his Master; O Sever of strength And through him (Imam "A.S.") remove his (Your servant's) grief and sorrow</a:t>
            </a:r>
            <a:endParaRPr b="0" lang="en-US" sz="3200" spc="-1" strike="noStrike">
              <a:solidFill>
                <a:srgbClr val="000000"/>
              </a:solidFill>
              <a:latin typeface="Arial"/>
            </a:endParaRPr>
          </a:p>
        </p:txBody>
      </p:sp>
      <p:sp>
        <p:nvSpPr>
          <p:cNvPr id="202" name=""/>
          <p:cNvSpPr/>
          <p:nvPr/>
        </p:nvSpPr>
        <p:spPr>
          <a:xfrm>
            <a:off x="304920" y="1019160"/>
            <a:ext cx="8458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رِه سَيِّدَهُ يَاشَدِيْدَ الْقُوَي وَ اَزِلْ عَنْهُ بِهِ الُاَسَي وَ الْجَوَ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266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cool the burning of his hurt, O You who firm in the Heavenly throne of power and towards Whom is the return and the ultimate end</a:t>
            </a:r>
            <a:endParaRPr b="0" lang="en-US" sz="3200" spc="-1" strike="noStrike">
              <a:solidFill>
                <a:srgbClr val="000000"/>
              </a:solidFill>
              <a:latin typeface="Arial"/>
            </a:endParaRPr>
          </a:p>
        </p:txBody>
      </p:sp>
      <p:sp>
        <p:nvSpPr>
          <p:cNvPr id="204" name=""/>
          <p:cNvSpPr/>
          <p:nvPr/>
        </p:nvSpPr>
        <p:spPr>
          <a:xfrm>
            <a:off x="304920" y="942840"/>
            <a:ext cx="8458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بَرِّدْ غَلَيْلَهُ يَامَنْ عَلَي الْعَرْشِ اسْتَوَي وَ مَنْ اِلَيْهِ الرُّجْعَي وَ الْمُنْتَهَ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419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Alláh! We are Your enamoured servants of Your appointed regent who reminds us of You and Your prophet</a:t>
            </a:r>
            <a:endParaRPr b="0" lang="en-US" sz="3200" spc="-1" strike="noStrike">
              <a:solidFill>
                <a:srgbClr val="000000"/>
              </a:solidFill>
              <a:latin typeface="Arial"/>
            </a:endParaRPr>
          </a:p>
        </p:txBody>
      </p:sp>
      <p:sp>
        <p:nvSpPr>
          <p:cNvPr id="206" name=""/>
          <p:cNvSpPr/>
          <p:nvPr/>
        </p:nvSpPr>
        <p:spPr>
          <a:xfrm>
            <a:off x="304920" y="1019160"/>
            <a:ext cx="8458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وَ نَحْنُ عَبِيْدُكَ التَّآئِقُوْنَ اِلَي وَلِيِّكَ الْمُذَكِّرِبِكَ وَ بِنَبِيِّ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419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He whom You created for us as our saviour and defender, and sent him for us as a protector and refuge and appointed him a leader (Imam) for the true believers amongst us</a:t>
            </a:r>
            <a:endParaRPr b="0" lang="en-US" sz="3200" spc="-1" strike="noStrike">
              <a:solidFill>
                <a:srgbClr val="000000"/>
              </a:solidFill>
              <a:latin typeface="Arial"/>
            </a:endParaRPr>
          </a:p>
        </p:txBody>
      </p:sp>
      <p:sp>
        <p:nvSpPr>
          <p:cNvPr id="208" name=""/>
          <p:cNvSpPr/>
          <p:nvPr/>
        </p:nvSpPr>
        <p:spPr>
          <a:xfrm>
            <a:off x="304920" y="866880"/>
            <a:ext cx="8458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خَلَقَتَهُ لَنَا عِصْمَةً وَ مَلاَذًا وَ اَقَمْتَهُ لَنَا قِوَامًا وَ مَعَاذًا وَ جَعَلْتَهُ لِلْمُؤْمِنِيْنَ مِنَّا اِمَامً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580920"/>
            <a:ext cx="914400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Till You make us enter Your paradise; and (bestow on us) the companionship of the martyrs from amongst those of Your adorers. O Alláh! Bestow Your blessings upon Mu&lt;ammad and the progeny of Mu&lt;ammad</a:t>
            </a:r>
            <a:endParaRPr b="0" lang="en-US" sz="3200" spc="-1" strike="noStrike">
              <a:solidFill>
                <a:srgbClr val="000000"/>
              </a:solidFill>
              <a:latin typeface="Arial"/>
            </a:endParaRPr>
          </a:p>
        </p:txBody>
      </p:sp>
      <p:sp>
        <p:nvSpPr>
          <p:cNvPr id="210" name=""/>
          <p:cNvSpPr/>
          <p:nvPr/>
        </p:nvSpPr>
        <p:spPr>
          <a:xfrm>
            <a:off x="0" y="469800"/>
            <a:ext cx="9144000" cy="512136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حَتَّي تَوْرِدَنَا جِنَانَكَ وَ مُرَافَقَةَ </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شُّهَدَآءِ مِنْ خُلَصَآئِكَ</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صَلِّ عَلَي مُحَمَّدٍ وَ الِ مُحَمَّ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784680"/>
            <a:ext cx="91440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So convey to him our greetings and salutations, and increase honour because of this (greeting) O Lord. And made this abode (in paradise) also a home and halting place for us, and complete Your favours by appointing him as our guide</a:t>
            </a:r>
            <a:endParaRPr b="0" lang="en-US" sz="3200" spc="-1" strike="noStrike">
              <a:solidFill>
                <a:srgbClr val="000000"/>
              </a:solidFill>
              <a:latin typeface="Arial"/>
            </a:endParaRPr>
          </a:p>
        </p:txBody>
      </p:sp>
      <p:sp>
        <p:nvSpPr>
          <p:cNvPr id="212" name=""/>
          <p:cNvSpPr/>
          <p:nvPr/>
        </p:nvSpPr>
        <p:spPr>
          <a:xfrm>
            <a:off x="-304920" y="546120"/>
            <a:ext cx="969012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بَلِّغْهُ مِنَّا تَحِيَّةً وَ سَلاَمًا وَ زِدْنَا بِذَلِكَ</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رَبِّ اِكْرَامًا</a:t>
            </a:r>
            <a:r>
              <a:rPr b="1" lang="en-GB" sz="5500" spc="-1" strike="noStrike">
                <a:solidFill>
                  <a:srgbClr val="000000"/>
                </a:solidFill>
                <a:latin typeface="Times New Roman"/>
                <a:ea typeface="Traditional Arabic"/>
              </a:rPr>
              <a:t> </a:t>
            </a:r>
            <a:r>
              <a:rPr b="1" lang="ar-SA" sz="5500" spc="-1" strike="noStrike">
                <a:solidFill>
                  <a:srgbClr val="000000"/>
                </a:solidFill>
                <a:latin typeface="Times New Roman"/>
                <a:cs typeface="Traditional Arabic"/>
              </a:rPr>
              <a:t>وَ الجْعَلْ مُسْتَقَرَّهُ لَنَا مًُسْتَقَّرًا وَ مُقَامًا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تُهِمْ نِعْمَتَكَ بِتَقْدِيْمِكَ اِيَّاهُ اَمَامَنَ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266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bless his grandfather Mu&lt;ammad and Your Messenger the elder Master, and upon his father (Ali) the younger Master</a:t>
            </a:r>
            <a:endParaRPr b="0" lang="en-US" sz="3200" spc="-1" strike="noStrike">
              <a:solidFill>
                <a:srgbClr val="000000"/>
              </a:solidFill>
              <a:latin typeface="Arial"/>
            </a:endParaRPr>
          </a:p>
        </p:txBody>
      </p:sp>
      <p:sp>
        <p:nvSpPr>
          <p:cNvPr id="214" name=""/>
          <p:cNvSpPr/>
          <p:nvPr/>
        </p:nvSpPr>
        <p:spPr>
          <a:xfrm>
            <a:off x="304920" y="1019160"/>
            <a:ext cx="8458200" cy="311040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صَلِّ عَلَي مُحَمَّدٍ جَدِّه وَ رَسُوْلِكَ السَّيِّدِ الْاُكْبَرِ وَ عَلَي اَبِيْهِ السَّيِّدِ الُاَصْغَرِ</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419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his grandmother, the great truthful daughter of Mu&lt;ammad (S.A.W); And upon whom you have selected from among his virtuous ancestors</a:t>
            </a:r>
            <a:endParaRPr b="0" lang="en-US" sz="3200" spc="-1" strike="noStrike">
              <a:solidFill>
                <a:srgbClr val="000000"/>
              </a:solidFill>
              <a:latin typeface="Arial"/>
            </a:endParaRPr>
          </a:p>
        </p:txBody>
      </p:sp>
      <p:sp>
        <p:nvSpPr>
          <p:cNvPr id="216" name=""/>
          <p:cNvSpPr/>
          <p:nvPr/>
        </p:nvSpPr>
        <p:spPr>
          <a:xfrm>
            <a:off x="304920" y="1019160"/>
            <a:ext cx="8458200" cy="41158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جَدِّتِهِ الصِّدِّيْقَةِ الْكُبْرَي فَاطِمَةَ بِنْتِ مُحَمَّدٍ وَ عَلَي مَنِ اصْطَفَيْتَ مِنْ ابَآئِهِ الْبَرَرَةِ</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505320"/>
            <a:ext cx="9144000" cy="304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on him (Imam 'Alí A.S.) (bestow) the best, the plentiful, most the perfect, the everlasting, the most and the numerous (blessings). Whatever you bestowed on any of Your virtuous and chosen ones from among Your creature</a:t>
            </a:r>
            <a:endParaRPr b="0" lang="en-US" sz="3200" spc="-1" strike="noStrike">
              <a:solidFill>
                <a:srgbClr val="000000"/>
              </a:solidFill>
              <a:latin typeface="Arial"/>
            </a:endParaRPr>
          </a:p>
        </p:txBody>
      </p:sp>
      <p:sp>
        <p:nvSpPr>
          <p:cNvPr id="218" name=""/>
          <p:cNvSpPr/>
          <p:nvPr/>
        </p:nvSpPr>
        <p:spPr>
          <a:xfrm>
            <a:off x="0" y="546120"/>
            <a:ext cx="9144000" cy="512136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عَلَيْهِ اَفْضَلَ وَ اَكْمَلَ وَ اَتَمَّ وَ اَدْوَمَ وَ اَكْثَرَ وَ اَوْفَرَ مَاصَلَّيْتَ عَلَي اَحَدٍ مِنْ </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صْفِيَآئِكَ وَ خِيَرَتِكَ مِنْ خَلْقِ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86200"/>
            <a:ext cx="82296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You selected for Yourself one of them as Your friend and he requested You to grant him a tongue of truth in the last epoch of the time. Then You granted his wish and you appointed that elevated one </a:t>
            </a:r>
            <a:endParaRPr b="0" lang="en-US" sz="3200" spc="-1" strike="noStrike">
              <a:solidFill>
                <a:srgbClr val="000000"/>
              </a:solidFill>
              <a:latin typeface="Arial"/>
            </a:endParaRPr>
          </a:p>
        </p:txBody>
      </p:sp>
      <p:sp>
        <p:nvSpPr>
          <p:cNvPr id="58" name=""/>
          <p:cNvSpPr/>
          <p:nvPr/>
        </p:nvSpPr>
        <p:spPr>
          <a:xfrm>
            <a:off x="304920" y="685800"/>
            <a:ext cx="84582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بَعْضٌ اِتَّخَذْتَهُ لِنَفْسِكَ خَلِيْل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سَئَلَكَ لِسَانَ صِدْقٍ فِى الْآخِرِ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اَجَبْتَهُ وَ جَعَلْتَ ذلِكَ عَلِيًّ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4114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favour him with endless count of blessing which never gets end nor limitations</a:t>
            </a:r>
            <a:endParaRPr b="0" lang="en-US" sz="3200" spc="-1" strike="noStrike">
              <a:solidFill>
                <a:srgbClr val="000000"/>
              </a:solidFill>
              <a:latin typeface="Arial"/>
            </a:endParaRPr>
          </a:p>
        </p:txBody>
      </p:sp>
      <p:sp>
        <p:nvSpPr>
          <p:cNvPr id="220" name=""/>
          <p:cNvSpPr/>
          <p:nvPr/>
        </p:nvSpPr>
        <p:spPr>
          <a:xfrm>
            <a:off x="304920" y="942840"/>
            <a:ext cx="8458200" cy="311040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صَلِّ عَلَيْهِ صَلْوةً لاَغَايَةَ لِعَدَدِهَا وَ لاَنِهَايَةَ لِمَدَدِهَا وَ لاَ نَفَادَ لِأَمَدِهَ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19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Alláh! and through him set up the truth, and make the falsehood vanished through him; and prepare the victory for Your friends, and disgrace Your enemies through him</a:t>
            </a:r>
            <a:endParaRPr b="0" lang="en-US" sz="3200" spc="-1" strike="noStrike">
              <a:solidFill>
                <a:srgbClr val="000000"/>
              </a:solidFill>
              <a:latin typeface="Arial"/>
            </a:endParaRPr>
          </a:p>
        </p:txBody>
      </p:sp>
      <p:sp>
        <p:nvSpPr>
          <p:cNvPr id="222" name=""/>
          <p:cNvSpPr/>
          <p:nvPr/>
        </p:nvSpPr>
        <p:spPr>
          <a:xfrm>
            <a:off x="304920" y="866880"/>
            <a:ext cx="8458200" cy="41158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وَ اَقِمْ بِهِ الْحَقَّ وَ اَدْحِضْ بِهِ الْبَاطِلَ وَ اَدِلْ بِهِ اَوْلِيَآءِكَ وِاَذْلِلْ بِهِ اَعْدَآئَ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4419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O Alláh, set a relationship between us and him that grants us the honour of the company of his ancestors</a:t>
            </a:r>
            <a:endParaRPr b="0" lang="en-US" sz="3200" spc="-1" strike="noStrike">
              <a:solidFill>
                <a:srgbClr val="000000"/>
              </a:solidFill>
              <a:latin typeface="Arial"/>
            </a:endParaRPr>
          </a:p>
        </p:txBody>
      </p:sp>
      <p:sp>
        <p:nvSpPr>
          <p:cNvPr id="224" name=""/>
          <p:cNvSpPr/>
          <p:nvPr/>
        </p:nvSpPr>
        <p:spPr>
          <a:xfrm>
            <a:off x="304920" y="942840"/>
            <a:ext cx="8458200" cy="311040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صَلِّ اَللَّهُمَّ بَيْنَنَا وَ بَيْنَهُ وَ صْلَةً تُؤَدِّيْ اِلَي مُرَافَقَةِ سَلَفِ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let us be of those seek their company and recite in their shelter</a:t>
            </a:r>
            <a:endParaRPr b="0" lang="en-US" sz="3200" spc="-1" strike="noStrike">
              <a:solidFill>
                <a:srgbClr val="000000"/>
              </a:solidFill>
              <a:latin typeface="Arial"/>
            </a:endParaRPr>
          </a:p>
        </p:txBody>
      </p:sp>
      <p:sp>
        <p:nvSpPr>
          <p:cNvPr id="226" name=""/>
          <p:cNvSpPr/>
          <p:nvPr/>
        </p:nvSpPr>
        <p:spPr>
          <a:xfrm>
            <a:off x="304920" y="942840"/>
            <a:ext cx="8458200" cy="311040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جْعَلْنَا مِمَّنْ يَاخًذَ بِحُجْزَتِهِمْ وَ يَمْكُثُ فِي ظِلِّهِ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4343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help us in fulfilling our dues to him and in striving hard to his obedience and to avoid disobeying him</a:t>
            </a:r>
            <a:endParaRPr b="0" lang="en-US" sz="3200" spc="-1" strike="noStrike">
              <a:solidFill>
                <a:srgbClr val="000000"/>
              </a:solidFill>
              <a:latin typeface="Arial"/>
            </a:endParaRPr>
          </a:p>
        </p:txBody>
      </p:sp>
      <p:sp>
        <p:nvSpPr>
          <p:cNvPr id="228" name=""/>
          <p:cNvSpPr/>
          <p:nvPr/>
        </p:nvSpPr>
        <p:spPr>
          <a:xfrm>
            <a:off x="304920" y="1019160"/>
            <a:ext cx="8458200" cy="311040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عِنَّا عَلَي تَادِيَةِ حُقُوْقِهِ اِلَيْهِ وَ الْاِجْتِهَادِ فِي طَاعَتِهِ وَ اِجْتِنَابِ مَعْصِيَتِ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266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grant us his pleasure and bestow on us his affection and his compassion and his supplication and his goodness</a:t>
            </a:r>
            <a:endParaRPr b="0" lang="en-US" sz="3200" spc="-1" strike="noStrike">
              <a:solidFill>
                <a:srgbClr val="000000"/>
              </a:solidFill>
              <a:latin typeface="Arial"/>
            </a:endParaRPr>
          </a:p>
        </p:txBody>
      </p:sp>
      <p:sp>
        <p:nvSpPr>
          <p:cNvPr id="230" name=""/>
          <p:cNvSpPr/>
          <p:nvPr/>
        </p:nvSpPr>
        <p:spPr>
          <a:xfrm>
            <a:off x="304920" y="866880"/>
            <a:ext cx="8458200" cy="311040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مْنُنْ عَلَيْنَا بِرِضَاهُ وَ هَبْ لَنَه رَاَفْتَهُ وَ رَحْمَتَهُ وَ دُعَآءِهُ وَ خَيْرِ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504960"/>
            <a:ext cx="9144000" cy="28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Whereby through him we may receive the vastness of Your Mercy and success with You. And for his sake let our prayer be accepted, and for his sake let our sins be forgiven and for his sake let our requests be granted.</a:t>
            </a:r>
            <a:endParaRPr b="0" lang="en-US" sz="3200" spc="-1" strike="noStrike">
              <a:solidFill>
                <a:srgbClr val="000000"/>
              </a:solidFill>
              <a:latin typeface="Arial"/>
            </a:endParaRPr>
          </a:p>
        </p:txBody>
      </p:sp>
      <p:sp>
        <p:nvSpPr>
          <p:cNvPr id="232" name=""/>
          <p:cNvSpPr/>
          <p:nvPr/>
        </p:nvSpPr>
        <p:spPr>
          <a:xfrm>
            <a:off x="304920" y="533520"/>
            <a:ext cx="8458200" cy="61268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انَنَالُ بِهِ سَعَةً مِنْ رَحْمَتِكَ وَ فَوْزًا عِنْدَكَ</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جْعَلْ صَلْوتَنَا بِهِ مَقْبُوْلَةً وَ ذُنُوْبِنَا بِهِ مَغْفُوْرَةً وَ دُعَآعِنَا بِهِ مُسْتَجَابًا</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504960"/>
            <a:ext cx="91440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for his sake let our sustenance be abundant and for his sake let our sadness be relieved and for his sake let our wants be granted. And You turn to us through Your Honoured face And accept our proximity with you</a:t>
            </a:r>
            <a:endParaRPr b="0" lang="en-US" sz="3200" spc="-1" strike="noStrike">
              <a:solidFill>
                <a:srgbClr val="000000"/>
              </a:solidFill>
              <a:latin typeface="Arial"/>
            </a:endParaRPr>
          </a:p>
        </p:txBody>
      </p:sp>
      <p:sp>
        <p:nvSpPr>
          <p:cNvPr id="234" name=""/>
          <p:cNvSpPr/>
          <p:nvPr/>
        </p:nvSpPr>
        <p:spPr>
          <a:xfrm>
            <a:off x="0" y="533520"/>
            <a:ext cx="9144000" cy="512136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جْعَلْ اَرْزَاقَنَا بِهِ مَبْسُوْطَةً وَ هُمُوْمَنَا بِهِ مَكْفِيَّةً وَ حَوَآئِجِنَا بِهِ مَقْضِيَّةً</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قْبِلْ اِلَيْنَا بِوَجْهِكَ الكَرِيْمِ وَ اقْبَلْ تَقَرُّبَنَا اِلَيْ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4343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cast upon us Your merciful look, through which our achievement of honour from you may be perfected; then never deprive us of it by your generosity</a:t>
            </a:r>
            <a:endParaRPr b="0" lang="en-US" sz="3200" spc="-1" strike="noStrike">
              <a:solidFill>
                <a:srgbClr val="000000"/>
              </a:solidFill>
              <a:latin typeface="Arial"/>
            </a:endParaRPr>
          </a:p>
        </p:txBody>
      </p:sp>
      <p:sp>
        <p:nvSpPr>
          <p:cNvPr id="236" name=""/>
          <p:cNvSpPr/>
          <p:nvPr/>
        </p:nvSpPr>
        <p:spPr>
          <a:xfrm>
            <a:off x="304920" y="1003320"/>
            <a:ext cx="8458200" cy="41158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نْظُرْ اِلَيْنَا نَظْرَةً رَحِيْمَةً نَسْنَكْمِلُ بِهَا الكَرَامَةَ عِنْدَكَ ثُمَّ لاَ تَصْرِفْهَا عَنَّا بِجُوْدِ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343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And quench our thirst from the cistern of his (Imam A.S.) grandfather, may Alláh bless him and his progeny, in his own cup and from his own hand</a:t>
            </a:r>
            <a:endParaRPr b="0" lang="en-US" sz="3200" spc="-1" strike="noStrike">
              <a:solidFill>
                <a:srgbClr val="000000"/>
              </a:solidFill>
              <a:latin typeface="Arial"/>
            </a:endParaRPr>
          </a:p>
        </p:txBody>
      </p:sp>
      <p:sp>
        <p:nvSpPr>
          <p:cNvPr id="238" name=""/>
          <p:cNvSpPr/>
          <p:nvPr/>
        </p:nvSpPr>
        <p:spPr>
          <a:xfrm>
            <a:off x="304920" y="927000"/>
            <a:ext cx="8458200" cy="311040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 اسْقِنَا مِنْ حَوضِ جَدِّهِ صَلَّي اللَّهُ عَلَيْهِ وَ الِهِ بِكَاسِهِ وَ بِيَدِ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12:35:22Z</dcterms:created>
  <dc:creator>Shia Ithna’sheri Community of Middlesex (Mahfil Ali)</dc:creator>
  <dc:description/>
  <dc:language>en-US</dc:language>
  <cp:lastModifiedBy>Kumail Versi</cp:lastModifiedBy>
  <dcterms:modified xsi:type="dcterms:W3CDTF">2007-10-12T08:15:46Z</dcterms:modified>
  <cp:revision>311</cp:revision>
  <dc:subject/>
  <dc:title>Dua Nudba</dc:title>
</cp:coreProperties>
</file>