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262D8-4A66-4A5E-979C-787EA12E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9DC2C-4280-4328-B645-98F8AB41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0C854-7005-4112-B95C-260D20C8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17180-26F9-4D60-B44B-67988D2A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B42C7-16E3-4E6A-9CDB-CAEF0E05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B0B1C-5B76-4D2B-9E2C-50CB4BB3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5D2F-01F1-4AC5-98EB-254DE271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6F06-C8E8-4120-8F67-D1DA79AE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CB150-D07A-409B-9DCC-E65AB286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A9365-122A-4805-8950-BC403943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D101-1BE3-4B6E-9D3B-F534B137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790C-2E02-42B6-8EC9-C71CFBB6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1F54-79AF-4C22-9205-057150465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0" y="6553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99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144960"/>
            <a:ext cx="914400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Times New Roman"/>
              </a:rPr>
              <a:t>Alláh is Great. Alláh is Great. There is no God save Alláh. And Alláh is Great. Alláh is Great. (All) praise be to Alláh</a:t>
            </a:r>
            <a:r>
              <a:rPr b="1" lang="ar-SA" sz="3200" spc="-1" strike="noStrike">
                <a:solidFill>
                  <a:srgbClr val="000000"/>
                </a:solidFill>
                <a:latin typeface="Al-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Times New Roman"/>
              </a:rPr>
              <a:t>(We) sing the praises of Alláh because He has shown us the Right Path. (We) gratefully thank Him because He takes care of us and looks after our inter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415800"/>
            <a:ext cx="8964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55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َللهُ</a:t>
            </a:r>
            <a:r>
              <a:rPr b="1" lang="en-GB" sz="55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5500" spc="-1" strike="noStrike">
                <a:solidFill>
                  <a:srgbClr val="000000"/>
                </a:solidFill>
                <a:latin typeface="Arial"/>
                <a:cs typeface="Traditional Arabic"/>
              </a:rPr>
              <a:t>أَكْبَرُ</a:t>
            </a:r>
            <a:r>
              <a:rPr b="1" lang="en-GB" sz="55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55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َللهُ</a:t>
            </a:r>
            <a:r>
              <a:rPr b="1" lang="en-GB" sz="55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5500" spc="-1" strike="noStrike">
                <a:solidFill>
                  <a:srgbClr val="000000"/>
                </a:solidFill>
                <a:latin typeface="Arial"/>
                <a:cs typeface="Traditional Arabic"/>
              </a:rPr>
              <a:t>أَكْبَرُ لاَّ إِلهَ إِلاَّ اللهُ</a:t>
            </a:r>
            <a:r>
              <a:rPr b="1" lang="en-GB" sz="5500" spc="-1" strike="noStrike">
                <a:solidFill>
                  <a:srgbClr val="000000"/>
                </a:solidFill>
                <a:latin typeface="Arial"/>
                <a:ea typeface="Traditional Arabic"/>
              </a:rPr>
              <a:t>  </a:t>
            </a:r>
            <a:r>
              <a:rPr b="1" lang="ar-SA" sz="5500" spc="-1" strike="noStrike">
                <a:solidFill>
                  <a:srgbClr val="000000"/>
                </a:solidFill>
                <a:latin typeface="Arial"/>
                <a:cs typeface="Traditional Arabic"/>
              </a:rPr>
              <a:t>وَ</a:t>
            </a:r>
            <a:r>
              <a:rPr b="1" lang="en-GB" sz="55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55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َللهُ</a:t>
            </a:r>
            <a:r>
              <a:rPr b="1" lang="en-GB" sz="55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5500" spc="-1" strike="noStrike">
                <a:solidFill>
                  <a:srgbClr val="000000"/>
                </a:solidFill>
                <a:latin typeface="Arial"/>
                <a:cs typeface="Traditional Arabic"/>
              </a:rPr>
              <a:t>أَكْبَرُ</a:t>
            </a:r>
            <a:r>
              <a:rPr b="1" lang="en-GB" sz="55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55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َللهُ</a:t>
            </a:r>
            <a:r>
              <a:rPr b="1" lang="en-GB" sz="55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5500" spc="-1" strike="noStrike">
                <a:solidFill>
                  <a:srgbClr val="000000"/>
                </a:solidFill>
                <a:latin typeface="Arial"/>
                <a:cs typeface="Traditional Arabic"/>
              </a:rPr>
              <a:t>أَكْبَرُ</a:t>
            </a:r>
            <a:r>
              <a:rPr b="1" lang="en-GB" sz="55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5500" spc="-1" strike="noStrike">
                <a:solidFill>
                  <a:srgbClr val="000000"/>
                </a:solidFill>
                <a:latin typeface="Arial"/>
                <a:cs typeface="Traditional Arabic"/>
              </a:rPr>
              <a:t>وَ</a:t>
            </a:r>
            <a:r>
              <a:rPr b="1" lang="en-GB" sz="55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5500" spc="-1" strike="noStrike">
                <a:solidFill>
                  <a:srgbClr val="000000"/>
                </a:solidFill>
                <a:latin typeface="Arial"/>
                <a:cs typeface="Traditional Arabic"/>
              </a:rPr>
              <a:t>للهِ</a:t>
            </a:r>
            <a:r>
              <a:rPr b="1" lang="en-GB" sz="55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55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ْحَمْدُ</a:t>
            </a:r>
            <a:r>
              <a:rPr b="1" lang="en-GB" sz="55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55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َلْحَمْدُ</a:t>
            </a:r>
            <a:r>
              <a:rPr b="1" lang="en-GB" sz="55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5500" spc="-1" strike="noStrike">
                <a:solidFill>
                  <a:srgbClr val="000000"/>
                </a:solidFill>
                <a:latin typeface="Arial"/>
                <a:cs typeface="Traditional Arabic"/>
              </a:rPr>
              <a:t>للهِ عَلى</a:t>
            </a:r>
            <a:r>
              <a:rPr b="1" lang="en-GB" sz="55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55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َا حَدانَا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Arial"/>
                <a:cs typeface="Traditional Arabic"/>
              </a:rPr>
              <a:t>وَ لَهُ الشُّكْرُ عَلى مَا اَوْلانَا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99"/>
                </a:solidFill>
                <a:uFillTx/>
                <a:latin typeface="Arial"/>
              </a:rPr>
              <a:t>Takb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55:05Z</dcterms:created>
  <dc:creator>Shia Ithna’sheri Community of Middlesex (Mahfil Ali)</dc:creator>
  <dc:description/>
  <dc:language>en-US</dc:language>
  <cp:lastModifiedBy>Kumail Versi</cp:lastModifiedBy>
  <dcterms:modified xsi:type="dcterms:W3CDTF">2007-10-05T23:16:04Z</dcterms:modified>
  <cp:revision>11</cp:revision>
  <dc:subject/>
  <dc:title>Slide 1</dc:title>
</cp:coreProperties>
</file>