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6D030-76BA-47E6-AE37-3048AA77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4A675-9840-4338-93EC-3CF23868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7F8E-D2B8-4EA3-B597-28A86E98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6D50-8B7D-4396-B06C-062A313F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B1B1C-F73D-4D94-8E6C-FBE33CDC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A2C6-2AF6-4F41-AAF3-4207D3D2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A321-5008-47CB-8C0A-EF0A9192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25D9-0347-4A4E-8473-FB4D21BF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B65FD-5D4A-434A-8544-0C6D424F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46BA-4C7E-4CAC-8FCC-2788ADCC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F046-C1F9-4C3F-924B-19E02F22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1C36-1B5A-46ED-AE46-3DB1B5DF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8994-0DDB-4C2D-B133-F90800F8D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0" y="6553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99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Du’a after Maghrib prayers on Eid nigh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101520" y="698400"/>
            <a:ext cx="93726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َا ذَا الْمَنِّ وَالطَّوْلِ يَا ذَا الْجُوْدِ يَا مُصْطَفِيَ مُحَمَّدٍ وَّنَاَصِرَهُ صَلِّ عَلى مُحَمَّدٍ وَّالِ مُحَمَّدٍ وَّاغْفِرْلِىْ كُلَّ ذَنْبٍ اَحْصَيْتَهُ وَهُوَ عِنْدَكَ فِيْ كْتَابٍ مُّبِِيْنٍ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O the Possessor of Grace and Might, O the Possessor of Generosity, O One who chose Mu&lt;ammad, and helped him, Bless Mu&lt;ammad and his family, and forgive me every sin that You have counted, which is [recorded] with You in a clear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17144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صَلِّ عَلَى مُحَمَّدٍٍ وَّالِهِ خَيْرِ الْوَرى سَجِيَّةً وَّاغْفِرْلَنَا يَا ذَا الْعُلَى فِيْ هَذِهِ الْعَش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7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Bless Mu&lt;ammad and his family, the best of creation in characteristics, and forgive us this evening, O the Possessor of Sublim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09512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َا دَائِمَ الْفَضْلِ عَلَى الْبَرِيَّةِ يَا بَاسِطَ الْيَدَيْنِ بِالْعَطِيَّةِ يَاصَاحِبَ الْمَوَاهِبِ السَّن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6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673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</a:rPr>
              <a:t>O [He] who is continuously gracious over the creatures, O [He] whose hands (generosity) are ever expanded in giving, O the Master of granting majestical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17144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صَلِّ عَلَى مُحَمَّدٍٍ وَّالِهِ خَيْرِ الْوَرى سَجِيَّةً وَّاغْفِرْلَنَا يَا ذَا الْعُلَى فِيْ هَذِهِ الْعَش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6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Bless Mu&lt;ammad and his family, the best of creation in characteristics, and forgive us this evening, O the Possessor of Sublim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09512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َا دَائِمَ الْفَضْلِ عَلَى الْبَرِيَّةِ يَا بَاسِطَ الْيَدَيْنِ بِالْعَطِيَّةِ يَاصَاحِبَ الْمَوَاهِبِ السَّن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5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673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</a:rPr>
              <a:t>O [He] who is continuously gracious over the creatures, O [He] whose hands (generosity) are ever expanded in giving, O the Master of granting majestical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17144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صَلِّ عَلَى مُحَمَّدٍٍ وَّالِهِ خَيْرِ الْوَرى سَجِيَّةً وَّاغْفِرْلَنَا يَا ذَا الْعُلَى فِيْ هَذِهِ الْعَش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5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Bless Mu&lt;ammad and his family, the best of creation in characteristics, and forgive us this evening, O the Possessor of Sublim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09512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َا دَائِمَ الْفَضْلِ عَلَى الْبَرِيَّةِ يَا بَاسِطَ الْيَدَيْنِ بِالْعَطِيَّةِ يَاصَاحِبَ الْمَوَاهِبِ السَّن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4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673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</a:rPr>
              <a:t>O [He] who is continuously gracious over the creatures, O [He] whose hands (generosity) are ever expanded in giving, O the Master of granting majestical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17144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صَلِّ عَلَى مُحَمَّدٍٍ وَّالِهِ خَيْرِ الْوَرى سَجِيَّةً وَّاغْفِرْلَنَا يَا ذَا الْعُلَى فِيْ هَذِهِ الْعَش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4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Bless Mu&lt;ammad and his family, the best of creation in characteristics, and forgive us this evening, O the Possessor of Sublim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09512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َا دَائِمَ الْفَضْلِ عَلَى الْبَرِيَّةِ يَا بَاسِطَ الْيَدَيْنِ بِالْعَطِيَّةِ يَاصَاحِبَ الْمَوَاهِبِ السَّن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3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673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</a:rPr>
              <a:t>O [He] who is continuously gracious over the creatures, O [He] whose hands (generosity) are ever expanded in giving, O the Master of granting majestical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7144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صَلِّ عَلَى مُحَمَّدٍٍ وَّالِهِ خَيْرِ الْوَرى سَجِيَّةً وَّاغْفِرْلَنَا يَا ذَا الْعُلَى فِيْ هَذِهِ الْعَش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3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Bless Mu&lt;ammad and his family, the best of creation in characteristics, and forgive us this evening, O the Possessor of Sublim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01880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َا دَائِمَ الْفَضْلِ عَلَى الْبَرِيَّةِ يَا بَاسِطَ الْيَدَيْنِ بِالْعَطِيَّةِ يَاصَاحِبَ الْمَوَاهِبِ السَّن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2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673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</a:rPr>
              <a:t>O [He] who is continuously gracious over the creatures, O [He] whose hands (generosity) are ever expanded in giving, O the Master of granting majestical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n go to sajdah (prostration) and say 100 times: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َتُوْبُ اِلى الله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91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I turn (repentant) to Allá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17144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صَلِّ عَلَى مُحَمَّدٍٍ وَّالِهِ خَيْرِ الْوَرى سَجِيَّةً وَّاغْفِرْلَنَا يَا ذَا الْعُلَى فِيْ هَذِهِ الْعَش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2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Bless Mu&lt;ammad and his family, the best of creation in characteristics, and forgive us this evening, O the Possessor of Sublim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09512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َا دَائِمَ الْفَضْلِ عَلَى الْبَرِيَّةِ يَا بَاسِطَ الْيَدَيْنِ بِالْعَطِيَّةِ يَاصَاحِبَ الْمَوَاهِبِ السَّن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1 time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673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</a:rPr>
              <a:t>O [He] who is continuously gracious over the creatures, O [He] whose hands (generosity) are ever expanded in giving, O the Master of granting majestical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09512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صَلِّ عَلَى مُحَمَّدٍٍ وَّالِهِ خَيْرِ الْوَرى سَجِيَّةً وَّاغْفِرْلَنَا يَا ذَا الْعُلَى فِيْ هَذِهِ الْعَش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1 time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Bless Mu&lt;ammad and his family, the best of creation in characteristics, and forgive us this evening, O the Possessor of Sublim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1976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Recite 2 rak’aat prayers after Maghrib prayers: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In the first rak’ah recite surah al-</a:t>
            </a: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Fatiha, recite 1000 times surah al-</a:t>
            </a: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Ikhlas (or 100 or 10 if 1000 is not </a:t>
            </a: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possible).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In the second rak’ah recite surah al-</a:t>
            </a: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Ikhlas once after surah al Fatiha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n go to sajdah (prostration) and say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َتُوْبُ اِلى الله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91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I turn (repentant) to Allá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n say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03040" y="927000"/>
            <a:ext cx="9524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َا ذَا الْمَنِّ وَالطَّوْلِ يَا ذَا الْجُوْدِ يَا مُصْطَفِيَ مُحَمَّدٍ وَّنَاَصِرَهُ صَلِّ عَلى مُحَمَّدٍ وَّالِ مُحَمَّدٍ وَ</a:t>
            </a:r>
            <a:r>
              <a:rPr b="1" lang="en-GB" sz="55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…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(حَاجَاة)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13064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O the Possessor of Grace and Might, O the Possessor of Generosity, O One who chose Mu&lt;ammad, and helped him, Bless Mu&lt;ammad and his family, and…(ask for your wish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1880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َا دَائِمَ الْفَضْلِ عَلَى الْبَرِيَّةِ يَا بَاسِطَ الْيَدَيْنِ بِالْعَطِيَّةِ يَاصَاحِبَ الْمَوَاهِبِ السَّن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10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673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</a:rPr>
              <a:t>O [He] who is continuously gracious over the creatures, O [He] whose hands (generosity) are ever expanded in giving, O the Master of granting majestical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17144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صَلِّ عَلَى مُحَمَّدٍٍ وَّالِهِ خَيْرِ الْوَرى سَجِيَّةً وَّاغْفِرْلَنَا يَا ذَا الْعُلَى فِيْ هَذِهِ الْعَش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10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Bless Mu&lt;ammad and his family, the best of creation in characteristics, and forgive us this evening, O the Possessor of Sublim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09512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َا دَائِمَ الْفَضْلِ عَلَى الْبَرِيَّةِ يَا بَاسِطَ الْيَدَيْنِ بِالْعَطِيَّةِ يَاصَاحِبَ الْمَوَاهِبِ السَّن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9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673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</a:rPr>
              <a:t>O [He] who is continuously gracious over the creatures, O [He] whose hands (generosity) are ever expanded in giving, O the Master of granting majestical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7144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صَلِّ عَلَى مُحَمَّدٍٍ وَّالِهِ خَيْرِ الْوَرى سَجِيَّةً وَّاغْفِرْلَنَا يَا ذَا الْعُلَى فِيْ هَذِهِ الْعَش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9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Bless Mu&lt;ammad and his family, the best of creation in characteristics, and forgive us this evening, O the Possessor of Sublim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09512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َا دَائِمَ الْفَضْلِ عَلَى الْبَرِيَّةِ يَا بَاسِطَ الْيَدَيْنِ بِالْعَطِيَّةِ يَاصَاحِبَ الْمَوَاهِبِ السَّن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8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673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</a:rPr>
              <a:t>O [He] who is continuously gracious over the creatures, O [He] whose hands (generosity) are ever expanded in giving, O the Master of granting majestical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17144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صَلِّ عَلَى مُحَمَّدٍٍ وَّالِهِ خَيْرِ الْوَرى سَجِيَّةً وَّاغْفِرْلَنَا يَا ذَا الْعُلَى فِيْ هَذِهِ الْعَش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8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l-Arial"/>
              </a:rPr>
              <a:t>Bless Mu&lt;ammad and his family, the best of creation in characteristics, and forgive us this evening, O the Possessor of Sublim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095120"/>
            <a:ext cx="82296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َا دَائِمَ الْفَضْلِ عَلَى الْبَرِيَّةِ يَا بَاسِطَ الْيَدَيْنِ بِالْعَطِيَّةِ يَاصَاحِبَ الْمَوَاهِبِ السَّنِيَّةِ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ay 7 times: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673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</a:rPr>
              <a:t>O [He] who is continuously gracious over the creatures, O [He] whose hands (generosity) are ever expanded in giving, O the Master of granting majestical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piled by Shia Ithna’sheri Community of Middlesex (Mahfil Ali).      http://www.sicm.org.u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4T06:15:52Z</dcterms:created>
  <dc:creator>Shia Ithna’sheri Community of Middlesex (Mahfil Ali)</dc:creator>
  <dc:description/>
  <dc:language>en-US</dc:language>
  <cp:lastModifiedBy>Kumail Versi</cp:lastModifiedBy>
  <dcterms:modified xsi:type="dcterms:W3CDTF">2007-10-05T23:15:38Z</dcterms:modified>
  <cp:revision>24</cp:revision>
  <dc:subject/>
  <dc:title>The night of Eid is amongst the holiest nights in the Islamic calendar. According to some hadith it is no less in importance than the night of Qadr. </dc:title>
</cp:coreProperties>
</file>